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png" ContentType="image/png"/>
  <Override PartName="/ppt/media/image9.pct" ContentType="image/x-pict"/>
  <Override PartName="/ppt/media/image16.png" ContentType="image/png"/>
  <Override PartName="/ppt/media/image15.png" ContentType="image/png"/>
  <Override PartName="/ppt/media/image7.pct" ContentType="image/x-pict"/>
  <Override PartName="/ppt/media/image2.png" ContentType="image/png"/>
  <Override PartName="/ppt/media/image14.pct" ContentType="image/x-pict"/>
  <Override PartName="/ppt/media/image3.png" ContentType="image/png"/>
  <Override PartName="/ppt/media/image4.png" ContentType="image/png"/>
  <Override PartName="/ppt/media/image5.png" ContentType="image/png"/>
  <Override PartName="/ppt/media/image8.pct" ContentType="image/x-pict"/>
  <Override PartName="/ppt/media/image10.png" ContentType="image/png"/>
  <Override PartName="/ppt/media/image6.pct" ContentType="image/x-pict"/>
  <Override PartName="/ppt/media/image12.pct" ContentType="image/x-pict"/>
  <Override PartName="/ppt/media/image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D57CFF-8D3E-4013-B65E-3C4FDFC7691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97A36C-49A5-4F62-8C74-047E3F7854B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8C565-2D2C-4E3C-ACAE-313141D81DB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7C610C-ED35-4729-AE90-87D349CD217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EB093-304F-40B7-8436-D06FE630D32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E9194-3FB9-4071-ACDD-DBC0C7DC705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D5DBEB-96FA-4D2F-98C6-C05235E74F7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009F9-84CB-4E2F-90C5-66A287804D1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686481-6B32-41F2-8CC9-31CF2FF11FF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EF267-A105-4598-8680-AFD75675F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87923-1D3C-4597-87BE-4584B43DEF3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54C02-230F-478F-B0C4-1F4A27F4A47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C58B5-90F8-4761-87F0-BD5436EF0BA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04A2E-4CFC-471E-9AE9-58C7EDFF7BD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B7A26-550C-4FE3-B889-EEDFFFF0DB1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BE390-D2D1-4257-863E-D7F1102C633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83FAA-69EE-4113-82DB-F5B0EB3E9BF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84935-B555-43E8-9A47-4E6AAB8CE5E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2D9BB-E764-47AB-8C98-77856278A73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094D3-76B2-4B40-9C80-3059ABE6F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E8CB6-33D9-4BDE-911D-46D2C283E51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BA0652-BD5F-4241-9730-C6191402991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494763-77D2-4D6D-84A8-7E9A4716CBA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1051A1-0383-4AE0-8F40-D7A6DDD485C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FEFB00-0046-4882-84A8-8A786D00E31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6F6225-9D0E-4900-AE79-CBA36A6A6DC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30C443-A93C-4B01-85E4-A3C0B146637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BB9ADF-ACED-4259-A4D5-B172BE71687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134F46-0BD3-45C1-B060-012FF95D36A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D6D168-A7EF-4516-A5F2-7F9B88220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FF15-5E68-4721-83BC-D2D7B790EE4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417E75-0A8E-4EDA-A5DA-38791E8AB60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EA806E-4942-41EB-B22A-513E194070C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88A693-396E-4F0E-A4D4-79E36B637A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1BD6-2230-47CA-BA23-EFEC761109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BB26E-D3C7-4E10-9A89-C38BB90114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F33B-9DF7-48C7-A48D-F60392D3DD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AA1BD-A25F-4C34-B13D-BAD6BF8699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D7B6-9FDD-4FA9-A912-499E383A98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05612-A335-4D9B-AACD-01BB9FE586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13F58-2254-4293-9705-1C357E4537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90FC-5D3D-4549-8451-A2E4DA0ED2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CB56-3350-46B4-851F-EC9EEACE6D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BD0A-D169-4382-B45E-C6CC1376CB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8118-E673-4C8F-A3EA-F6A9140E37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3F1F4-1535-4D50-B9DD-A78A802CC7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CF892-D2CE-49AD-AEEF-619DCEFCB5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8B580-EE3E-4C79-B41C-D00D7CAFF3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EF24C-D9CF-49EE-AAA1-05AF313082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99E36-716D-4FFF-9A2F-7F906740A0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4D7EB-B56B-439F-859B-48A1EEE688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A69C4-2F32-4B91-B7E8-FA7660C047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822FD-563D-4DBB-9897-46B6097885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21AF-80FA-4F68-8379-83967C9E02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A35A3-805A-445F-9C2D-D771791BA4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B7BD1-59B3-4844-A509-4159748BF2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BF81C-389D-4CBA-A367-F0AB1209ED1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02F3-2EF0-43B4-9956-147736DCD1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FDF0-6296-4953-8978-BF13EA4DB5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5429-1C32-4972-A78D-74D4CAE1E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CFF8-6E24-4231-87B5-7ED67B46E03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06CA-0E80-47FF-8024-3CCD3D36D7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5992-2ED1-4160-A461-45F90325085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269C-1F50-404C-B316-B9C71EDC76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769F-F716-4403-AB95-F5057CB110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F25-32DA-4117-892C-3E6A514A20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D5B1-E0A5-4BD2-89D5-D468FAC5AA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6675-4B33-45BD-831A-8C4C565ABED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8DD8-EE8E-429B-9C27-19E0FEEC86E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E0605-D616-4AA3-829F-0E4097B850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64717-15EE-4BEC-AE20-8D19BE01B8E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D6A0F-2CD2-40E0-B5BC-57F044A7BAF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8A50C-7B3A-43C6-97C2-E67AC14BDDE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47AA7-0890-4C60-BC30-D0D15857EDE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D7AF4-6807-4074-9F0C-EE73429C140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E2DC5-B9D3-4171-9D72-AADAA9A67B5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5779C-A799-4B3C-ABAB-054D513AFC5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EBDCF-2AF1-4172-9764-084B7AE02F4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0E68B-DC73-4B77-9DC9-5E280608B83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35C6F-975F-4510-874C-31F10FA1F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0FE66-69B9-4ED0-85E1-D76F420E90A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9935C-CF27-44AE-90C0-7A5EBCCCC86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45987-49B8-4BB5-B549-B42DED3A8BC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7D2AB-0553-4C12-93F3-4A7E05A18C9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67E19-2AF6-48BA-9849-4C72278D881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44F1B-A4F1-44F5-8A81-989307CDAC5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3A18A-568A-41DB-A0E7-3DF8FDE6841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A1DF5-E658-4BD4-8A43-D1C1A75ABC6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DABA9-E6D1-4944-B005-CE6BA189B49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A9243-0753-4D4C-9D08-2D63FAFAA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2FC11-FB29-4D30-94FA-87B055AECFC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3DF51-1121-4E68-8D82-96FB01A8D55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50D3B-84A8-4519-A1B9-A54F20C7BD3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9B63-0125-4182-8A48-A168814C1EA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E64A-152C-4C67-BF9F-1C89EA916C0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D262-D967-400F-B994-B62278E9D49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3531-D2CF-4247-9052-9F5B1D19DA8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4F77-FFCB-4B05-9CC6-9475C4E8188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6F79-9723-4B8E-A958-13B75AD186F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9C61-385D-4B57-9BCD-8141F1179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2F5D-EBAA-465F-9109-EF1B46ADA2D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ACA8-F105-49FD-9C3D-0CA7697476C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6012-4CD6-4D61-9676-7392D0CE68A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F7BE-016E-4A01-B795-59FB695A83C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0CC8-2EFD-4169-B6F8-AA7F3476D8C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72712B-C373-4C0D-984A-9E876D7A33A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A22D32-4D7C-4F59-B665-3F595295CB5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3E1F5B-F3E4-49A5-86CB-1D3D2D78638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7139B3-EB62-47B2-9CDF-9854C765610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64C62B-5E7C-408E-8669-DA1C00036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FAA8CA-1005-4DCE-A2E2-44DA9088AB5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DE38A1-2665-4BEE-BA1B-6DF540F2540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2EF14E-5C34-4008-AC80-845A6428042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CC4B85-94CC-490B-BB67-CC3550C64D2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C88925-5D41-4EC2-8938-0EBF979A3A9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ECE791-A94E-48D6-B563-DB16E5E96CF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A9968D-707C-4B2E-B3D5-13804A77467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3D2CE5-E585-482E-8EC4-571B2FF25AA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07457-25AF-46A7-8A49-377B35CD394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567906-2592-4628-9920-84FE720EF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5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9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04A8-AAB8-42C8-B6F3-769AACE4A5F3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5410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748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9916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238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10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0BD3-8C9B-4F17-8130-0AAF856D8E37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030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962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7852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604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8126-158A-432D-A556-2D7B085C4D69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2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64E9-D6F6-48FF-9923-115812D4C466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Num" idx="3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1290-FF0B-482E-8050-E11270E39E80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69480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83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61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388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Num" idx="4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B819-C694-4996-A6F9-8DBA6AC1099B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ldNum" idx="5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63B9-D4E3-41EB-B350-8C4765FB03E1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8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Num" idx="6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9012-B4C9-45D5-A546-C19CBF4DA249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7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8704-6157-4283-A2A1-83626D39F89C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8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1A3A-8449-4B5F-8736-9BEB393601BE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ndreas Zell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482400" y="1638360"/>
            <a:ext cx="12179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racking Problem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7404120" y="4876920"/>
            <a:ext cx="7620120" cy="76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What to repor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product releas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operating environmen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problem histor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Expected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and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experienced behavio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A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ne-lin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03488-DC16-4597-8830-EC0C782D34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oduct Releas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824760" indent="-5230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ypically, som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version number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o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4760" indent="-5230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therwise unique identifi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4760" indent="-5230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quired to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reproduce the exact version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73584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Perfect Publishing Program 1.1 (Build 7E47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4760" indent="-5230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Generalize: Does the problem occur only in this release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B9C93-DE24-4E3D-BC47-00A5ED0E832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Operating Environmen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ypically,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version informatio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about the operating syste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an be simple (”Windows 98 SE”) or complex (”Debian Linux ‘Sarge’ with the following packages…”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Generalize: In which environments does the problem occur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70500-E955-49F8-AF33-EEE28C62CC6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oblem History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33400" indent="-5284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eps needed to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reproduc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he problem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0560" indent="-586800">
              <a:lnSpc>
                <a:spcPct val="100000"/>
              </a:lnSpc>
              <a:spcBef>
                <a:spcPts val="2599"/>
              </a:spcBef>
              <a:buClr>
                <a:srgbClr val="6666ff"/>
              </a:buClr>
              <a:buSzPct val="171000"/>
              <a:buFont typeface="Gill Sans"/>
              <a:buAutoNum type="arabicPeriod"/>
              <a:tabLst>
                <a:tab algn="l" pos="1515960"/>
                <a:tab algn="l" pos="182880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Create “bug.ppp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0560" indent="-586800">
              <a:lnSpc>
                <a:spcPct val="100000"/>
              </a:lnSpc>
              <a:spcBef>
                <a:spcPts val="2599"/>
              </a:spcBef>
              <a:buClr>
                <a:srgbClr val="6666ff"/>
              </a:buClr>
              <a:buSzPct val="171000"/>
              <a:buFont typeface="Gill Sans"/>
              <a:buAutoNum type="arabicPeriod"/>
              <a:tabLst>
                <a:tab algn="l" pos="1515960"/>
                <a:tab algn="l" pos="182880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Print on the default printer…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3400" indent="-5284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f the problem cannot be reproduced, it is unlikely to be fix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3400" indent="-5284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mplify: Which steps are relevan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DE22-0F99-4D60-929D-ACC1E3FAC79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Expected Behavior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at should have happened according to the user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7747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The program should have printed the documen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ality check: What’s the understanding of the user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15AA-2349-465E-B257-428AEFEA0B0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Observed Behavior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ymptom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of the problem — in contrast to 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expected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behavio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7747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The program crashed with the following inform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74720" indent="0">
              <a:lnSpc>
                <a:spcPct val="100000"/>
              </a:lnSpc>
              <a:buNone/>
              <a:tabLst>
                <a:tab algn="l" pos="0"/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74720" indent="0">
              <a:lnSpc>
                <a:spcPct val="100000"/>
              </a:lnSpc>
              <a:buNone/>
              <a:tabLst>
                <a:tab algn="l" pos="0"/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*** STACK DUMP OF CRASH (LemonyO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74720" indent="0">
              <a:lnSpc>
                <a:spcPct val="100000"/>
              </a:lnSpc>
              <a:buNone/>
              <a:tabLst>
                <a:tab algn="l" pos="0"/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74720" indent="0">
              <a:lnSpc>
                <a:spcPct val="100000"/>
              </a:lnSpc>
              <a:buNone/>
              <a:tabLst>
                <a:tab algn="l" pos="0"/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Back chain  ISA  Call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74720" indent="0">
              <a:lnSpc>
                <a:spcPct val="100000"/>
              </a:lnSpc>
              <a:buNone/>
              <a:tabLst>
                <a:tab algn="l" pos="0"/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00000000    SPC  0BA8E574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74720" indent="0">
              <a:lnSpc>
                <a:spcPct val="100000"/>
              </a:lnSpc>
              <a:buNone/>
              <a:tabLst>
                <a:tab algn="l" pos="0"/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03EADF80    SPC  0B742428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74720" indent="0">
              <a:lnSpc>
                <a:spcPct val="100000"/>
              </a:lnSpc>
              <a:buNone/>
              <a:tabLst>
                <a:tab algn="l" pos="0"/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03EADF30    SPC  0B50FDDC  PrintThePage+072FC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74720" indent="0">
              <a:lnSpc>
                <a:spcPct val="100000"/>
              </a:lnSpc>
              <a:buNone/>
              <a:tabLst>
                <a:tab algn="l" pos="0"/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SnicketPC unmapped memory exception 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74720" indent="0">
              <a:lnSpc>
                <a:spcPct val="100000"/>
              </a:lnSpc>
              <a:buNone/>
              <a:tabLst>
                <a:tab algn="l" pos="0"/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0B512BD0 PrintThePage+05F50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CBDC-DF23-424C-9861-0C2D8878D96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 one-line summary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aptures the essential of the proble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7747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PPP 1.1 crashes when print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5608-15AD-410D-8E09-A3A480A6B32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ings to avoid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763920" indent="-48456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umo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68148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PPP (oops, gotta go to the restroom :-) …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63920" indent="-4845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arcas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68148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Here’s yet another “never-to-be-fixed” bu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63920" indent="-4845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ttack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68148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If you weren’t too incompetent to grasp…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AA3E-585D-4364-B65E-CE51490A4F8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139680" y="698400"/>
            <a:ext cx="12728520" cy="88902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alk back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0871B-EABD-4930-B8ED-89B2032DEA5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alk Back + Privacy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e sure what to collect and include in an automated report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ages visit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ext enter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mages viewed…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Privacy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s an important issue here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7EFF-887F-42DC-B471-8636AE40AA1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What’s a problem?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46348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problem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s a questionable property of a program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t becomes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ailur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f it’s incorrect…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…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reques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or enhancemen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f missing…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…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d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eatur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f normal behavior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"/>
          <p:cNvSpPr/>
          <p:nvPr/>
        </p:nvSpPr>
        <p:spPr>
          <a:xfrm>
            <a:off x="3261240" y="7810560"/>
            <a:ext cx="6442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It’s not a bug, it’s a feature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45ED-EFBF-4A79-A4AC-033BAB47042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ll these Problem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75" name=""/>
          <p:cNvSpPr/>
          <p:nvPr/>
        </p:nvSpPr>
        <p:spPr>
          <a:xfrm>
            <a:off x="1371600" y="2362320"/>
            <a:ext cx="1026144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2870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Monaco"/>
                <a:ea typeface="Monaco"/>
              </a:rPr>
              <a:t>001 It's too big and too slow.  [This one will never get fixed]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2870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Monaco"/>
                <a:ea typeface="Monaco"/>
              </a:rPr>
              <a:t>003 (Motif 1.1) The command window is scrolled whenever obscured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2870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Monaco"/>
                <a:ea typeface="Monaco"/>
              </a:rPr>
              <a:t>021 (DBX) Using SunOS DBX, attempting to dereference a `(nil)' pointer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2870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Monaco"/>
                <a:ea typeface="Monaco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Monaco"/>
                <a:ea typeface="Monaco"/>
              </a:rPr>
              <a:t>results in an error message and no new display.  However, th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2870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Monaco"/>
                <a:ea typeface="Monaco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Monaco"/>
                <a:ea typeface="Monaco"/>
              </a:rPr>
              <a:t>expression is entered as an ordinary display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2870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Monaco"/>
                <a:ea typeface="Monaco"/>
              </a:rPr>
              <a:t>026 (DBX) Using SunOS DBX with PASCAL or Modula-2, selected array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2870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Monaco"/>
                <a:ea typeface="Monaco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Monaco"/>
                <a:ea typeface="Monaco"/>
              </a:rPr>
              <a:t>elements are not counted from the starting index of the array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2870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Monaco"/>
                <a:ea typeface="Monaco"/>
              </a:rPr>
              <a:t>041 Starting a multi-window DDD iconified under vtwm and fvwm caus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2870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Monaco"/>
                <a:ea typeface="Monaco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Monaco"/>
                <a:ea typeface="Monaco"/>
              </a:rPr>
              <a:t>trouble with group iconification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2870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Monaco"/>
                <a:ea typeface="Monaco"/>
              </a:rPr>
              <a:t>272 (LessTif) The `select' font selection method works only once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2870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Monaco"/>
                <a:ea typeface="Monaco"/>
              </a:rPr>
              <a:t>281 In auto deiconify mode, the Debugger Console uniconifies even if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2870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Monaco"/>
                <a:ea typeface="Monaco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Monaco"/>
                <a:ea typeface="Monaco"/>
              </a:rPr>
              <a:t>other DDD windows are already there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2870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Monaco"/>
                <a:ea typeface="Monaco"/>
              </a:rPr>
              <a:t>286 (Motif) Changing Cut/Copy/Paste accelerators at runtime does not work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021B3-F85A-4028-9E7B-44F4151E65E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anaging Problem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33400" indent="-5284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ternative #1: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A Problem Fi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72240" indent="-5284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nly one person at a time can work on i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72240" indent="-5284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istory of earlier (fixed) problems is los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72240" indent="-5284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oes not sca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3400" indent="-5284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ternative #2: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A Problem Databas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BDD0-D3E8-4D7B-B63D-8326B5BE2FB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254160" y="635040"/>
            <a:ext cx="12484080" cy="145587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Bugzilla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CCEE8-A9CF-46E9-8039-8CFB4CCE77E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assifying Problem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rit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iorit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dentifi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mme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otific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6108840" y="3454560"/>
            <a:ext cx="4865400" cy="433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F4F3-D0B9-411C-861C-00141D56403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verity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69720" y="2437920"/>
            <a:ext cx="10464840" cy="636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301320" indent="0">
              <a:lnSpc>
                <a:spcPct val="100000"/>
              </a:lnSpc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8000"/>
                </a:solidFill>
                <a:latin typeface="Gill Sans"/>
              </a:rPr>
              <a:t>Enhancemen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.  A desired feature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013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ff00"/>
                </a:solidFill>
                <a:latin typeface="Gill Sans"/>
              </a:rPr>
              <a:t>Trivial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.  Cosmetic problem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013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Gill Sans"/>
              </a:rPr>
              <a:t>Minor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.  Problem with easy workaround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013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66"/>
                </a:solidFill>
                <a:latin typeface="Gill Sans"/>
              </a:rPr>
              <a:t>Normal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.  “Standard” problem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013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8000"/>
                </a:solidFill>
                <a:latin typeface="Gill Sans"/>
              </a:rPr>
              <a:t>Major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.  Major loss of function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013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ill Sans"/>
              </a:rPr>
              <a:t>Critical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.  Crashes, loss of data or memor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013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80"/>
                </a:solidFill>
                <a:latin typeface="Gill Sans"/>
              </a:rPr>
              <a:t>Showstopper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.  Blocks developmen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BC74-00E7-452E-B843-003B6F88156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iority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very new problem gets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priorit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higher the priority, the sooner the problem will be address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iority is independent from severit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ioritizing problems is the main tool to control development and problem solv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94B83-78D8-41F8-808F-1F8DB1A48A7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dentity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very new problem gets an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identifi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(also known a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PR number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or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bug number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identifier is used in all documents during the debugging proces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7747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5112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Monaco"/>
                <a:ea typeface="Monaco"/>
              </a:rPr>
              <a:t>Subject: PR #3427 is fixed?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1DB0-4B3C-45B4-9E7E-2DD99E1EEB7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mmen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very developer can attach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comment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o a problem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0">
              <a:lnSpc>
                <a:spcPct val="100000"/>
              </a:lnSpc>
              <a:buNone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6666ff"/>
              </a:buClr>
              <a:buSzPct val="171000"/>
              <a:buFont typeface="Monaco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I have a patch for this.  It's just an unititialized variable but I still need a review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mments may also include files, documents, etc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4CC4D-790A-4653-9A36-56B6887EC05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Notifica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velopers can attach an e-mail address to a problem report; they will be notified every time the report change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sers can do so, too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07DB4-2802-4133-9DE9-DDDAA8B237A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75880" y="253800"/>
            <a:ext cx="112395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e Problem Lifecycl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216000" y="2692440"/>
            <a:ext cx="12565080" cy="488484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69720" y="7213680"/>
            <a:ext cx="10464840" cy="193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84B65-0FED-45B3-B487-42A4C50F72C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oblem Life Cycl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2768400"/>
            <a:ext cx="1211580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859320" indent="-54504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user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inform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he vendor about some problem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59320" indent="-5450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vendo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71960" indent="-6051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1596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reproduce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he proble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71960" indent="-6051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1596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isolate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he circumstanc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71960" indent="-6051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locate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and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ixes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defec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71960" indent="-6051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deliver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he fix to the user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7924680" y="4051440"/>
            <a:ext cx="3807000" cy="466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FBA2-4C3E-4BFC-9C67-C61813D29C3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38160" y="4876920"/>
            <a:ext cx="1854000" cy="121896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75880" y="253800"/>
            <a:ext cx="112395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Unconfirmed Problem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216000" y="2692440"/>
            <a:ext cx="12565080" cy="488484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7213680"/>
            <a:ext cx="10464840" cy="193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problem report has just been entered into the databas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81AA-8F9A-409D-AC71-13DF5098D20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1803240" y="4876920"/>
            <a:ext cx="1854360" cy="121896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75880" y="253800"/>
            <a:ext cx="112395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New Problem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216000" y="2692440"/>
            <a:ext cx="12565080" cy="488484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7213680"/>
            <a:ext cx="10464840" cy="193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report i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valid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and not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duplicate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(If not, it become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resolved.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532B-8521-4CE6-A156-4B0609E511A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3492360" y="4876920"/>
            <a:ext cx="1854360" cy="121896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75880" y="253800"/>
            <a:ext cx="112395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ssigned Problem 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216000" y="2692440"/>
            <a:ext cx="12565080" cy="48848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7213680"/>
            <a:ext cx="10464840" cy="193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problem is assigned to a develop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BDCFB-CFFE-4A23-8436-AD322D4EA06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esolu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789840" indent="-50112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FIXED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: The problem is fixed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984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INVALID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: The problem is not a problem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984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DUPLICAT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: The problem already exist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984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WONTFIX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:  Will never be fixed (for instance, because the problem is a feature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984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WORKSFORM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: Could not be reproduced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3D3F8-A3C4-411C-84E8-486C5229B8E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7365960" y="4876920"/>
            <a:ext cx="1854360" cy="121896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75880" y="253800"/>
            <a:ext cx="112395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esolved Problem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216000" y="2692440"/>
            <a:ext cx="12565080" cy="488484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69720" y="7213680"/>
            <a:ext cx="10464840" cy="193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problem report has been processed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4BA5F-2D7F-4BEF-9764-8A130AEBDE5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9232920" y="4876920"/>
            <a:ext cx="1854360" cy="121896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75880" y="253800"/>
            <a:ext cx="112395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Verified Problem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216000" y="2692440"/>
            <a:ext cx="12565080" cy="488484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69720" y="7213680"/>
            <a:ext cx="10464840" cy="193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problem is fixed; the fix has been successful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A6465-D882-40A9-9249-D538F617116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11087280" y="4902120"/>
            <a:ext cx="1854000" cy="121932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75880" y="253800"/>
            <a:ext cx="112395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osed Problem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216000" y="2692440"/>
            <a:ext cx="12565080" cy="488484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269720" y="7213680"/>
            <a:ext cx="10464840" cy="193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new version with the fix has been released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38C8-2FCB-4CAC-9BAD-E46B656FE99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429000" y="6170760"/>
            <a:ext cx="1854360" cy="122076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75880" y="253800"/>
            <a:ext cx="112395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eopened Problem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216000" y="2692440"/>
            <a:ext cx="12565080" cy="488484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269720" y="7213680"/>
            <a:ext cx="10464840" cy="193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ops – there we go again :–(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6ECA-F604-429A-8982-CAE3BB4FE47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anagemen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o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enter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problem reports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o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classifie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problem reports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o set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prioritie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o takes care of the problem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o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close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ssues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85891-35CA-4F67-8D74-7FDCFD3F232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e SCCB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269720" y="20570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t many organizations,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oftware change control board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s in charge of these question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ssess 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impac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of a proble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ssign tasks to develope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ose issues…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6819840" y="5194440"/>
            <a:ext cx="5740560" cy="381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56AC-E4C5-4B1A-A7F9-ED65374A208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Vendor Challeng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w do I organize the life cycle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ich problems are currently open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ich are the most severe problems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id similar problems occur in the pas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1E561-D7C1-445E-9377-15390A7F93F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oblem-driven Developmen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whole development can be organized around the problem database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art with one single problem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product isn’t there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compose into sub-problem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hip when all problems are fix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45D6-8DB7-4474-9139-9232DC9C41B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anaging Clutter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98840" indent="-50652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arge problem databases contain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garbag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98840" indent="-5065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Get rid of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duplicate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b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19320" indent="-5065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mplifying bug repor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19320" indent="-5065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sking submitters to search firs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98840" indent="-5065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Get rid of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obsolet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problems by searching for old ones that rarely occurr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3BBC-20F6-4620-9C6C-B56F25E7610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oblems and Fix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1701720" y="2489040"/>
            <a:ext cx="13893840" cy="698508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7480440" y="2082960"/>
            <a:ext cx="5456520" cy="2570760"/>
            <a:chOff x="7480440" y="2082960"/>
            <a:chExt cx="5456520" cy="2570760"/>
          </a:xfrm>
        </p:grpSpPr>
        <p:sp>
          <p:nvSpPr>
            <p:cNvPr id="538" name=""/>
            <p:cNvSpPr/>
            <p:nvPr/>
          </p:nvSpPr>
          <p:spPr>
            <a:xfrm>
              <a:off x="7480440" y="2082960"/>
              <a:ext cx="2044800" cy="1523880"/>
            </a:xfrm>
            <a:prstGeom prst="pie">
              <a:avLst/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886960" y="3556080"/>
              <a:ext cx="4050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66ff"/>
                  </a:solidFill>
                  <a:latin typeface="Gill Sans"/>
                  <a:ea typeface="Gill Sans"/>
                </a:rPr>
                <a:t>Use tag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66ff"/>
                  </a:solidFill>
                  <a:latin typeface="Gill Sans"/>
                  <a:ea typeface="Gill Sans"/>
                </a:rPr>
                <a:t>in problem reports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915400" y="3022920"/>
              <a:ext cx="876600" cy="709560"/>
            </a:xfrm>
            <a:prstGeom prst="line">
              <a:avLst/>
            </a:prstGeom>
            <a:ln w="25560">
              <a:solidFill>
                <a:srgbClr val="cc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0C544-8A6C-4728-B814-4A7951926D4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oblems and Tes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ome test fails.  Should we enter the problem into the database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No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, because test cases make problem reports obsolete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nce we can repeat a problem at will, there is no need for a database entr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CFF47-A7CE-4335-9F2B-B58E906E3BCD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68600" indent="-48600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ports about problems encountered in the field are stored in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problem databas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68600" indent="-48600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problem report must contain everything relevant to reproduce the problem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68600" indent="-48600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4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t is helpful to set up a standard set of items that users must provide (product release, operating environment…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5230E-0812-4071-BE7D-9854FD663BB9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 (2)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4612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 effective problem report…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well-structur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reproducib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as a descriptiv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one-line summar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SzPct val="175824"/>
              <a:buBlip>
                <a:blip r:embed="rId3"/>
              </a:buBlip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s a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impl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and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general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as possib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neutral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and stays with the fact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69F0E-A3CC-4AC0-8CCB-4871A2D2ACD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 (3)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37720" indent="-52956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typical problem life cycle starts with an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unconfirmed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statu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7720" indent="-52956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t ends with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closed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status and a specific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resolutio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(such a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ixed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r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worksform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7720" indent="-52956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4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ypically,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oftware change control board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organizes priorities and assignme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1D318-1662-4E32-8095-34EFB129C94D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 (4)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618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4612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s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version control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o separate fixes and features during developmen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stablish conventions to relat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change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o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problem report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and vice versa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4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ake a problem report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obsolet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as soon as a test case exist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6A1D-F184-41FE-93D3-31C5D4120418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1816200" y="7772400"/>
            <a:ext cx="10020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This work is licensed under the Creative Commons Attribution License.  To view a copy of this license, visi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http://creativecommons.org/licenses/by/1.0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or send a letter to Creative Commons, 559 Abbott Way, Stanford, California 94305, USA.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3BB4-ADD1-48D9-B478-6D81148EA12F}" type="slidenum">
              <a:t>48</a:t>
            </a:fld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User Challeng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50680" y="58669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 algn="ctr">
              <a:lnSpc>
                <a:spcPct val="100000"/>
              </a:lnSpc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olve my problem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3670200" y="2286000"/>
            <a:ext cx="5653080" cy="607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33CD-C5D3-4073-8BE1-5C81E4E0727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oblem Repor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problem comes to life with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problem repor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problem report includes all the information the vendor needs to fix the problem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so known a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change reques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or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bug repor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B40DA-5CD0-4F84-8009-5CCE047E234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oblem report #1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45" name=""/>
          <p:cNvSpPr/>
          <p:nvPr/>
        </p:nvSpPr>
        <p:spPr>
          <a:xfrm>
            <a:off x="1689120" y="3720960"/>
            <a:ext cx="962676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65196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From: me@dot.co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65196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To: zeller@gnu.or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65196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Subject: Crash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65196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65196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Your program crashed.  (core dumped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027AA-602A-4D41-A1E8-74D9393CDF3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oblem report #2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47" name=""/>
          <p:cNvSpPr/>
          <p:nvPr/>
        </p:nvSpPr>
        <p:spPr>
          <a:xfrm>
            <a:off x="2235240" y="2832120"/>
            <a:ext cx="962640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65196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From: me@dot.co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65196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To: zeller@gnu.or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65196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Subject: Re: Crash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65196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65196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Sorry, here’s the core - cu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2222640" y="6845400"/>
            <a:ext cx="1079280" cy="10792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251160" y="6972480"/>
            <a:ext cx="3431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&lt;core, 14MB&gt;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E4689-882E-4665-BD65-A910446F265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oblem report #3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51" name=""/>
          <p:cNvSpPr/>
          <p:nvPr/>
        </p:nvSpPr>
        <p:spPr>
          <a:xfrm>
            <a:off x="1789200" y="2984400"/>
            <a:ext cx="9057960" cy="32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From: me@dot.co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To: zeller@gnu.or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Subject: Re: Crash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You may need that, too (just in case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1689120" y="6985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2845440" y="7137360"/>
            <a:ext cx="5150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&lt;drive_c.zip, 148GB&gt;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DBAA6-4443-4911-9BD9-4B7DA01ED11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