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move the slid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Ko and Myers (2004) from CMU (Human-Computer Interaction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Ko and Myers (2004) from CMU (Human-Computer Interaction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Ko and Myers (2004) from CMU (Human-Computer Interaction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[switch back and forth between last slide and this slide]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DC by Bil Lewi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[Give an interactive demo, using the ODC pre-canned demo download]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mmercially available in RETROVUE and CODEGUID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Just a reminder..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4FE47-9810-440F-B5D6-BA85DC8DE8E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E6E56D-FE51-4D5D-BF68-5948721D26A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F86D71-5981-4B94-B101-D88D43B2D56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E457BA-9C1F-4314-9948-79D8C2B869E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23C145-B15F-476D-89E6-AB6B075F54B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64A10A-FD8D-409D-9C68-CC61EDA9E82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FE7AB9-BE11-45B9-A8ED-EBAA0878C32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AFA00B-90DB-4DBB-AE89-EEAA0FED573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2F7A40-2A0C-4640-A8B2-77035AA61B2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8EB64-9195-49E9-BFA7-18F15D38D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55822-F83C-4CCE-B43B-3A0F6DB328C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4C12D-4502-4AA6-9C1E-66A4BC4DA3C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01B91-5635-480B-9556-C77BF92BD4D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4ABC2-55EE-4EA7-939E-261C690D9D6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79B7B-89AA-4C71-BEA2-A49E930EAF0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7F8E7-4F99-40C3-9639-0173D15EB64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BCEA9-593C-43C2-A847-14AD12AD19A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A3E98-E09A-4191-A903-87768D99C52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B5BD8-BC4A-40C1-AF80-760C18B3BE5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96627-1CC5-42F7-898F-D3C62140B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BFD2A-2D72-42B8-A470-24297721021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723BBE-ABFC-4DD8-A37F-F27F19FC6D5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E87A82-B092-410E-B826-E81F1E1E35D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AABFF7-2A8F-4CFE-A0FC-88A8DE9C4A7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6DDD80-61D0-4793-BDEA-841D3323A33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72224F-9B94-4A55-B466-2749CCE0C0D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B7E79E-4418-4D41-9A29-9A078B95F28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CF38E9-B76E-458C-9C55-8F2F4648670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E3BCA2-6CC0-43B5-AD38-BAF49868BB8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44EB9A-5F27-4312-AE15-CBEFE1558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99148-A3A1-412E-9514-5C423735766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B97012-4302-4A13-A59D-5E24FCD8BA6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0F8ABA-D084-4743-B0E7-AFA15399B8C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6659B8-309B-4D5D-8FD8-F0C331F36F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6D96-C256-487F-948E-6E86234D95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42A25-2C0D-4086-9F05-C1E111446F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3924-75CF-40E8-B97F-BE73F39DF8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961B6-F1F9-47CB-8332-AA60BD36CC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9284F-20BB-4F5F-9AE7-8C490DC422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90649-C8AE-467D-96CF-E2A6F38910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9E8F8-0988-4244-BAD6-2743D3A797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D9AE5-323B-43F1-822F-4B0BF78281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7535-6CF5-478D-B503-50A6374BC6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F08C-E4B7-438C-960D-58A92FEF1E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5BFEE-FF02-44AC-BF3C-0D80BAA62D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4BD63-3A95-46A8-AD53-CFE7EB8843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3CAD5-F279-456C-9CCF-440940A197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B4395-F364-4A52-8854-57B2C5C9E0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68E59-3494-449B-9AAE-A9C2657684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CA77D-BC4A-4650-A5AA-BFDD83B3EC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10449-D525-4396-8B18-E159568BAF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0DE66-B105-4673-BBF5-7408C5E8A4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CE493-F908-4286-A215-1ADB8C7D3F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67442-05C0-43F3-848F-89008ED6CC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421F3-EDAF-4E0A-8D40-4A983AE991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A5E93-3A09-40C4-AB9E-6042E92BB2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85237-BEAD-4986-85F9-E4E670C278B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71AA-21FF-4234-AA79-24F955A8F08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AFD7-A351-42B9-986E-092BF23B093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701D-8006-442E-98B6-6824E90DBB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1753-5697-49BA-A714-A2ECE00C0A4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C3AB-F8E3-46C0-AE31-9C11345F36A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4F70-D95A-4AB8-8DA7-0AFA80E8B9D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9B3A-2DFD-416C-B7B2-2F8AF1EB834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881E-E480-4FF3-A43F-C404069236D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FE4C-A890-40F2-9A46-B4B5E7CA992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55E0-3357-490A-811D-13155C43F27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D495-14F9-4E92-9FD0-2FD7CBA4CF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17EB-4764-49C9-8E20-EE3BBCBE95E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FC85F-2055-47B7-BAD3-D3BF36E16E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1D601-7768-4857-9CA5-20FFC4AA712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21996-E727-445A-A1B4-A033A61B1B2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4677E-F235-4A27-9EB2-8846C83E19C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5ADB4-57AC-4EA2-9DD4-8C8E4526E4B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BDECA-65E1-473D-A5A5-725055B1F77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4D3F5-69B7-4CDA-963B-992F246C11F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ABB84-D654-4D9C-942B-7EA7AB5C57B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0237E-180D-44B5-8095-B43979BA784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D5937-FF89-463E-8991-C9688D16544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DD4EE-2786-45E5-83A9-D4D906BD0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CBADD-315F-409F-829E-0DA05B14CA6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913F3-0667-4A18-94BD-42985FB9EE8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FAC73-2380-4D9D-9C9C-8F120320DE9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D627D-0ADD-4F90-8CBD-11690A05E37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8DB72-78E7-4E39-BD2F-062E02E9D89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0773F-7754-4413-9F4B-3F927C970D4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CB9A1-AD54-4EBE-84DA-4AAD23BD1D2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C7807-DA62-41C7-A09E-2E14F5F8DE7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8B6A4-4209-43E5-B3F4-7A67A9D31AC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C1E9F-A9AF-425F-8A5D-D1F48BA31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455D8-9ED7-46E1-849B-5EDC399619B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15757-4447-42DF-9012-60118A5A8B7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C5E86-3EA5-4E0F-AED0-9A3F98D48F0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48C1-ADFB-4097-BB09-7869F837139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4322-B199-49E4-8352-A0E6EEEE652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A697-7EBA-4F94-A45F-CF0A5C77699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F300-F7D8-4D47-831E-17E18B9EE89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C81E-0402-4B1E-A238-2CCD8EAF5E8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1A92-9A1A-4014-962C-627C264CF34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AD13-1857-4AC4-AA59-995ED000D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056F-41FD-4D9E-9406-A388192568C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BA8B-4B10-43E8-A170-6A3EBEA550C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C0FD-9336-43A8-BE61-99D5754AE24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282F-ADA8-4C24-A7C5-09F7A6390AB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72C7-1EA8-46BB-B882-1DAEB79B73E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223598-578B-4ACA-9C77-AA6495235E2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927DF4-14C4-4F1C-873D-5E4BB0F3C56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A11C68-0C68-45FC-B727-3A4B23AF35B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627484-3FF8-4F2B-BAFC-6FB2E9260FC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32F01D-E03A-4C5A-B5CB-8C226AA7A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6047D5-9026-493A-BFFE-19EEDE229F3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3D6B2F-5CC1-4200-9B13-102F1B932BF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163F68-70A2-42D9-AE0D-558EB3399EA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42841D-35A9-46B8-939E-D80EFE9C390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BAB406-F761-4DE8-A0C7-833A9815D37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6A0321-EA6E-4D33-A083-937DFD8B864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C4C634-B959-4BE4-8E3A-B5A37AFF63B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1A7B36-6815-49BD-8C02-2FF8F559875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1134B6-E0C6-43AD-9781-0A3D662FB9D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E78BB7-D799-4A39-A0BA-B2B9B47A89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5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ldNum" idx="9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0DCD-DF8F-4F6F-9CD2-643DC4B70348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3000"/>
          </a:bodyPr>
          <a:p>
            <a:pPr marL="5410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748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9916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238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0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A2AE-A549-4618-AE55-DA6E478E118E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7030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962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7852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604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DC38-03B7-4F1F-BBF1-DC3058924D9F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Num" idx="2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CD50-54AD-48CC-BA3C-ADB167612F1B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3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EAFF-3762-4920-AF06-580B4EAD15CD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Num" idx="4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4573-B737-4B51-B42B-ED3D49FAD599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69480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83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61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388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ldNum" idx="5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9E79-141A-4580-B0F5-F19E8B96CC1F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8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ldNum" idx="6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CF25-1F1A-4D73-BAB1-767B19A4D6CA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7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338F-ED9B-44BA-ADFE-9B246B8003CB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8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ADE5-2908-494E-8C83-DD09EC060F48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9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1193400" y="394956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ndreas Zell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406080" y="558720"/>
            <a:ext cx="12179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racking Origi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2095560" y="5859360"/>
            <a:ext cx="8813880" cy="31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"/>
          <p:cNvGraphicFramePr/>
          <p:nvPr/>
        </p:nvGraphicFramePr>
        <p:xfrm>
          <a:off x="406440" y="139680"/>
          <a:ext cx="12509640" cy="9142200"/>
        </p:xfrm>
        <a:graphic>
          <a:graphicData uri="http://schemas.openxmlformats.org/drawingml/2006/table">
            <a:tbl>
              <a:tblPr/>
              <a:tblGrid>
                <a:gridCol w="4572000"/>
                <a:gridCol w="1270080"/>
                <a:gridCol w="1663560"/>
                <a:gridCol w="5004000"/>
              </a:tblGrid>
              <a:tr h="65880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Gill Sans"/>
                          <a:ea typeface="ヒラギノ角ゴ ProN W3"/>
                        </a:rPr>
                        <a:t>T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Gill Sans"/>
                          <a:ea typeface="ヒラギノ角ゴ ProN W3"/>
                        </a:rPr>
                        <a:t>Wri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Gill Sans"/>
                          <a:ea typeface="ヒラギノ角ゴ ProN W3"/>
                        </a:rPr>
                        <a:t>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Gill Sans"/>
                          <a:ea typeface="ヒラギノ角ゴ ProN W3"/>
                        </a:rPr>
                        <a:t>Dynamic Sl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8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3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2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a, 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2,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24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8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p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i, 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6,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p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b, p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4, 2, 3, 8, 6,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8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p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a, p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5, 2, 9, 4, 2, 3, 8, 6,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s, x, p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7, 3, 8, 6,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i, p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8, 6,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p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i, 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13, 8, 6,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p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b, p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4, 2, 3, 13, 8, 6,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p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a, p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5, 2, 9, 4, 2, 3, 13, 8, 6, 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8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s, x, p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12, 7, 3, 6, 8, 1, 1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i, p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13, 8, 6,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p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i, 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13, 8, 6,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24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o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12, 7, 3, 6, 8, 1, 1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"/>
          <p:cNvSpPr/>
          <p:nvPr/>
        </p:nvSpPr>
        <p:spPr>
          <a:xfrm>
            <a:off x="1477440" y="762120"/>
            <a:ext cx="2513880" cy="75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1 n = read()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2 a = read()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3 x = 1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4 b = a + x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5 a = a + 1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6 i = 1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7 s = 0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8 while (i &lt;= n) {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9     if (b &gt; 0)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10         if (a &gt; 1)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12     s = s + x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13     i = i + 1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8 while (i &lt;= n) {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9     if (b &gt; 0)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10         if (a &gt; 1)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12     s = s + x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13     i = i + 1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8 while (i &lt;= n) {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15 write(s)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6218280" y="1244520"/>
            <a:ext cx="6654600" cy="73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E0235-ABD7-4EB3-A9ED-15EF745707E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2" name=""/>
          <p:cNvGraphicFramePr/>
          <p:nvPr/>
        </p:nvGraphicFramePr>
        <p:xfrm>
          <a:off x="406440" y="139680"/>
          <a:ext cx="12509640" cy="9142200"/>
        </p:xfrm>
        <a:graphic>
          <a:graphicData uri="http://schemas.openxmlformats.org/drawingml/2006/table">
            <a:tbl>
              <a:tblPr/>
              <a:tblGrid>
                <a:gridCol w="4572000"/>
                <a:gridCol w="1270080"/>
                <a:gridCol w="1663560"/>
                <a:gridCol w="5004000"/>
              </a:tblGrid>
              <a:tr h="65880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Gill Sans"/>
                          <a:ea typeface="ヒラギノ角ゴ ProN W3"/>
                        </a:rPr>
                        <a:t>T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Gill Sans"/>
                          <a:ea typeface="ヒラギノ角ゴ ProN W3"/>
                        </a:rPr>
                        <a:t>Wri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Gill Sans"/>
                          <a:ea typeface="ヒラギノ角ゴ ProN W3"/>
                        </a:rPr>
                        <a:t>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Gill Sans"/>
                          <a:ea typeface="ヒラギノ角ゴ ProN W3"/>
                        </a:rPr>
                        <a:t>Dynamic Sl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8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a, 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2,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24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8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p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i, 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6,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p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b, p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4, 2, 3, 8, 6,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8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p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a, p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5, 2, 9, 4, 2, 3, 8, 6,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s, x, p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7, 3, 8, 6,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i, p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8, 6,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p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i, 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13, 8, 6,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p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b, p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4, 2, 3, 13, 8, 6,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p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a, p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5, 2, 9, 4, 2, 3, 13, 8, 6, 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8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s, x, p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12, 7, 3, 6, 8, 1, 8, 1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i, p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13, 8, 6,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p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i, 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13, 8, 6,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24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o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12, 7, 3, 6, 8, 1, 1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3" name=""/>
          <p:cNvSpPr/>
          <p:nvPr/>
        </p:nvSpPr>
        <p:spPr>
          <a:xfrm>
            <a:off x="1477440" y="762120"/>
            <a:ext cx="2513880" cy="75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1 n = read()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2 a = read()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3 x = 1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4 b = a + x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5 a = a + 1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6 i = 1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7 s = 0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8 while (i &lt;= n) {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9     if (b &gt; 0)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10         if (a &gt; 1)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12     s = s + x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13     i = i + 1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8 while (i &lt;= n) {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9     if (b &gt; 0)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10         if (a &gt; 1)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12     s = s + x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13     i = i + 1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8 while (i &lt;= n) {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15 write(s)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"/>
          <p:cNvSpPr/>
          <p:nvPr/>
        </p:nvSpPr>
        <p:spPr>
          <a:xfrm>
            <a:off x="4040280" y="7704000"/>
            <a:ext cx="1495440" cy="122400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"/>
          <p:cNvSpPr/>
          <p:nvPr/>
        </p:nvSpPr>
        <p:spPr>
          <a:xfrm>
            <a:off x="2405160" y="3664080"/>
            <a:ext cx="3100320" cy="52243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"/>
          <p:cNvSpPr/>
          <p:nvPr/>
        </p:nvSpPr>
        <p:spPr>
          <a:xfrm>
            <a:off x="2554200" y="1878120"/>
            <a:ext cx="3078360" cy="713736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"/>
          <p:cNvSpPr/>
          <p:nvPr/>
        </p:nvSpPr>
        <p:spPr>
          <a:xfrm>
            <a:off x="2386080" y="3213000"/>
            <a:ext cx="3138480" cy="567540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"/>
          <p:cNvSpPr/>
          <p:nvPr/>
        </p:nvSpPr>
        <p:spPr>
          <a:xfrm>
            <a:off x="4059360" y="8174160"/>
            <a:ext cx="1446120" cy="7333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"/>
          <p:cNvSpPr/>
          <p:nvPr/>
        </p:nvSpPr>
        <p:spPr>
          <a:xfrm>
            <a:off x="4786200" y="6384960"/>
            <a:ext cx="846360" cy="257328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"/>
          <p:cNvSpPr/>
          <p:nvPr/>
        </p:nvSpPr>
        <p:spPr>
          <a:xfrm>
            <a:off x="3508200" y="1122480"/>
            <a:ext cx="2035440" cy="774684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"/>
          <p:cNvSpPr/>
          <p:nvPr/>
        </p:nvSpPr>
        <p:spPr>
          <a:xfrm>
            <a:off x="4095720" y="5862600"/>
            <a:ext cx="1428840" cy="306396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"/>
          <p:cNvSpPr/>
          <p:nvPr/>
        </p:nvSpPr>
        <p:spPr>
          <a:xfrm>
            <a:off x="4002120" y="5467320"/>
            <a:ext cx="1522440" cy="342108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"/>
          <p:cNvSpPr/>
          <p:nvPr/>
        </p:nvSpPr>
        <p:spPr>
          <a:xfrm>
            <a:off x="4397400" y="4095720"/>
            <a:ext cx="1127160" cy="479268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C3923-F6B5-48D3-9A43-CF33180AEDF6}" type="slidenum">
              <a:t>11</a:t>
            </a:fld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"/>
          <p:cNvGraphicFramePr/>
          <p:nvPr/>
        </p:nvGraphicFramePr>
        <p:xfrm>
          <a:off x="406440" y="139680"/>
          <a:ext cx="12509640" cy="9142200"/>
        </p:xfrm>
        <a:graphic>
          <a:graphicData uri="http://schemas.openxmlformats.org/drawingml/2006/table">
            <a:tbl>
              <a:tblPr/>
              <a:tblGrid>
                <a:gridCol w="4572000"/>
                <a:gridCol w="1270080"/>
                <a:gridCol w="1663560"/>
                <a:gridCol w="5004000"/>
              </a:tblGrid>
              <a:tr h="65880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Gill Sans"/>
                          <a:ea typeface="ヒラギノ角ゴ ProN W3"/>
                        </a:rPr>
                        <a:t>T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Gill Sans"/>
                          <a:ea typeface="ヒラギノ角ゴ ProN W3"/>
                        </a:rPr>
                        <a:t>Wri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Gill Sans"/>
                          <a:ea typeface="ヒラギノ角ゴ ProN W3"/>
                        </a:rPr>
                        <a:t>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Gill Sans"/>
                          <a:ea typeface="ヒラギノ角ゴ ProN W3"/>
                        </a:rPr>
                        <a:t>Dynamic Sl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8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a, 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2,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24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8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p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i, 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6,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p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b, p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4, 2, 3, 8, 6,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8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p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a, p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5, 2, 9, 4, 2, 3, 8, 6,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s, x, p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7, 3, 8, 6,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i, p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8, 6,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p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i, 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13, 8, 6,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p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b, p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4, 2, 3, 13, 8, 6,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p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a, p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5, 2, 9, 4, 2, 3, 13, 8, 6, 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8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s, x, p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12, 7, 3, 6, 8, 1, 8, 1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i, p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13, 8, 6,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p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i, 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13, 8, 6,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24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o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12, 7, 3, 6, 8, 1, 1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"/>
          <p:cNvSpPr/>
          <p:nvPr/>
        </p:nvSpPr>
        <p:spPr>
          <a:xfrm>
            <a:off x="1477440" y="762120"/>
            <a:ext cx="2513880" cy="75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1 n = read()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2 a = read()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3 x = 1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4 b = a + x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5 a = a + 1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6 i = 1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7 s = 0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8 while (i &lt;= n) {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9     if (b &gt; 0)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10         if (a &gt; 1)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12     s = s + x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13     i = i + 1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8 while (i &lt;= n) {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9     if (b &gt; 0)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10         if (a &gt; 1)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12     s = s + x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13     i = i + 1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8 while (i &lt;= n) {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15 write(s)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"/>
          <p:cNvSpPr/>
          <p:nvPr/>
        </p:nvSpPr>
        <p:spPr>
          <a:xfrm>
            <a:off x="4040280" y="7704000"/>
            <a:ext cx="1495440" cy="122400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"/>
          <p:cNvSpPr/>
          <p:nvPr/>
        </p:nvSpPr>
        <p:spPr>
          <a:xfrm>
            <a:off x="2405160" y="3664080"/>
            <a:ext cx="3100320" cy="52243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"/>
          <p:cNvSpPr/>
          <p:nvPr/>
        </p:nvSpPr>
        <p:spPr>
          <a:xfrm>
            <a:off x="2554200" y="1878120"/>
            <a:ext cx="3078360" cy="713736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"/>
          <p:cNvSpPr/>
          <p:nvPr/>
        </p:nvSpPr>
        <p:spPr>
          <a:xfrm>
            <a:off x="2386080" y="3213000"/>
            <a:ext cx="3138480" cy="567540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"/>
          <p:cNvSpPr/>
          <p:nvPr/>
        </p:nvSpPr>
        <p:spPr>
          <a:xfrm>
            <a:off x="4059360" y="8174160"/>
            <a:ext cx="1446120" cy="7333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"/>
          <p:cNvSpPr/>
          <p:nvPr/>
        </p:nvSpPr>
        <p:spPr>
          <a:xfrm>
            <a:off x="4786200" y="6384960"/>
            <a:ext cx="846360" cy="257328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"/>
          <p:cNvSpPr/>
          <p:nvPr/>
        </p:nvSpPr>
        <p:spPr>
          <a:xfrm>
            <a:off x="3508200" y="1122480"/>
            <a:ext cx="2035440" cy="774684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"/>
          <p:cNvSpPr/>
          <p:nvPr/>
        </p:nvSpPr>
        <p:spPr>
          <a:xfrm>
            <a:off x="4095720" y="5862600"/>
            <a:ext cx="1428840" cy="306396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"/>
          <p:cNvSpPr/>
          <p:nvPr/>
        </p:nvSpPr>
        <p:spPr>
          <a:xfrm>
            <a:off x="4002120" y="5467320"/>
            <a:ext cx="1522440" cy="342108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"/>
          <p:cNvSpPr/>
          <p:nvPr/>
        </p:nvSpPr>
        <p:spPr>
          <a:xfrm>
            <a:off x="4397400" y="4095720"/>
            <a:ext cx="1127160" cy="479268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AD591-4732-4D96-BD29-C36EB71D140B}" type="slidenum">
              <a:t>12</a:t>
            </a:fld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2273760" y="355680"/>
            <a:ext cx="2907000" cy="68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 n = read()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2 a = read()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3 x = 1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4 b = a + x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5 a = a + 1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6 i = 1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7 s = 0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8 while (i &lt;= n) {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9     if (b &gt; 0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0         if (a &gt; 1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1             x = 2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2     s = s + x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3     i = i + 1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4 }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5 write(s)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" name=""/>
          <p:cNvSpPr/>
          <p:nvPr/>
        </p:nvSpPr>
        <p:spPr>
          <a:xfrm>
            <a:off x="1180800" y="8534520"/>
            <a:ext cx="5066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tatic slice for (s, 15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8" name=""/>
          <p:cNvSpPr/>
          <p:nvPr/>
        </p:nvSpPr>
        <p:spPr>
          <a:xfrm>
            <a:off x="7593120" y="343080"/>
            <a:ext cx="3571560" cy="68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 n = read(); // n = 2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2 </a:t>
            </a:r>
            <a:r>
              <a:rPr b="0" lang="en-US" sz="3000" spc="-1" strike="noStrike">
                <a:solidFill>
                  <a:srgbClr val="7e7e7e"/>
                </a:solidFill>
                <a:latin typeface="Monaco"/>
                <a:ea typeface="Monaco"/>
              </a:rPr>
              <a:t>a = read();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// a = 0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3 x = 1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4 </a:t>
            </a:r>
            <a:r>
              <a:rPr b="0" lang="en-US" sz="3000" spc="-1" strike="noStrike">
                <a:solidFill>
                  <a:srgbClr val="7e7e7e"/>
                </a:solidFill>
                <a:latin typeface="Monaco"/>
                <a:ea typeface="Monaco"/>
              </a:rPr>
              <a:t>b = a + x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5 </a:t>
            </a:r>
            <a:r>
              <a:rPr b="0" lang="en-US" sz="3000" spc="-1" strike="noStrike">
                <a:solidFill>
                  <a:srgbClr val="7e7e7e"/>
                </a:solidFill>
                <a:latin typeface="Monaco"/>
                <a:ea typeface="Monaco"/>
              </a:rPr>
              <a:t>a = a + 1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6 i = 1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7 s = 0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8 while (i &lt;= n) {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9     </a:t>
            </a:r>
            <a:r>
              <a:rPr b="0" lang="en-US" sz="3000" spc="-1" strike="noStrike">
                <a:solidFill>
                  <a:srgbClr val="7e7e7e"/>
                </a:solidFill>
                <a:latin typeface="Monaco"/>
                <a:ea typeface="Monaco"/>
              </a:rPr>
              <a:t>if (b &gt; 0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0         </a:t>
            </a:r>
            <a:r>
              <a:rPr b="0" lang="en-US" sz="3000" spc="-1" strike="noStrike">
                <a:solidFill>
                  <a:srgbClr val="7e7e7e"/>
                </a:solidFill>
                <a:latin typeface="Monaco"/>
                <a:ea typeface="Monaco"/>
              </a:rPr>
              <a:t>if (a &gt; 1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1            </a:t>
            </a:r>
            <a:r>
              <a:rPr b="0" lang="en-US" sz="3000" spc="-1" strike="noStrike">
                <a:solidFill>
                  <a:srgbClr val="7e7e7e"/>
                </a:solidFill>
                <a:latin typeface="Monaco"/>
                <a:ea typeface="Monaco"/>
              </a:rPr>
              <a:t> x = 2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2     s = s + x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3     i = i + 1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4 }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5 write(s)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"/>
          <p:cNvSpPr/>
          <p:nvPr/>
        </p:nvSpPr>
        <p:spPr>
          <a:xfrm>
            <a:off x="6730920" y="8521560"/>
            <a:ext cx="5878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ynamic slice for (s, 15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1A2D2-E114-4F48-83A1-88F4AF5AEA2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iscuss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2679480"/>
            <a:ext cx="11175840" cy="589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78984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ynamic slices are much more precise than static slices (applied to the one run, that i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984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rom some variable, a backward slice encompasses on averag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0600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30% of 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entir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program (static slice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0600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5% of 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executed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ogram (dynamic slice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984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verhead as in omniscient debugg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A41EB-4F87-4660-970A-5491B404675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6320" y="495360"/>
            <a:ext cx="12864960" cy="8763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64800" y="253800"/>
            <a:ext cx="110617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he Whylin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179FC-1E20-4C02-9328-1FCBE552F4D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76320" y="495360"/>
            <a:ext cx="12864960" cy="8763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8CE9D-E317-4A63-B457-A1CEC9D526E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76320" y="495360"/>
            <a:ext cx="12864960" cy="876312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2792520" y="496800"/>
            <a:ext cx="8354880" cy="627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D50A6-6B3A-489B-9E0F-964BBB125E11}" type="slidenum">
              <a:t>17</a:t>
            </a:fld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Why did” ques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ake the dynamic slice of the variab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llow at most two dependenci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f programmer wants, follow dependencies transitivel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45087-5858-4D38-A25A-8D00417B7F9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1990440" y="2540160"/>
            <a:ext cx="285516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1 n = read(); // n = 2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2 </a:t>
            </a:r>
            <a:r>
              <a:rPr b="0" lang="en-US" sz="2400" spc="-1" strike="noStrike">
                <a:solidFill>
                  <a:srgbClr val="7e7e7e"/>
                </a:solidFill>
                <a:latin typeface="Monaco"/>
                <a:ea typeface="Monaco"/>
              </a:rPr>
              <a:t>a = read();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// a = 0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3 x = 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4 </a:t>
            </a:r>
            <a:r>
              <a:rPr b="0" lang="en-US" sz="2400" spc="-1" strike="noStrike">
                <a:solidFill>
                  <a:srgbClr val="7e7e7e"/>
                </a:solidFill>
                <a:latin typeface="Monaco"/>
                <a:ea typeface="Monaco"/>
              </a:rPr>
              <a:t>b = a + x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5 </a:t>
            </a:r>
            <a:r>
              <a:rPr b="0" lang="en-US" sz="2400" spc="-1" strike="noStrike">
                <a:solidFill>
                  <a:srgbClr val="7e7e7e"/>
                </a:solidFill>
                <a:latin typeface="Monaco"/>
                <a:ea typeface="Monaco"/>
              </a:rPr>
              <a:t>a = a + 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6 i = 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7 s = 0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8 while (i &lt;= n)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9     </a:t>
            </a:r>
            <a:r>
              <a:rPr b="0" lang="en-US" sz="2400" spc="-1" strike="noStrike">
                <a:solidFill>
                  <a:srgbClr val="7e7e7e"/>
                </a:solidFill>
                <a:latin typeface="Monaco"/>
                <a:ea typeface="Monaco"/>
              </a:rPr>
              <a:t>if (b &gt; 0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10         </a:t>
            </a:r>
            <a:r>
              <a:rPr b="0" lang="en-US" sz="2400" spc="-1" strike="noStrike">
                <a:solidFill>
                  <a:srgbClr val="7e7e7e"/>
                </a:solidFill>
                <a:latin typeface="Monaco"/>
                <a:ea typeface="Monaco"/>
              </a:rPr>
              <a:t>if (a &gt; 1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11            </a:t>
            </a:r>
            <a:r>
              <a:rPr b="0" lang="en-US" sz="2400" spc="-1" strike="noStrike">
                <a:solidFill>
                  <a:srgbClr val="7e7e7e"/>
                </a:solidFill>
                <a:latin typeface="Monaco"/>
                <a:ea typeface="Monaco"/>
              </a:rPr>
              <a:t> x = 2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12     s = s + x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13     i = i + 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14 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15 write(s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65160" y="253800"/>
            <a:ext cx="110743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Lucida Grande"/>
              </a:rPr>
              <a:t>“</a:t>
            </a:r>
            <a:r>
              <a:rPr b="1" lang="en-US" sz="6000" spc="-1" strike="noStrike">
                <a:solidFill>
                  <a:srgbClr val="ffffff"/>
                </a:solidFill>
                <a:latin typeface="Lucida Grande"/>
              </a:rPr>
              <a:t>Why did s = 2 in Line 15?”</a:t>
            </a:r>
            <a:endParaRPr b="1" lang="en-US" sz="6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11" name=""/>
          <p:cNvSpPr/>
          <p:nvPr/>
        </p:nvSpPr>
        <p:spPr>
          <a:xfrm>
            <a:off x="2685960" y="7346880"/>
            <a:ext cx="414360" cy="84636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2742840" y="5843520"/>
            <a:ext cx="826920" cy="13543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"/>
          <p:cNvSpPr/>
          <p:nvPr/>
        </p:nvSpPr>
        <p:spPr>
          <a:xfrm>
            <a:off x="6127200" y="5257800"/>
            <a:ext cx="6148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“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Because s = 1 and i = 2”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0830F-386B-4E19-8B00-D2BB1C791D0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oday’s Topic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xploring Histor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ynamic Slic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Leveraging Origi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2C106-8C57-4B23-853E-DBD96BCE750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Why didn’t” ques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llow back control dependencies to closest controlling statement(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o a “why did” question on each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gain, follow at most two dependenci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D8CD6-91D7-43BD-9759-D7EA743B8C4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990440" y="2540160"/>
            <a:ext cx="285516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1 n = read(); // n = 2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2 a = read(); // a = 0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3 x = 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4 b = a + x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5 a = a + 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6 i = 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7 s = 0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8 while (i &lt;= n)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9     if (b &gt; 0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10         if (a &gt; 1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11             x = 2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12     s = s + x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13     i = i + 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14 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15 write(s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17160" y="253800"/>
            <a:ext cx="12357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Lucida Grande"/>
              </a:rPr>
              <a:t>“</a:t>
            </a:r>
            <a:r>
              <a:rPr b="1" lang="en-US" sz="6200" spc="-1" strike="noStrike">
                <a:solidFill>
                  <a:srgbClr val="ffffff"/>
                </a:solidFill>
                <a:latin typeface="Lucida Grande"/>
              </a:rPr>
              <a:t>Why didn’t x = 2 in Line 11?”</a:t>
            </a:r>
            <a:endParaRPr b="1" lang="en-US" sz="6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18" name=""/>
          <p:cNvSpPr/>
          <p:nvPr/>
        </p:nvSpPr>
        <p:spPr>
          <a:xfrm>
            <a:off x="3625920" y="6558120"/>
            <a:ext cx="833400" cy="35244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"/>
          <p:cNvSpPr/>
          <p:nvPr/>
        </p:nvSpPr>
        <p:spPr>
          <a:xfrm>
            <a:off x="2122560" y="4565520"/>
            <a:ext cx="2030400" cy="187956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"/>
          <p:cNvSpPr/>
          <p:nvPr/>
        </p:nvSpPr>
        <p:spPr>
          <a:xfrm>
            <a:off x="6010920" y="5257800"/>
            <a:ext cx="6381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“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Because a = 1 and b = 1”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"/>
          <p:cNvSpPr/>
          <p:nvPr/>
        </p:nvSpPr>
        <p:spPr>
          <a:xfrm>
            <a:off x="2798640" y="6145200"/>
            <a:ext cx="714600" cy="29988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14AA4-3ADF-4CCB-BB3A-6399318A129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iscuss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31104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WHYLINE combin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98880" indent="-5396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mniscient debugg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98880" indent="-5396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tatic slic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98880" indent="-5396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ynamic slic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31104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 an attractive package, showcasing the state of the art in interactive debugg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C399-61AD-4A13-8DA9-FF4D3BF0C9D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racking Infec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04480" y="2768400"/>
            <a:ext cx="107823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826560" indent="-54396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7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tart with the infected value as seen in the failur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26560" indent="-5439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7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llow back the dependenci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26560" indent="-5439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7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bserve and judge origins – are they sane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26560" indent="-5439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7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f some origin is infected, repeat at Step 2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26560" indent="-5439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7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l origins are sane? Here’s the infection site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D45FC-0A21-4D86-A041-03424CD86DA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803160" indent="-50760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mniscient debugging allows for simple exploration of the entire execution histor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3160" indent="-50760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3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ynamic slicing tells the origin of a valu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3160" indent="-50760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4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track down an infection, follow dependencies and observe origins, repeating the process for infected origi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1644-DA50-4B57-892A-E7370CA33A4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816200" y="7772400"/>
            <a:ext cx="10020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This work is licensed under the Creative Commons Attribution License.  To view a copy of this license, visi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http://creativecommons.org/licenses/by/1.0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or send a letter to Creative Commons, 559 Abbott Way, Stanford, California 94305, USA.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5945B-FD70-4C40-87A8-6343192A690C}" type="slidenum">
              <a:t>25</a:t>
            </a:fld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Exploring the Pas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4279680"/>
            <a:ext cx="1046484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28800" indent="-6112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7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t a breakpoin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928800" indent="-6112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7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tart program, reaching breakpoin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928800" indent="-6112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7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tep, Step, Step, …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928800" indent="-6112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7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ops! I’ve gone too far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"/>
          <p:cNvSpPr/>
          <p:nvPr/>
        </p:nvSpPr>
        <p:spPr>
          <a:xfrm>
            <a:off x="597600" y="3352680"/>
            <a:ext cx="10629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 typical debugging session looks like this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A7BA3-53AB-44A1-A264-3F224B8EC14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609480" y="774720"/>
            <a:ext cx="11785680" cy="82170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64800" y="253800"/>
            <a:ext cx="110617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Omniscient Debugg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FEC4E-5C42-4442-B3BD-1D08079A96D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How does it work?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DB records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trac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of the entire execution histor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lows down programs by a factor of 10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cords about 100 MB/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ow available in commercial tool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063A3-32D0-4488-B4E6-3C64AB75428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ynamic Slic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tatic slices apply to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all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program runs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General + reusable, but imprecis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dynamic slic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applies to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a single run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pecific and precis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D57DD-E204-4350-A976-65D8B12EA9A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5905440" y="330120"/>
            <a:ext cx="6794640" cy="915984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5904000" y="343080"/>
            <a:ext cx="6718320" cy="90532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672840"/>
            <a:ext cx="7365960" cy="2438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tatic Slic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4"/>
          <a:stretch/>
        </p:blipFill>
        <p:spPr>
          <a:xfrm>
            <a:off x="5904000" y="343080"/>
            <a:ext cx="6718320" cy="905328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965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92000" indent="-4744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Given a statement B, the backward slice contains all statements that could influence the read variables or execution of B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92000" indent="-4744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rmally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"/>
          <p:cNvSpPr/>
          <p:nvPr/>
        </p:nvSpPr>
        <p:spPr>
          <a:xfrm>
            <a:off x="8229600" y="7746840"/>
            <a:ext cx="2463840" cy="86364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"/>
          <p:cNvSpPr/>
          <p:nvPr/>
        </p:nvSpPr>
        <p:spPr>
          <a:xfrm>
            <a:off x="8229600" y="343080"/>
            <a:ext cx="2463840" cy="86328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5"/>
          <a:stretch/>
        </p:blipFill>
        <p:spPr>
          <a:xfrm>
            <a:off x="1359000" y="7493040"/>
            <a:ext cx="4406760" cy="49536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8229600" y="1092240"/>
            <a:ext cx="2463840" cy="86364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"/>
          <p:cNvSpPr/>
          <p:nvPr/>
        </p:nvSpPr>
        <p:spPr>
          <a:xfrm>
            <a:off x="8229600" y="5245200"/>
            <a:ext cx="2463840" cy="86364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"/>
          <p:cNvSpPr/>
          <p:nvPr/>
        </p:nvSpPr>
        <p:spPr>
          <a:xfrm>
            <a:off x="8229600" y="1955880"/>
            <a:ext cx="2463840" cy="86364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"/>
          <p:cNvSpPr/>
          <p:nvPr/>
        </p:nvSpPr>
        <p:spPr>
          <a:xfrm>
            <a:off x="8229600" y="2819520"/>
            <a:ext cx="2463840" cy="86364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"/>
          <p:cNvSpPr/>
          <p:nvPr/>
        </p:nvSpPr>
        <p:spPr>
          <a:xfrm>
            <a:off x="8229600" y="6108840"/>
            <a:ext cx="2463840" cy="86364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" name=""/>
          <p:cNvSpPr/>
          <p:nvPr/>
        </p:nvSpPr>
        <p:spPr>
          <a:xfrm>
            <a:off x="8229600" y="6972480"/>
            <a:ext cx="2463840" cy="86328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0" name=""/>
          <p:cNvSpPr/>
          <p:nvPr/>
        </p:nvSpPr>
        <p:spPr>
          <a:xfrm>
            <a:off x="8204040" y="3683160"/>
            <a:ext cx="2463840" cy="86328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"/>
          <p:cNvSpPr/>
          <p:nvPr/>
        </p:nvSpPr>
        <p:spPr>
          <a:xfrm>
            <a:off x="8229600" y="4470480"/>
            <a:ext cx="2463840" cy="86364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5457-E699-443C-B33E-C464973C7EC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273760" y="355680"/>
            <a:ext cx="2907000" cy="68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 n = read()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2 a = read()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3 x = 1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4 b = a + x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5 a = a + 1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6 i = 1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7 s = 0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8 while (i &lt;= n) {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9     if (b &gt; 0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0         if (a &gt; 1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1             x = 2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2     s = s + x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3     i = i + 1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4 }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5 write(s)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"/>
          <p:cNvSpPr/>
          <p:nvPr/>
        </p:nvSpPr>
        <p:spPr>
          <a:xfrm>
            <a:off x="1180800" y="8534520"/>
            <a:ext cx="5066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tatic slice for (s, 15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"/>
          <p:cNvSpPr/>
          <p:nvPr/>
        </p:nvSpPr>
        <p:spPr>
          <a:xfrm>
            <a:off x="7593120" y="343080"/>
            <a:ext cx="3571560" cy="68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 n = read(); // n = 2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2 </a:t>
            </a:r>
            <a:r>
              <a:rPr b="0" lang="en-US" sz="3000" spc="-1" strike="noStrike">
                <a:solidFill>
                  <a:srgbClr val="7e7e7e"/>
                </a:solidFill>
                <a:latin typeface="Monaco"/>
                <a:ea typeface="Monaco"/>
              </a:rPr>
              <a:t>a = read();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// a = 0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3 x = 1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4 </a:t>
            </a:r>
            <a:r>
              <a:rPr b="0" lang="en-US" sz="3000" spc="-1" strike="noStrike">
                <a:solidFill>
                  <a:srgbClr val="7e7e7e"/>
                </a:solidFill>
                <a:latin typeface="Monaco"/>
                <a:ea typeface="Monaco"/>
              </a:rPr>
              <a:t>b = a + x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5 </a:t>
            </a:r>
            <a:r>
              <a:rPr b="0" lang="en-US" sz="3000" spc="-1" strike="noStrike">
                <a:solidFill>
                  <a:srgbClr val="7e7e7e"/>
                </a:solidFill>
                <a:latin typeface="Monaco"/>
                <a:ea typeface="Monaco"/>
              </a:rPr>
              <a:t>a = a + 1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6 i = 1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7 s = 0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8 while (i &lt;= n) {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9     </a:t>
            </a:r>
            <a:r>
              <a:rPr b="0" lang="en-US" sz="3000" spc="-1" strike="noStrike">
                <a:solidFill>
                  <a:srgbClr val="7e7e7e"/>
                </a:solidFill>
                <a:latin typeface="Monaco"/>
                <a:ea typeface="Monaco"/>
              </a:rPr>
              <a:t>if (b &gt; 0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0         </a:t>
            </a:r>
            <a:r>
              <a:rPr b="0" lang="en-US" sz="3000" spc="-1" strike="noStrike">
                <a:solidFill>
                  <a:srgbClr val="7e7e7e"/>
                </a:solidFill>
                <a:latin typeface="Monaco"/>
                <a:ea typeface="Monaco"/>
              </a:rPr>
              <a:t>if (a &gt; 1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1            </a:t>
            </a:r>
            <a:r>
              <a:rPr b="0" lang="en-US" sz="3000" spc="-1" strike="noStrike">
                <a:solidFill>
                  <a:srgbClr val="7e7e7e"/>
                </a:solidFill>
                <a:latin typeface="Monaco"/>
                <a:ea typeface="Monaco"/>
              </a:rPr>
              <a:t> x = 2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2     s = s + x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3     i = i + 1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4 }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5 write(s)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"/>
          <p:cNvSpPr/>
          <p:nvPr/>
        </p:nvSpPr>
        <p:spPr>
          <a:xfrm>
            <a:off x="6730920" y="8521560"/>
            <a:ext cx="5878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ynamic slice for (s, 15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64961-9B52-4124-AFFB-D534E520FCA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73760" y="355680"/>
            <a:ext cx="2907000" cy="68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 n = read()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2 a = read()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3 x = 1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4 b = a + x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5 a = a + 1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6 i = 1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7 s = 0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8 while (i &lt;= n) {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9     if (b &gt; 0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0         if (a &gt; 1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1             x = 2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2     s = s + x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3     i = i + 1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4 }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15 write(s)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6400440" y="545760"/>
            <a:ext cx="6883560" cy="793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9880" indent="-52236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90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btain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trac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of the execu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9880" indent="-52236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90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Get the variables that are read and writte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9880" indent="-52236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90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ssign an empty slice to each written variab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9880" indent="-52236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90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mpute the slices from start to end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9880" indent="0">
              <a:lnSpc>
                <a:spcPct val="100000"/>
              </a:lnSpc>
              <a:spcBef>
                <a:spcPts val="5000"/>
              </a:spcBef>
              <a:buNone/>
              <a:tabLst>
                <a:tab algn="l" pos="190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5257800" y="7835760"/>
            <a:ext cx="7678800" cy="85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6B558-DD2C-442B-84C4-B57FD6BEEAB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