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51286-C951-4CDA-991A-4D9B7DBAA34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7369D-68E3-4AFD-935A-52E9AFB4301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5C236-BFE5-452B-B2A0-0E278C0D6B3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BFFC2-3722-4A01-A052-AE327C908A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3F38F-F2AA-4202-917F-912EBA6257B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63BB0-812C-4B90-8E69-A6E05A9B949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9E608-9362-497D-B93D-3EF2273E5DF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21434-2281-4DFD-93AA-6E8229BFAE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EE4E4-0AA2-490B-8983-F754AFD0B7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B9F5F-764C-4E6B-A263-52383A262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65C1-17DD-4AD8-9EA9-423AC474F0C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7A914-5F49-4E61-AA52-95F212C7783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FC7D-9985-4445-AA25-ED86990CA30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CC8E8-CB66-48F9-9EF4-206A49EC7E3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B524-14A8-467D-AFDD-B5B69C6AF07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94A91-4F3B-4728-9496-41AB5245DB0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7D17-3A84-416B-A876-E3B141BE1E7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699E-2736-405D-84EB-47CAFB6F2E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3C12-CEDF-45DD-9DCC-BC6C80BA7C3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BD19-388C-4507-96BC-04614F129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8F98-C193-43AA-9115-27968D69F37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BE4118-13FC-4850-9A3C-E0904D278B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2EDE4-22F4-4FBD-AC9D-8D9CA43F35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3B677-453E-4950-B344-05C51781ACF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B9798-39F0-46E0-B3EF-A9A41CE835C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31130-C7BE-499D-9D53-F8B24A180DA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419AC-5792-40D0-8A89-5575C5D8A0E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AF30C-3244-42BA-A272-E24F2BFB97D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C2E39A-A8DF-4B1C-B3E9-C4DE7F123E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D6E8B-B4A3-4DFF-BB2B-F2C3B664D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07AB-43E9-41FD-82C5-18228F15008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949C4-0E83-47CC-ADE4-3DEAD9DCE34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D5AE2-9CA5-4954-8C3D-F5AEE55B2C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453375-8977-4A99-8BC7-195497F1E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49FD-F5C7-4420-ACD8-FDA741FBD4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54A3-9032-4D91-A8B8-8D19729C49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4B1D-A744-4988-A0AF-918933E256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FE8C-0864-4122-8BD4-D9427E8AEB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61DE-9A5F-479B-A46B-84E8A79970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A4A6-7E24-48DE-B6E3-1E6CA2D7D8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9D3E-6A82-40D1-A2E9-378D57C494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907F-0D12-43D3-BD6B-34EE642235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2782-09A5-4CD4-9812-6BBA66EFF0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98B6-32A9-4D83-B277-48D457D729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7871-8BC4-4574-87AD-041F554F52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6CCA-C052-400D-ADC6-44B4D26267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7740-058C-47B8-B165-0029FB4008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02E7-AA34-46B0-983F-1F1CA480D4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8E9B-4965-409A-BAEB-E68625BB71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31A7-50BD-42CC-AF58-455B179E3C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E30C-70FF-49A2-A23C-CC2983C6CD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4BDB-3D06-448B-9531-8E1C5D7B4A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AF0F-F389-4028-A3AA-1568B338E5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C404-ED45-4B61-88EE-89B645189F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6EC5-9354-4058-9CDA-0AF30348B7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3A72-0380-4907-A536-FC1F211D8F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4C48E-AEAE-4E60-821C-E3BC332FF5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9A3-C2E1-4E37-9095-BC7843FED1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C59-282D-4D8E-8DBD-AA2FC9C494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1A48-C738-4957-A1EB-BC86D2211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766-A7C6-4B8D-902E-79079EB1C3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175-AF4F-4988-A809-33F29ED70A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662-4358-4BCD-9256-4E62112392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D7B-459E-4F59-87B5-ADF67E4A9D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F55-75E8-4B5A-9CFC-88D7EB8A17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608-A2E7-4767-9B2C-049385DD34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068-C912-4FE0-B32D-0D43501B0A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8CD6-187A-49DB-BAD4-02D4FC0F84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508-78A8-4B6B-B018-3A2A75F599C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42571-288C-45A8-9D05-692669C8F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D4210-0330-4D95-8C36-1E122E4439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0D9B4-C513-4C6D-8C85-20489F15FC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8B3E8-C212-4309-9218-52CE0D40C32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950AE-1371-4E68-BB8F-15FD48A306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649EE-54E6-40D3-AEFC-AFF47626F5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155E3-29E2-404D-9B08-4F926D83C5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2FA43-984D-4057-BB06-A2E090C47F7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0BD30-9FBC-4B5C-A624-BAA3F55D087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ECE54-8AD4-4DA8-897A-8A40225273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0464A-70AE-47BB-8552-10CD21B78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1E176-2612-46E8-932E-8CFDE5B544F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EE3D8-8BBF-4107-A651-C548C5CBA3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3AA4A-5D38-4CE4-BEE6-B46ED51E21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C0D69-0223-4D94-9565-0014297A7B4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7B2E0-E2F8-404A-BB57-675F90832B1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EC9AF-C765-4FD2-B585-E47ADAB192D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C3993-782E-4696-B6A4-524E363828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66005-B19A-40AB-8C88-E44ADB3120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2F31F-1788-4DB7-8893-C88E257CE8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81188-6B68-4B78-8927-25A67D5D2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AFC48-7F78-4085-90FD-866A26CE5C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EB191-5ADC-440C-ACA7-A41D7A04A9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DF123-ACD5-4D28-95BC-6831724AC9D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36B1-E594-4CEB-B71E-18CB9DA0DD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1CA8-BB02-4461-B4C5-D3159F342A5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721A-B543-44A1-9175-7BC4045D213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D6A4-99D5-4A95-AB50-BAEE1C6A03A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360F-50D5-4B3B-84DA-670021FB50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DAA5-F4AD-4DA6-BCD7-F6D71FB340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5D08-114B-417E-AF29-4B5DC068D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F93D-68F9-4861-A682-A52DED064FC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527A-2050-4777-BAE6-B91CC033BE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E23F-351F-492C-892D-00E88B6C68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807F-9BF3-4063-9DFC-23D9DCCA1EB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3849-4AC9-4010-AAAC-C45DCE13E40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9D027-A87D-4E45-A4EA-3CD3B224E7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FAB08-1415-4DFF-BD02-82ECB4170E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32B885-144D-4DFD-A1AA-9396CCDD1F2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3DC99E-4DCE-4F1D-8FD9-263649C16F0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EB567-B988-4659-805B-9666AAFA4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586BA8-463D-4198-BBE0-A044F4ECA4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ABCE6-1C31-4923-82A7-670A148E79C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A1F11-E3C3-4883-AF27-9B96F07FCDF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061A4-620F-4CAD-8BAF-34713DE526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EA1B6A-7E7A-461A-83AA-F7A2C31249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8D91A-B89E-4BB8-977C-6C88CCABFE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A99B8-9B3C-4F1C-AFF4-578286589A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6C5CF-EB8C-41BC-A9B8-B60D01541E8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7D1F2-2BBC-4F8E-9B4D-243610342FA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57095-2586-4951-8245-B0DD4B84A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5679-CB41-4124-A6DC-15E276BB586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870A-C524-415F-B522-32E852CFE0AF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D18F-4353-4C90-87BC-3A14FC203B7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A316-FC13-45EF-BD61-3CCCCA82F724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4BC9-9AB4-4E0B-ACA4-4FC3494AD2B2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E706-DAC5-46DB-8A9B-A5E79A33E3F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068E-900D-4E7C-8018-92CB8108AA0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E5D4-578C-4C64-8934-AB4F83DF4FD2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004B-1751-4459-B502-7D5CC52BF81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7596-C7CC-45F7-BFEE-98B7515206B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6591240" y="1066680"/>
            <a:ext cx="6157800" cy="7616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854000" y="6006960"/>
            <a:ext cx="36954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888480" y="2616120"/>
            <a:ext cx="5588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ystem Asser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algrind Check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5663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0280" indent="-511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 of uninitialized mem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0280" indent="-511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ccessing free’d memor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0280" indent="-511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ccessing memory beyond malloc’d bloc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0280" indent="-511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ccessing inappropriate stack area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0280" indent="-511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emory leaks: allocated area is not free’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0280" indent="-511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assing uninitialized memory to system cal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A308-E669-4442-880A-F677061974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357200" y="5041800"/>
            <a:ext cx="1112544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hadow Memor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577600"/>
            <a:ext cx="10464840" cy="199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94440" indent="-440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-bit set = corresponding bit is initializ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694440" indent="-4406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-bit set = corresponding byte is accessi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14680" y="6081840"/>
            <a:ext cx="10198080" cy="246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923B-6B6E-4B8C-A1D5-ACDE805E10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-Bi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n a bit is first written, its V-bit is s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98840" indent="-5065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e read accesses to uninitialized memory do not result in warning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1654200" y="5994360"/>
            <a:ext cx="70232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truct S { int x; char c; }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truct S s1, s2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1.x = 42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1.c = 'z'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2 = s1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5894280" y="7137360"/>
            <a:ext cx="4316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5 bytes initializ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6143760" y="7861320"/>
            <a:ext cx="61592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8 bytes copied (no warning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4521240" y="7251840"/>
            <a:ext cx="1422360" cy="2109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622040" y="7564320"/>
            <a:ext cx="1320840" cy="169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000680" y="8224560"/>
            <a:ext cx="1908000" cy="4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ED94-3749-4716-A3FE-FC3C6914433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V-Bits Warning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91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ading uninitialized data causes a warning if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value is used to generate 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ddr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ontrol flow decis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s to be ma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value is passed to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ystem cal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828E-BF14-46E1-BA55-2A274AAC9D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-Bi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n the program starts, all global data is marked “accessible” (= A-bits are set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lloc() sets A-bits for the area returned; free() clears th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ocal variables are “accessible” on entry and “non-accessible” on ex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ヒラギノ角ゴ ProN W3"/>
              </a:rPr>
              <a:t>Accessing “non-accessible” data ⇒ err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21CE-3BC8-441F-A714-21C4A58BC9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verhead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257480" y="2768760"/>
          <a:ext cx="10464480" cy="5689440"/>
        </p:xfrm>
        <a:graphic>
          <a:graphicData uri="http://schemas.openxmlformats.org/drawingml/2006/table">
            <a:tbl>
              <a:tblPr/>
              <a:tblGrid>
                <a:gridCol w="2615760"/>
                <a:gridCol w="2616120"/>
                <a:gridCol w="2616480"/>
                <a:gridCol w="2616120"/>
              </a:tblGrid>
              <a:tr h="22701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ool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GNU C Library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381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Electric Fenc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algrind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01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pac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 bytes/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mallo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381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 page/mallo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100 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900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im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 w="3816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egligibl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3816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negligibl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2500 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BD1D-3B74-437F-823D-A3D7CA4E9EA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eventing Misus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YCLONE is a C dialect which prevents common pitfalls of C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st important feature: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pecial point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E0B7-B55C-4404-AE31-3AC7299D1FE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Non-NULL Point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2" name=""/>
          <p:cNvSpPr/>
          <p:nvPr/>
        </p:nvSpPr>
        <p:spPr>
          <a:xfrm>
            <a:off x="1349280" y="3606840"/>
            <a:ext cx="4521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getc (FILE @fp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6047640" y="4508640"/>
            <a:ext cx="4961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fp may not be NUL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807160" y="3949560"/>
            <a:ext cx="1388880" cy="5083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1349280" y="5931000"/>
            <a:ext cx="452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extern FILE *fp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char c = getc(fp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5375160" y="6756480"/>
            <a:ext cx="1389240" cy="5079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4879800" y="7467480"/>
            <a:ext cx="61596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warning: NULL check inser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513E-1831-4609-BE38-BD160AE4508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at Point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9" name=""/>
          <p:cNvSpPr/>
          <p:nvPr/>
        </p:nvSpPr>
        <p:spPr>
          <a:xfrm>
            <a:off x="1895400" y="5600880"/>
            <a:ext cx="5511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nt strlen(const char? 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45088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fat pointer holds addres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n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iz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accesses via a fat pointer are automatically bounds-check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3073320" y="6896160"/>
          <a:ext cx="2997360" cy="130788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</a:tblGrid>
              <a:tr h="65376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add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iz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2" name=""/>
          <p:cNvSpPr/>
          <p:nvPr/>
        </p:nvSpPr>
        <p:spPr>
          <a:xfrm>
            <a:off x="4448160" y="8331120"/>
            <a:ext cx="241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7886880" y="6921360"/>
            <a:ext cx="218412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Hell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8702640" y="8331120"/>
            <a:ext cx="558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*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83000" y="7264440"/>
            <a:ext cx="2657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D799-51AB-4622-8D41-3433558D10E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68560" y="253800"/>
            <a:ext cx="10680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YCLONE Restri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08920" indent="-516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ULL checks are inser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920" indent="-516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inter arithmetic is restric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920" indent="-516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ointers must be initialized before us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920" indent="-516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angling pointers are prevented through region analysis and limitations on free(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8920" indent="-51696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33000"/>
              <a:buFont typeface="Lucida Grande"/>
              <a:buChar char="‣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nly “safe” casts and unions are allow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145C-F812-4B05-BE48-EA1B478B40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ystem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301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me properties of a program must hold over the entire ru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892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ust not access data of other proces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892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ust handle mathematical excep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8920" indent="-5230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ust not exceed its privileg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013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ypically checked by hardware and O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2FC2-011A-461B-AC70-1B88828756B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oduction Co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hould products ship with active assertion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89D6-7DFF-494C-8F9F-D9E876FD38B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ings to Check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898fe"/>
                </a:solidFill>
                <a:latin typeface="Gill Sans"/>
              </a:rPr>
              <a:t>Critical results.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If lives, health, or money depend on a result, it had better be checked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898fe"/>
                </a:solidFill>
                <a:latin typeface="Gill Sans"/>
              </a:rPr>
              <a:t>External conditions. 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y conditions which are not within our control must be checked for integrit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DCA9-3B12-4CDE-8E31-24876EC108A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oints to Consid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more active assertions, the greater the chance to catch infections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sooner a program fails, the easier it is to track the defect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fects that escape into the field are the hardest to track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1CF1-5B2B-4AF4-8619-BE7E1124FA1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to Consid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240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y default, failing assertions are not user-friendy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760400" indent="-985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515960"/>
                <a:tab algn="l" pos="240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Handle assertions in a user-friendly wa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240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ertions impact performanc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760400" indent="-985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Zapf Dingbats"/>
              <a:buChar char="➡"/>
              <a:tabLst>
                <a:tab algn="l" pos="1515960"/>
                <a:tab algn="l" pos="240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rst measure; then turn off only the most time-consuming asser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DB1A-7213-4354-9E42-1FFD0AFCB26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823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960480" indent="-696960">
              <a:lnSpc>
                <a:spcPct val="100000"/>
              </a:lnSpc>
              <a:spcBef>
                <a:spcPts val="2599"/>
              </a:spcBef>
              <a:buSzPct val="159437"/>
              <a:buBlip>
                <a:blip r:embed="rId2"/>
              </a:buBlip>
              <a:tabLst>
                <a:tab algn="l" pos="18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check memory integrity, use specialized tools to detect errors at run ti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960480" indent="-696960">
              <a:lnSpc>
                <a:spcPct val="100000"/>
              </a:lnSpc>
              <a:spcBef>
                <a:spcPts val="2599"/>
              </a:spcBef>
              <a:buSzPct val="159437"/>
              <a:buBlip>
                <a:blip r:embed="rId3"/>
              </a:buBlip>
              <a:tabLst>
                <a:tab algn="l" pos="18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pply such tools before any other metho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960480" indent="-696960">
              <a:lnSpc>
                <a:spcPct val="100000"/>
              </a:lnSpc>
              <a:spcBef>
                <a:spcPts val="2599"/>
              </a:spcBef>
              <a:buSzPct val="159437"/>
              <a:buBlip>
                <a:blip r:embed="rId4"/>
              </a:buBlip>
              <a:tabLst>
                <a:tab algn="l" pos="18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fully prevent memory errors, use another language (or dialect, e.g. Cyclon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960480" indent="-696960">
              <a:lnSpc>
                <a:spcPct val="100000"/>
              </a:lnSpc>
              <a:spcBef>
                <a:spcPts val="2599"/>
              </a:spcBef>
              <a:buSzPct val="159437"/>
              <a:buBlip>
                <a:blip r:embed="rId5"/>
              </a:buBlip>
              <a:tabLst>
                <a:tab algn="l" pos="18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urning assertions off seldom justifies the risk of erroneous comput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FC26-0A64-43D0-8DC8-A770D8848EF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5D6-EFBF-47AB-AB5A-579F4B275898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emory Invarian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n within a single process, some invariants must hold over the entire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de integ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ata integr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s is a major issue in C and C++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50BB-ABA7-48D5-B6EA-7DA305E7761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eap Misus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6" name=""/>
          <p:cNvSpPr/>
          <p:nvPr/>
        </p:nvSpPr>
        <p:spPr>
          <a:xfrm>
            <a:off x="1195560" y="2806560"/>
            <a:ext cx="2769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s = malloc(30)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184800" y="4927680"/>
            <a:ext cx="628668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>
            <a:off x="6087960" y="7632720"/>
            <a:ext cx="208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162480" y="6213600"/>
            <a:ext cx="29880" cy="12697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1020960" y="3683160"/>
            <a:ext cx="12808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free(s)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184800" y="4927680"/>
            <a:ext cx="6286680" cy="127008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1221480" y="4648320"/>
            <a:ext cx="2718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t = malloc(20)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"/>
          <p:cNvSpPr/>
          <p:nvPr/>
        </p:nvSpPr>
        <p:spPr>
          <a:xfrm>
            <a:off x="8356680" y="4927680"/>
            <a:ext cx="414000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"/>
          <p:cNvSpPr/>
          <p:nvPr/>
        </p:nvSpPr>
        <p:spPr>
          <a:xfrm>
            <a:off x="8285400" y="7632720"/>
            <a:ext cx="1562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"/>
          <p:cNvSpPr/>
          <p:nvPr/>
        </p:nvSpPr>
        <p:spPr>
          <a:xfrm>
            <a:off x="8364600" y="6200640"/>
            <a:ext cx="0" cy="1266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266480" y="6616800"/>
            <a:ext cx="18752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s[10] = ‘b’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8510040" y="5295960"/>
            <a:ext cx="26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onaco"/>
                <a:ea typeface="Monaco"/>
              </a:rPr>
              <a:t>b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1020960" y="7632720"/>
            <a:ext cx="12808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free(s)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1520640" y="5549760"/>
            <a:ext cx="3181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strcpy(t, “hello”)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5442120" y="2806560"/>
            <a:ext cx="1591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free_lis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248520" y="3670200"/>
            <a:ext cx="0" cy="1270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4"/>
          <a:stretch/>
        </p:blipFill>
        <p:spPr>
          <a:xfrm rot="1559400">
            <a:off x="6727320" y="5626080"/>
            <a:ext cx="1143000" cy="9856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8509320" y="5295960"/>
            <a:ext cx="2674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onaco"/>
                <a:ea typeface="Monaco"/>
              </a:rPr>
              <a:t>h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8960400" y="5295960"/>
            <a:ext cx="7275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onaco"/>
                <a:ea typeface="Monaco"/>
              </a:rPr>
              <a:t>ello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8750160" y="6438960"/>
            <a:ext cx="3835440" cy="27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7CCC-B8CA-44FA-80FC-5603057D73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eap Asser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3606840"/>
            <a:ext cx="1046484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GNU C runtime librar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provides a simple check against common error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1768320" y="5956200"/>
            <a:ext cx="106682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 MALLOC_CHECK_=2 myprogram myarg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free() called on area that was already free'd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Aborted (core dumped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 _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3A01-51CB-41F1-898D-06E14DC0EC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975120" y="4927680"/>
            <a:ext cx="218448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FRE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6184800" y="4927680"/>
            <a:ext cx="6286680" cy="1270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6184800" y="4927680"/>
            <a:ext cx="6286680" cy="127008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eap Asser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3" name=""/>
          <p:cNvSpPr/>
          <p:nvPr/>
        </p:nvSpPr>
        <p:spPr>
          <a:xfrm>
            <a:off x="1195560" y="2806560"/>
            <a:ext cx="2769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s = malloc(30)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6075360" y="2806560"/>
            <a:ext cx="208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180120" y="3555720"/>
            <a:ext cx="0" cy="13539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1020960" y="3784680"/>
            <a:ext cx="12808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free(s)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>
            <a:off x="1020960" y="4686480"/>
            <a:ext cx="12808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free(s)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"/>
          <p:cNvSpPr/>
          <p:nvPr/>
        </p:nvSpPr>
        <p:spPr>
          <a:xfrm>
            <a:off x="3975120" y="4927680"/>
            <a:ext cx="2184480" cy="127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US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1336680" y="6769080"/>
            <a:ext cx="1066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free() called on area that was already free'd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Aborted (core dumped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336C-B1FF-4393-AE53-B2DF86A0D4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rray Asser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3428640"/>
            <a:ext cx="104648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Electric Fen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library checks for array overflow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>
            <a:off x="1743120" y="5321160"/>
            <a:ext cx="106678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 gcc -g -o sample-with-efence sample.c -lef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 ./sample-with-efence 11 14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Electric Fence 2.1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Segmentation fault (core dumped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 _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8EA6-408F-4E9F-985A-A9EDB12DBE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5359320" y="4940280"/>
            <a:ext cx="6286680" cy="1270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rray Asser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5" name=""/>
          <p:cNvSpPr/>
          <p:nvPr/>
        </p:nvSpPr>
        <p:spPr>
          <a:xfrm>
            <a:off x="1195560" y="2806560"/>
            <a:ext cx="2769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s = malloc(30)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5249880" y="2819520"/>
            <a:ext cx="2080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354640" y="3568680"/>
            <a:ext cx="0" cy="13543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1272240" y="3632040"/>
            <a:ext cx="1838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  <a:ea typeface="Monaco"/>
              </a:rPr>
              <a:t>s[30] = ‘x’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1171440" y="7886880"/>
            <a:ext cx="10668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Segmentation fault (core dumped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4241880" y="4381560"/>
            <a:ext cx="990360" cy="2616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11773080" y="4267080"/>
            <a:ext cx="990360" cy="2616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874120" y="6807240"/>
            <a:ext cx="5637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MU detects access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4711680" y="5803920"/>
            <a:ext cx="1282680" cy="1282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1391840" y="5603760"/>
            <a:ext cx="1036800" cy="1482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12120480" y="5207040"/>
            <a:ext cx="282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x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FD44-BC84-4FFE-B5D6-B09B9ADB45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emory Asser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2640" y="3072960"/>
            <a:ext cx="10706040" cy="628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2919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Valgrin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ol check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l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memory accesse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19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19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19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19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29196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algrind works as 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terpret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or x86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1730520" y="4660920"/>
            <a:ext cx="1214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 valgrind sample 11 14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Invalid read of size 4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at 0x804851F: shell_sort (sample.c:18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by 0x8048646: main (sample.c:35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by 0x40220A50: __libc_start_main (in /lib/libc.s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  </a:t>
            </a:r>
            <a:r>
              <a:rPr b="0" lang="en-US" sz="2800" spc="-1" strike="noStrike">
                <a:solidFill>
                  <a:srgbClr val="ff6666"/>
                </a:solidFill>
                <a:latin typeface="Monaco"/>
                <a:ea typeface="Monaco"/>
              </a:rPr>
              <a:t>by 0x80483D0: (within /home/zeller/sampl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6974-0822-4C66-91D4-F7BD5FDC21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