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5.png" ContentType="image/png"/>
  <Override PartName="/ppt/media/image5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13.png" ContentType="image/png"/>
  <Override PartName="/ppt/media/image37.png" ContentType="image/png"/>
  <Override PartName="/ppt/media/image41.jpeg" ContentType="image/jpeg"/>
  <Override PartName="/ppt/media/image42.png" ContentType="image/png"/>
  <Override PartName="/ppt/media/image1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ttp://www.concordesst.com/accident/accidentindex.ht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76E0-898D-4C99-829D-4262C0FB6F9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1362-9B8C-4213-92A7-4967B397F7C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AB0F-6FC8-4152-9CF9-170061F00D2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5EFA-78D8-4098-93D3-7BF6E694B3B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1595-8918-4E63-83F7-AF63ADC3667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7884-6DD8-4A07-838F-3BEEA5205A3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3698-5448-4555-9DBE-28DFA75C13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0755-AD33-4A09-BBC9-B479488D46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D528-6600-4884-B228-F8369E3F9F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4890-949A-4D9E-9E20-E43FB9A9C3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A62F-1911-4D61-BF02-E5FFB9F6FE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60D2-A3A7-431F-B465-0890352306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15336-6453-4929-8842-11B22B2F18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1F6DB-21D1-4A45-B220-93117A8836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5C8C-8445-4981-9926-7A01779A33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E90E-DFF8-4B09-A4A5-04C88140BD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8A9A-BFDF-4EFE-B9C4-A27FE6D4B4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6F54-F15B-483D-B7E0-1F18C7A78D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04395-790A-4985-9544-BB505673D5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8911-733A-4D6B-9B61-E292FFC185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F843-57DC-488B-AA2C-35E8FFBB05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7FC7-D57A-40DB-AFD5-4D8D162D60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0215-627B-474F-BFB3-275DC936FF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E42FA-E807-49AA-9BAC-E148846B0F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275-7A84-4010-887D-ADC98C5237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FE5-7431-41E4-AEFD-3DA215F171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C1C-A645-4058-80C1-DBE61575B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EA8-F6AD-444C-BAFA-E4EADCC6AA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E68-116A-43F0-81B0-40ED4EC588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9C3-E27B-4D6E-936F-8ABF7D56AC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F7F-BE70-495A-81E4-98D22E91FE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EAD-84C3-4BBF-8D72-2BEAC9783E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3D1-E3FC-4A26-915C-6B129CDF67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CFF-4F38-440A-A72E-1571A8FAE0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9D5-5277-4593-8D65-5236E38A0B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F01-7F72-44C8-A7C7-9262AC3E990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430D-051A-4624-BE4A-AD1E88EAAB6C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6F94-5940-4E7D-9178-0122BBC4D900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943A-7926-405B-9EBF-7619517BCC0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implifying Problem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 rot="20880000">
            <a:off x="6222960" y="5389200"/>
            <a:ext cx="781704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Gecko BugATh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636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98840" indent="-5065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wnload the Web page to your machin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ing a text editor,  start removing HTML  from the page.  Every few minutes, make sure it still reproduces the bu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de not required to reproduce the bug can be safely remov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en you’ve cut away as much as you can, you’re don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AB54-8C1B-448B-94B3-12B1FDF4EE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ward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98" name=""/>
          <p:cNvSpPr/>
          <p:nvPr/>
        </p:nvSpPr>
        <p:spPr>
          <a:xfrm>
            <a:off x="584280" y="2705040"/>
            <a:ext cx="11810880" cy="58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1842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5 bugs - invitation to the Gecko launch par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1842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10 bugs - the invitation, plus an attractive Gecko stuffed anima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1842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12 bugs - the invitation, plus an attractive Gecko stuffed animal autographed by Rick Gessner, the Father of Gecko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1842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15 bugs - the invitation, plus a Gecko T-shir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1842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20 bugs - the invitation, plus a Gecko T-shirt signed by the whole raptor tea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BC35-105E-41BD-8A40-E05760C3614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1269720" y="2692440"/>
            <a:ext cx="106678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55280" indent="-47916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ceed by binary search.  Throw away half the input and see if the output is still wron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55280" indent="-4791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f not, go back to the previous state and discard the other half of the inpu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inary Search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098000" y="6578640"/>
            <a:ext cx="8389080" cy="2082240"/>
            <a:chOff x="1098000" y="6578640"/>
            <a:chExt cx="8389080" cy="2082240"/>
          </a:xfrm>
        </p:grpSpPr>
        <p:sp>
          <p:nvSpPr>
            <p:cNvPr id="602" name=""/>
            <p:cNvSpPr/>
            <p:nvPr/>
          </p:nvSpPr>
          <p:spPr>
            <a:xfrm>
              <a:off x="1168560" y="7391160"/>
              <a:ext cx="8318520" cy="12697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98000" y="6578640"/>
              <a:ext cx="2908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HTML inpu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0183680" y="7061040"/>
            <a:ext cx="1532520" cy="2194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14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5334120" y="7391520"/>
            <a:ext cx="4152960" cy="12697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3251160" y="7391520"/>
            <a:ext cx="2082960" cy="12697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2209680" y="7391520"/>
            <a:ext cx="1041480" cy="12697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10185840" y="7061040"/>
            <a:ext cx="1532520" cy="2194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14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1168560" y="7391520"/>
            <a:ext cx="1041120" cy="12697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2730600" y="7391520"/>
            <a:ext cx="520560" cy="12697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10183680" y="7061040"/>
            <a:ext cx="1532520" cy="2194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14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10183680" y="7061040"/>
            <a:ext cx="1532520" cy="2194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14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10183680" y="7061040"/>
            <a:ext cx="1532520" cy="2194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14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10185840" y="7061040"/>
            <a:ext cx="1532520" cy="2194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14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2A9F-F0D1-4604-ADA2-5AB60773E85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implified Inpu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57480" y="5625720"/>
            <a:ext cx="10464480" cy="21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81200" indent="-4957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mplified from 896 lines to one single lin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120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quired 12 tests onl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1704960" y="3543480"/>
            <a:ext cx="9554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97D6-F821-4802-AEED-704336C35FE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enefi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42040" indent="-5342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Ease of communication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one needs is “Printing &lt;SELECT&gt; crashes”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2040" indent="-5342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Easier debugging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 can directly focus on the piece of code that prints &lt;SELECT&gt;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2040" indent="-5342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Identify duplicates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eck other test cases whether they’re &lt;SELECT&gt;-related, too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EB7D-1841-464C-98CA-82D57FC386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y automate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nual simplification i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ediou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nual simplification i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boring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 have machines for tedious and boring tasks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117D-54F6-4C2A-AF72-5E7B48E0D4F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asic Idea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 set up a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utomated tes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at checks whether the failure occurs or no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= Mozilla crashes when printing or not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 implement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trateg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at realizes the binary search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B961-8777-498C-BD04-DFBB287F605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utomated Tes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63640" indent="-5684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aunch Mozill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684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play (previously recorded) steps from problem repor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684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ait to see wheth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7644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zilla crashes (= the tes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ail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7644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zilla still runs (= the tes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ass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684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f neither happens, the test i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unresolv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5FD1-3101-4221-A367-374480D9718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inary Search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7" name=""/>
          <p:cNvSpPr/>
          <p:nvPr/>
        </p:nvSpPr>
        <p:spPr>
          <a:xfrm>
            <a:off x="11121840" y="320040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11120400" y="229860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1036800" y="2425680"/>
            <a:ext cx="988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1036800" y="4305240"/>
            <a:ext cx="988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1049400" y="3340080"/>
            <a:ext cx="988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11096280" y="416556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828800" y="2882880"/>
            <a:ext cx="8902800" cy="1803240"/>
            <a:chOff x="1828800" y="2882880"/>
            <a:chExt cx="8902800" cy="1803240"/>
          </a:xfrm>
        </p:grpSpPr>
        <p:sp>
          <p:nvSpPr>
            <p:cNvPr id="634" name=""/>
            <p:cNvSpPr/>
            <p:nvPr/>
          </p:nvSpPr>
          <p:spPr>
            <a:xfrm>
              <a:off x="1828800" y="2882880"/>
              <a:ext cx="8902800" cy="1803240"/>
            </a:xfrm>
            <a:prstGeom prst="rect">
              <a:avLst/>
            </a:prstGeom>
            <a:solidFill>
              <a:srgbClr val="6666ff">
                <a:alpha val="80000"/>
              </a:srgbClr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70200" y="3403440"/>
              <a:ext cx="858996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What do we do if </a:t>
              </a:r>
              <a:r>
                <a:rPr b="0" i="1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both halves</a:t>
              </a: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 pass?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074600" y="5435640"/>
            <a:ext cx="988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11109240" y="520704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11107440" y="627372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11134440" y="810252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6db5b"/>
                </a:solidFill>
                <a:latin typeface="Zapf Dingbats"/>
                <a:ea typeface="Zapf Dingbats"/>
              </a:rPr>
              <a:t>✔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11107440" y="7188120"/>
            <a:ext cx="767160" cy="1097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1062000" y="6413400"/>
            <a:ext cx="9882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1049400" y="7327800"/>
            <a:ext cx="988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1036800" y="8242200"/>
            <a:ext cx="988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989964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051A-70C3-45AB-A1DB-CD92724EDA7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figur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282680" y="927000"/>
            <a:ext cx="5651640" cy="4610160"/>
            <a:chOff x="1282680" y="927000"/>
            <a:chExt cx="5651640" cy="4610160"/>
          </a:xfrm>
        </p:grpSpPr>
        <p:sp>
          <p:nvSpPr>
            <p:cNvPr id="646" name=""/>
            <p:cNvSpPr/>
            <p:nvPr/>
          </p:nvSpPr>
          <p:spPr>
            <a:xfrm>
              <a:off x="1282680" y="4813200"/>
              <a:ext cx="403848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40640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All circumstance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47" name="" descr=""/>
            <p:cNvPicPr/>
            <p:nvPr/>
          </p:nvPicPr>
          <p:blipFill>
            <a:blip r:embed="rId2"/>
            <a:stretch/>
          </p:blipFill>
          <p:spPr>
            <a:xfrm>
              <a:off x="3492360" y="927000"/>
              <a:ext cx="3441960" cy="4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8" name=""/>
          <p:cNvGrpSpPr/>
          <p:nvPr/>
        </p:nvGrpSpPr>
        <p:grpSpPr>
          <a:xfrm>
            <a:off x="1282680" y="190440"/>
            <a:ext cx="5892840" cy="7061040"/>
            <a:chOff x="1282680" y="190440"/>
            <a:chExt cx="5892840" cy="7061040"/>
          </a:xfrm>
        </p:grpSpPr>
        <p:sp>
          <p:nvSpPr>
            <p:cNvPr id="649" name=""/>
            <p:cNvSpPr/>
            <p:nvPr/>
          </p:nvSpPr>
          <p:spPr>
            <a:xfrm>
              <a:off x="1282680" y="6527880"/>
              <a:ext cx="31240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31496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onfigur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3"/>
            <a:stretch/>
          </p:blipFill>
          <p:spPr>
            <a:xfrm>
              <a:off x="3251160" y="1015920"/>
              <a:ext cx="39243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4"/>
            <a:stretch/>
          </p:blipFill>
          <p:spPr>
            <a:xfrm>
              <a:off x="3251160" y="190440"/>
              <a:ext cx="12319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"/>
          <p:cNvGrpSpPr/>
          <p:nvPr/>
        </p:nvGrpSpPr>
        <p:grpSpPr>
          <a:xfrm>
            <a:off x="1282680" y="685800"/>
            <a:ext cx="4127400" cy="3162240"/>
            <a:chOff x="1282680" y="685800"/>
            <a:chExt cx="4127400" cy="3162240"/>
          </a:xfrm>
        </p:grpSpPr>
        <p:sp>
          <p:nvSpPr>
            <p:cNvPr id="653" name=""/>
            <p:cNvSpPr/>
            <p:nvPr/>
          </p:nvSpPr>
          <p:spPr>
            <a:xfrm>
              <a:off x="1282680" y="3124080"/>
              <a:ext cx="334008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33656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ircumstanc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54" name="" descr=""/>
            <p:cNvPicPr/>
            <p:nvPr/>
          </p:nvPicPr>
          <p:blipFill>
            <a:blip r:embed="rId5"/>
            <a:stretch/>
          </p:blipFill>
          <p:spPr>
            <a:xfrm>
              <a:off x="5029200" y="685800"/>
              <a:ext cx="38088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95D8-EBC9-4091-BF77-2B3564706B9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implify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ce one has reproduced a problem, one must find ou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what’s relevan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es the problem really depend on 10,000 lines of inpu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es the failure really require this exact schedul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 we need this sequence of call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3F7A-403D-4297-A900-E7226515F21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es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009080" y="1143000"/>
            <a:ext cx="6103080" cy="2532600"/>
            <a:chOff x="1009080" y="1143000"/>
            <a:chExt cx="6103080" cy="2532600"/>
          </a:xfrm>
        </p:grpSpPr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3314880" y="1143000"/>
              <a:ext cx="37972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1009080" y="3035160"/>
              <a:ext cx="40575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esting func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726840" y="965160"/>
            <a:ext cx="7573320" cy="4920480"/>
            <a:chOff x="726840" y="965160"/>
            <a:chExt cx="7573320" cy="4920480"/>
          </a:xfrm>
        </p:grpSpPr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3975120" y="965160"/>
              <a:ext cx="25146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726840" y="5245200"/>
              <a:ext cx="7573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Failure-inducing configur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918360" y="114480"/>
            <a:ext cx="7285680" cy="7828560"/>
            <a:chOff x="918360" y="114480"/>
            <a:chExt cx="7285680" cy="7828560"/>
          </a:xfrm>
        </p:grpSpPr>
        <p:sp>
          <p:nvSpPr>
            <p:cNvPr id="663" name=""/>
            <p:cNvSpPr/>
            <p:nvPr/>
          </p:nvSpPr>
          <p:spPr>
            <a:xfrm>
              <a:off x="918360" y="7302600"/>
              <a:ext cx="5688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elevant configur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4"/>
            <a:stretch/>
          </p:blipFill>
          <p:spPr>
            <a:xfrm>
              <a:off x="2235240" y="939960"/>
              <a:ext cx="5968800" cy="5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" descr=""/>
            <p:cNvPicPr/>
            <p:nvPr/>
          </p:nvPicPr>
          <p:blipFill>
            <a:blip r:embed="rId5"/>
            <a:stretch/>
          </p:blipFill>
          <p:spPr>
            <a:xfrm>
              <a:off x="5219640" y="114480"/>
              <a:ext cx="1397160" cy="50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3E73-8373-4A1F-A14D-CB07483AA32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inary Strateg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889200" y="977760"/>
            <a:ext cx="7632360" cy="3459960"/>
            <a:chOff x="889200" y="977760"/>
            <a:chExt cx="7632360" cy="3459960"/>
          </a:xfrm>
        </p:grpSpPr>
        <p:sp>
          <p:nvSpPr>
            <p:cNvPr id="668" name=""/>
            <p:cNvSpPr/>
            <p:nvPr/>
          </p:nvSpPr>
          <p:spPr>
            <a:xfrm>
              <a:off x="889200" y="3797280"/>
              <a:ext cx="6700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f removing first half fails…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69" name="" descr=""/>
            <p:cNvPicPr/>
            <p:nvPr/>
          </p:nvPicPr>
          <p:blipFill>
            <a:blip r:embed="rId2"/>
            <a:stretch/>
          </p:blipFill>
          <p:spPr>
            <a:xfrm>
              <a:off x="1917720" y="977760"/>
              <a:ext cx="660384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"/>
          <p:cNvGrpSpPr/>
          <p:nvPr/>
        </p:nvGrpSpPr>
        <p:grpSpPr>
          <a:xfrm>
            <a:off x="809280" y="901800"/>
            <a:ext cx="7725240" cy="5072760"/>
            <a:chOff x="809280" y="901800"/>
            <a:chExt cx="7725240" cy="5072760"/>
          </a:xfrm>
        </p:grpSpPr>
        <p:sp>
          <p:nvSpPr>
            <p:cNvPr id="671" name=""/>
            <p:cNvSpPr/>
            <p:nvPr/>
          </p:nvSpPr>
          <p:spPr>
            <a:xfrm>
              <a:off x="809280" y="5334120"/>
              <a:ext cx="7501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f removing second half fails…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72" name="" descr=""/>
            <p:cNvPicPr/>
            <p:nvPr/>
          </p:nvPicPr>
          <p:blipFill>
            <a:blip r:embed="rId3"/>
            <a:stretch/>
          </p:blipFill>
          <p:spPr>
            <a:xfrm>
              <a:off x="1930320" y="901800"/>
              <a:ext cx="6604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3" name=""/>
          <p:cNvGrpSpPr/>
          <p:nvPr/>
        </p:nvGrpSpPr>
        <p:grpSpPr>
          <a:xfrm>
            <a:off x="747360" y="1015920"/>
            <a:ext cx="7998840" cy="6597000"/>
            <a:chOff x="747360" y="1015920"/>
            <a:chExt cx="7998840" cy="6597000"/>
          </a:xfrm>
        </p:grpSpPr>
        <p:sp>
          <p:nvSpPr>
            <p:cNvPr id="674" name=""/>
            <p:cNvSpPr/>
            <p:nvPr/>
          </p:nvSpPr>
          <p:spPr>
            <a:xfrm>
              <a:off x="747360" y="6972480"/>
              <a:ext cx="79988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Otherwise, increase granularity: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75" name="" descr=""/>
            <p:cNvPicPr/>
            <p:nvPr/>
          </p:nvPicPr>
          <p:blipFill>
            <a:blip r:embed="rId4"/>
            <a:stretch/>
          </p:blipFill>
          <p:spPr>
            <a:xfrm>
              <a:off x="3035160" y="1015920"/>
              <a:ext cx="4394520" cy="34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6" name="" descr=""/>
          <p:cNvPicPr/>
          <p:nvPr/>
        </p:nvPicPr>
        <p:blipFill>
          <a:blip r:embed="rId5"/>
          <a:stretch/>
        </p:blipFill>
        <p:spPr>
          <a:xfrm>
            <a:off x="2336760" y="8826480"/>
            <a:ext cx="8318520" cy="343080"/>
          </a:xfrm>
          <a:prstGeom prst="rect">
            <a:avLst/>
          </a:prstGeom>
          <a:ln w="0">
            <a:noFill/>
          </a:ln>
        </p:spPr>
      </p:pic>
      <p:grpSp>
        <p:nvGrpSpPr>
          <p:cNvPr id="677" name=""/>
          <p:cNvGrpSpPr/>
          <p:nvPr/>
        </p:nvGrpSpPr>
        <p:grpSpPr>
          <a:xfrm>
            <a:off x="1139040" y="1015920"/>
            <a:ext cx="5338080" cy="1897920"/>
            <a:chOff x="1139040" y="1015920"/>
            <a:chExt cx="5338080" cy="1897920"/>
          </a:xfrm>
        </p:grpSpPr>
        <p:pic>
          <p:nvPicPr>
            <p:cNvPr id="678" name="" descr=""/>
            <p:cNvPicPr/>
            <p:nvPr/>
          </p:nvPicPr>
          <p:blipFill>
            <a:blip r:embed="rId6"/>
            <a:stretch/>
          </p:blipFill>
          <p:spPr>
            <a:xfrm>
              <a:off x="3987720" y="1015920"/>
              <a:ext cx="248940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1139040" y="2273400"/>
              <a:ext cx="2541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Split inpu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B22C-29B2-4BD5-9EC2-BDD508E0279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General Strateg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819000" y="965160"/>
            <a:ext cx="8224200" cy="2113560"/>
            <a:chOff x="819000" y="965160"/>
            <a:chExt cx="8224200" cy="2113560"/>
          </a:xfrm>
        </p:grpSpPr>
        <p:sp>
          <p:nvSpPr>
            <p:cNvPr id="682" name=""/>
            <p:cNvSpPr/>
            <p:nvPr/>
          </p:nvSpPr>
          <p:spPr>
            <a:xfrm>
              <a:off x="819000" y="2438280"/>
              <a:ext cx="82242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Split input into </a:t>
              </a:r>
              <a:r>
                <a:rPr b="0" i="1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n</a:t>
              </a: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 parts (initially 2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83" name="" descr=""/>
            <p:cNvPicPr/>
            <p:nvPr/>
          </p:nvPicPr>
          <p:blipFill>
            <a:blip r:embed="rId2"/>
            <a:stretch/>
          </p:blipFill>
          <p:spPr>
            <a:xfrm>
              <a:off x="2844720" y="965160"/>
              <a:ext cx="4762440" cy="3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"/>
          <p:cNvGrpSpPr/>
          <p:nvPr/>
        </p:nvGrpSpPr>
        <p:grpSpPr>
          <a:xfrm>
            <a:off x="0" y="685800"/>
            <a:ext cx="11874600" cy="4514040"/>
            <a:chOff x="0" y="685800"/>
            <a:chExt cx="11874600" cy="4514040"/>
          </a:xfrm>
        </p:grpSpPr>
        <p:sp>
          <p:nvSpPr>
            <p:cNvPr id="685" name=""/>
            <p:cNvSpPr/>
            <p:nvPr/>
          </p:nvSpPr>
          <p:spPr>
            <a:xfrm>
              <a:off x="1016280" y="4559400"/>
              <a:ext cx="56426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f some removal fails…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3"/>
            <a:stretch/>
          </p:blipFill>
          <p:spPr>
            <a:xfrm>
              <a:off x="0" y="685800"/>
              <a:ext cx="11874600" cy="97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7" name=""/>
          <p:cNvGrpSpPr/>
          <p:nvPr/>
        </p:nvGrpSpPr>
        <p:grpSpPr>
          <a:xfrm>
            <a:off x="798480" y="1092240"/>
            <a:ext cx="7855560" cy="6482520"/>
            <a:chOff x="798480" y="1092240"/>
            <a:chExt cx="7855560" cy="6482520"/>
          </a:xfrm>
        </p:grpSpPr>
        <p:sp>
          <p:nvSpPr>
            <p:cNvPr id="688" name=""/>
            <p:cNvSpPr/>
            <p:nvPr/>
          </p:nvSpPr>
          <p:spPr>
            <a:xfrm>
              <a:off x="798480" y="6934320"/>
              <a:ext cx="78555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Otherwise, increase granularity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89" name="" descr=""/>
            <p:cNvPicPr/>
            <p:nvPr/>
          </p:nvPicPr>
          <p:blipFill>
            <a:blip r:embed="rId4"/>
            <a:stretch/>
          </p:blipFill>
          <p:spPr>
            <a:xfrm>
              <a:off x="3035160" y="1092240"/>
              <a:ext cx="37339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DDA4-4520-41C0-80FF-B7B60E6AF19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dmin in a Nutshell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977760" y="3987720"/>
            <a:ext cx="5562720" cy="533520"/>
          </a:xfrm>
          <a:prstGeom prst="rect">
            <a:avLst/>
          </a:prstGeom>
          <a:ln w="0">
            <a:noFill/>
          </a:ln>
        </p:spPr>
      </p:pic>
      <p:grpSp>
        <p:nvGrpSpPr>
          <p:cNvPr id="692" name=""/>
          <p:cNvGrpSpPr/>
          <p:nvPr/>
        </p:nvGrpSpPr>
        <p:grpSpPr>
          <a:xfrm>
            <a:off x="0" y="165240"/>
            <a:ext cx="10521720" cy="3002400"/>
            <a:chOff x="0" y="165240"/>
            <a:chExt cx="10521720" cy="3002400"/>
          </a:xfrm>
        </p:grpSpPr>
        <p:pic>
          <p:nvPicPr>
            <p:cNvPr id="693" name="" descr=""/>
            <p:cNvPicPr/>
            <p:nvPr/>
          </p:nvPicPr>
          <p:blipFill>
            <a:blip r:embed="rId3"/>
            <a:stretch/>
          </p:blipFill>
          <p:spPr>
            <a:xfrm>
              <a:off x="0" y="165240"/>
              <a:ext cx="322596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3975480" y="2527200"/>
              <a:ext cx="6546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s a relevant configur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0" y="152280"/>
            <a:ext cx="11052000" cy="8273160"/>
            <a:chOff x="0" y="152280"/>
            <a:chExt cx="11052000" cy="8273160"/>
          </a:xfrm>
        </p:grpSpPr>
        <p:pic>
          <p:nvPicPr>
            <p:cNvPr id="696" name="" descr=""/>
            <p:cNvPicPr/>
            <p:nvPr/>
          </p:nvPicPr>
          <p:blipFill>
            <a:blip r:embed="rId4"/>
            <a:stretch/>
          </p:blipFill>
          <p:spPr>
            <a:xfrm>
              <a:off x="0" y="1193760"/>
              <a:ext cx="11052000" cy="22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" descr=""/>
            <p:cNvPicPr/>
            <p:nvPr/>
          </p:nvPicPr>
          <p:blipFill>
            <a:blip r:embed="rId5"/>
            <a:stretch/>
          </p:blipFill>
          <p:spPr>
            <a:xfrm>
              <a:off x="6807240" y="152280"/>
              <a:ext cx="33400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6539400" y="3835440"/>
              <a:ext cx="10782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with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99" name="" descr=""/>
            <p:cNvPicPr/>
            <p:nvPr/>
          </p:nvPicPr>
          <p:blipFill>
            <a:blip r:embed="rId6"/>
            <a:stretch/>
          </p:blipFill>
          <p:spPr>
            <a:xfrm>
              <a:off x="1612800" y="4064040"/>
              <a:ext cx="4762440" cy="5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" descr=""/>
            <p:cNvPicPr/>
            <p:nvPr/>
          </p:nvPicPr>
          <p:blipFill>
            <a:blip r:embed="rId7"/>
            <a:stretch/>
          </p:blipFill>
          <p:spPr>
            <a:xfrm>
              <a:off x="1498680" y="4826160"/>
              <a:ext cx="681984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928800" y="7785000"/>
              <a:ext cx="1570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wher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F781-4EA5-45CA-8B50-C4ADC21A547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787320" y="927000"/>
            <a:ext cx="11404800" cy="77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_ddmi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circumstances, n)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while len(circumstances) &gt;= 2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ubsets = split(circumstances, 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ome_complement_is_failing = 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subset in subsets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omplement = listminus(circumstances, subset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test(complement) == FAIL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ircumstances = comple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 = max(n - 1, 2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ome_complement_is_failing = 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not some_complement_is_failing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n == len(circumstances)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 = min(n * 2, len(circumstances)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43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circumstanc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512-3DCF-42AD-BA0A-B0AFD162DFA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-1193760" y="-6553080"/>
            <a:ext cx="17143200" cy="2435220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dmin at Work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E89B-EB1F-4DC4-A21D-05FC8774AD6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mplexit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269720" y="3149640"/>
            <a:ext cx="10464840" cy="306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maximal number of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dmi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ests 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5041800" y="5689440"/>
            <a:ext cx="2921040" cy="10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A3FD-8B7B-4112-927F-413DD6E7035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orst Case Detail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4013280" y="3949560"/>
            <a:ext cx="6794280" cy="96552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10960200" y="4216320"/>
            <a:ext cx="1549440" cy="4190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710280" y="2476440"/>
            <a:ext cx="8926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First phase: every test is unresolv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" name=""/>
          <p:cNvSpPr/>
          <p:nvPr/>
        </p:nvSpPr>
        <p:spPr>
          <a:xfrm>
            <a:off x="488160" y="5397480"/>
            <a:ext cx="10341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econd phase: testing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as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set always fai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3695760" y="3530520"/>
            <a:ext cx="5549760" cy="41904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695760" y="6337440"/>
            <a:ext cx="7416720" cy="4572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6"/>
          <a:stretch/>
        </p:blipFill>
        <p:spPr>
          <a:xfrm>
            <a:off x="4127400" y="7086600"/>
            <a:ext cx="6147000" cy="43164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"/>
          <a:stretch/>
        </p:blipFill>
        <p:spPr>
          <a:xfrm>
            <a:off x="4102200" y="7721640"/>
            <a:ext cx="6184800" cy="101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F0E0-57DA-4BEC-8D7B-E0F9F4DCF0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inary Search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f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re is only one failure-inducing circumstance, a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configurations that include this circumstance fail,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0540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number of tests is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6692760" y="7493040"/>
            <a:ext cx="2882880" cy="46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5685-2A06-4C69-8259-286A4777A41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ore Simplific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mplified failure-inducing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uzz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nput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LEX crashes on 2,121 or more non-newline charact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ROFF crashes on “\D^J%0F” or “\302\n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RTPLOT crashes on “t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484D-5B96-4909-B1B7-BB060DD5617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y simplify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827360" y="2614680"/>
            <a:ext cx="9348480" cy="602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7B978-8545-4702-AC03-A49819D2239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inimal Inter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23" name=""/>
          <p:cNvSpPr/>
          <p:nvPr/>
        </p:nvSpPr>
        <p:spPr>
          <a:xfrm>
            <a:off x="1193760" y="2629080"/>
            <a:ext cx="106171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Ok the following operations cause mozilla to crash consistently on my machin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Start mozill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Go to bugzilla.mozilla.org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Select search for bug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8000"/>
                </a:solidFill>
                <a:latin typeface="Comic Sans MS"/>
                <a:ea typeface="Comic Sans MS"/>
              </a:rPr>
              <a:t>-&gt; Print to file setting the bottom and right margins to .50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8000"/>
                </a:solidFill>
                <a:latin typeface="Comic Sans MS"/>
                <a:ea typeface="Comic Sans MS"/>
              </a:rPr>
              <a:t>   </a:t>
            </a:r>
            <a:r>
              <a:rPr b="0" lang="en-US" sz="3000" spc="-1" strike="noStrike">
                <a:solidFill>
                  <a:srgbClr val="ff8000"/>
                </a:solidFill>
                <a:latin typeface="Comic Sans MS"/>
                <a:ea typeface="Comic Sans MS"/>
              </a:rPr>
              <a:t>(I use the file /var/tmp/netscape.ps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8000"/>
                </a:solidFill>
                <a:latin typeface="Comic Sans MS"/>
                <a:ea typeface="Comic Sans MS"/>
              </a:rPr>
              <a:t>-&gt; Once it's done printing do the exact same thing again on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8000"/>
                </a:solidFill>
                <a:latin typeface="Comic Sans MS"/>
                <a:ea typeface="Comic Sans MS"/>
              </a:rPr>
              <a:t>   </a:t>
            </a:r>
            <a:r>
              <a:rPr b="0" lang="en-US" sz="3000" spc="-1" strike="noStrike">
                <a:solidFill>
                  <a:srgbClr val="ff8000"/>
                </a:solidFill>
                <a:latin typeface="Comic Sans MS"/>
                <a:ea typeface="Comic Sans MS"/>
              </a:rPr>
              <a:t>the same file (/var/tmp/netscape.ps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8000"/>
                </a:solidFill>
                <a:latin typeface="Comic Sans MS"/>
                <a:ea typeface="Comic Sans MS"/>
              </a:rPr>
              <a:t>-&gt; This causes the browser to crash with a segfaul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88AA-C08C-4CD6-A5D0-4B651E65BAF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inimal Inter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asic idea: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pply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dmi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 recorded user intera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952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reproduce the Mozilla printing crash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es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while holding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l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es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mouse button 1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leas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mouse button 1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0614-26A3-41FD-89A9-AD47128BD20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ptimiz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ch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op Earl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yntactic Simplifi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olate Differences, not Circumstanc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53AE-746D-4AC4-86DB-CA7FFE09879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ach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asic idea: store the results of earlier test(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aves 8 out of 48 tests in &lt;SELECT&gt; examp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4413-B2E3-43F0-BB2B-25B208B6E71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top Earl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e may stop simplification whe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certai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granularit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has been reach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ogres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has been ma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certai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mount of tim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has elaps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C2B6-5579-41BE-ABD3-34DB4C35CEA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50680" y="253800"/>
            <a:ext cx="113029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yntactic Simplific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-3683160" y="-380880"/>
            <a:ext cx="13600440" cy="956628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806480" y="2590920"/>
            <a:ext cx="9554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7531200" y="2527200"/>
            <a:ext cx="4267080" cy="6921360"/>
            <a:chOff x="7531200" y="2527200"/>
            <a:chExt cx="4267080" cy="6921360"/>
          </a:xfrm>
        </p:grpSpPr>
        <p:sp>
          <p:nvSpPr>
            <p:cNvPr id="736" name=""/>
            <p:cNvSpPr/>
            <p:nvPr/>
          </p:nvSpPr>
          <p:spPr>
            <a:xfrm>
              <a:off x="7531200" y="5626080"/>
              <a:ext cx="2730600" cy="3822480"/>
            </a:xfrm>
            <a:prstGeom prst="rect">
              <a:avLst/>
            </a:prstGeom>
            <a:gradFill rotWithShape="0">
              <a:gsLst>
                <a:gs pos="0">
                  <a:srgbClr val="282831">
                    <a:alpha val="89411"/>
                  </a:srgbClr>
                </a:gs>
                <a:gs pos="100000">
                  <a:srgbClr val="464456">
                    <a:alpha val="89411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918720" y="2527200"/>
              <a:ext cx="1879560" cy="965160"/>
            </a:xfrm>
            <a:prstGeom prst="rect">
              <a:avLst/>
            </a:prstGeom>
            <a:gradFill rotWithShape="0">
              <a:gsLst>
                <a:gs pos="0">
                  <a:srgbClr val="0b0a0d">
                    <a:alpha val="80392"/>
                  </a:srgbClr>
                </a:gs>
                <a:gs pos="100000">
                  <a:srgbClr val="141418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930320" y="2692440"/>
            <a:ext cx="7988400" cy="6756480"/>
            <a:chOff x="1930320" y="2692440"/>
            <a:chExt cx="7988400" cy="6756480"/>
          </a:xfrm>
        </p:grpSpPr>
        <p:sp>
          <p:nvSpPr>
            <p:cNvPr id="739" name=""/>
            <p:cNvSpPr/>
            <p:nvPr/>
          </p:nvSpPr>
          <p:spPr>
            <a:xfrm>
              <a:off x="1930320" y="5473800"/>
              <a:ext cx="3238560" cy="3975120"/>
            </a:xfrm>
            <a:prstGeom prst="rect">
              <a:avLst/>
            </a:prstGeom>
            <a:gradFill rotWithShape="0">
              <a:gsLst>
                <a:gs pos="0">
                  <a:srgbClr val="262631">
                    <a:alpha val="90196"/>
                  </a:srgbClr>
                </a:gs>
                <a:gs pos="100000">
                  <a:srgbClr val="464657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68880" y="6197760"/>
              <a:ext cx="2362320" cy="3251160"/>
            </a:xfrm>
            <a:prstGeom prst="rect">
              <a:avLst/>
            </a:prstGeom>
            <a:gradFill rotWithShape="0">
              <a:gsLst>
                <a:gs pos="0">
                  <a:srgbClr val="2d2b38">
                    <a:alpha val="90196"/>
                  </a:srgbClr>
                </a:gs>
                <a:gs pos="100000">
                  <a:srgbClr val="464657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24080" y="2692440"/>
              <a:ext cx="6794640" cy="609480"/>
            </a:xfrm>
            <a:prstGeom prst="rect">
              <a:avLst/>
            </a:prstGeom>
            <a:gradFill rotWithShape="0">
              <a:gsLst>
                <a:gs pos="0">
                  <a:srgbClr val="0b0a0d">
                    <a:alpha val="80392"/>
                  </a:srgbClr>
                </a:gs>
                <a:gs pos="100000">
                  <a:srgbClr val="141418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0E5B-06A8-4DAD-B043-21988193E24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iffer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3" name=""/>
          <p:cNvSpPr/>
          <p:nvPr/>
        </p:nvSpPr>
        <p:spPr>
          <a:xfrm>
            <a:off x="1704960" y="3124080"/>
            <a:ext cx="9554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4" name=""/>
          <p:cNvSpPr/>
          <p:nvPr/>
        </p:nvSpPr>
        <p:spPr>
          <a:xfrm>
            <a:off x="1704960" y="7645320"/>
            <a:ext cx="9554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180440" y="3860640"/>
            <a:ext cx="9279000" cy="3954240"/>
            <a:chOff x="1180440" y="3860640"/>
            <a:chExt cx="9279000" cy="3954240"/>
          </a:xfrm>
        </p:grpSpPr>
        <p:sp>
          <p:nvSpPr>
            <p:cNvPr id="746" name=""/>
            <p:cNvSpPr/>
            <p:nvPr/>
          </p:nvSpPr>
          <p:spPr>
            <a:xfrm>
              <a:off x="2506320" y="5371920"/>
              <a:ext cx="7953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he extra “&lt;” is failure-inducing!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95640" y="3860640"/>
              <a:ext cx="1347480" cy="1444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1180440" y="6069960"/>
              <a:ext cx="1515960" cy="174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9C10-6BD2-429F-87EA-79590C2F1CC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ore Circumsta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5562720" y="4902120"/>
            <a:ext cx="3195360" cy="239724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751" name=""/>
          <p:cNvSpPr/>
          <p:nvPr/>
        </p:nvSpPr>
        <p:spPr>
          <a:xfrm>
            <a:off x="6043320" y="5715000"/>
            <a:ext cx="22136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rogr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2" name=""/>
          <p:cNvSpPr/>
          <p:nvPr/>
        </p:nvSpPr>
        <p:spPr>
          <a:xfrm>
            <a:off x="4375800" y="8178840"/>
            <a:ext cx="11786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054040" y="7505640"/>
            <a:ext cx="749160" cy="749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4" name=""/>
          <p:cNvSpPr/>
          <p:nvPr/>
        </p:nvSpPr>
        <p:spPr>
          <a:xfrm>
            <a:off x="385200" y="6527880"/>
            <a:ext cx="406692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User Intera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4355280" y="6667200"/>
            <a:ext cx="1042920" cy="298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6" name=""/>
          <p:cNvSpPr/>
          <p:nvPr/>
        </p:nvSpPr>
        <p:spPr>
          <a:xfrm>
            <a:off x="698400" y="4813200"/>
            <a:ext cx="367056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mmuni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7" name=""/>
          <p:cNvSpPr/>
          <p:nvPr/>
        </p:nvSpPr>
        <p:spPr>
          <a:xfrm>
            <a:off x="4292640" y="5232240"/>
            <a:ext cx="1079640" cy="3924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8" name=""/>
          <p:cNvSpPr/>
          <p:nvPr/>
        </p:nvSpPr>
        <p:spPr>
          <a:xfrm>
            <a:off x="3632040" y="3416400"/>
            <a:ext cx="283212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Randomnes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9" name=""/>
          <p:cNvSpPr/>
          <p:nvPr/>
        </p:nvSpPr>
        <p:spPr>
          <a:xfrm>
            <a:off x="5092560" y="4152960"/>
            <a:ext cx="611280" cy="4777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0" name=""/>
          <p:cNvSpPr/>
          <p:nvPr/>
        </p:nvSpPr>
        <p:spPr>
          <a:xfrm>
            <a:off x="7658280" y="3416400"/>
            <a:ext cx="406368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Operating Syst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45600" y="4165560"/>
            <a:ext cx="769680" cy="601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2" name=""/>
          <p:cNvSpPr/>
          <p:nvPr/>
        </p:nvSpPr>
        <p:spPr>
          <a:xfrm>
            <a:off x="10274400" y="4800600"/>
            <a:ext cx="228600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311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chedu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8953200" y="5168880"/>
            <a:ext cx="1306440" cy="1602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4" name=""/>
          <p:cNvSpPr/>
          <p:nvPr/>
        </p:nvSpPr>
        <p:spPr>
          <a:xfrm>
            <a:off x="10617120" y="6515280"/>
            <a:ext cx="1650960" cy="7236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67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hysic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5" name=""/>
          <p:cNvSpPr/>
          <p:nvPr/>
        </p:nvSpPr>
        <p:spPr>
          <a:xfrm flipH="1" flipV="1">
            <a:off x="9042480" y="6629040"/>
            <a:ext cx="1573200" cy="304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6" name=""/>
          <p:cNvSpPr/>
          <p:nvPr/>
        </p:nvSpPr>
        <p:spPr>
          <a:xfrm>
            <a:off x="7886880" y="8140680"/>
            <a:ext cx="3606480" cy="723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3632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ebugging Too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8381520" y="7442280"/>
            <a:ext cx="800280" cy="799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8B42-AA20-4AFE-AADF-75F5196C5BE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ore Autom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ailure-Inducing In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ailure-Inducing Code Chang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ailure-Inducing Schedu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ailure-Inducing Program Stat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B4B4-7727-443C-AA5A-E6B25F9CD92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37720" indent="-52956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aim of simplification is to create a simpl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est cas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rom a problem repor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7720" indent="-52956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mplified test cases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85560" indent="-5342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re easier to communic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85560" indent="-5342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acilitate debugg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85560" indent="-5342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dentify duplicate problem repor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CED5-C8D0-4DE3-81C6-13B13D17C34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implify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r every circumstance of the problem, check whether it is relevant for the problem to occur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f it is not, remove it from the problem report or the test case in ques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6DB9-FF78-47BB-95E7-26528DDB5E3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2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simplify a test case, remove all irrelevant circumstance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circumstance is irrelevant if the problem occurs regardless of whether the circumstance is present or no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E76C-1F06-4A0C-8A78-B9AFE071A7A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3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automate simplification, set up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utomated te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trateg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 determine the relevant circumstanc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e such strategy is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dmi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delta debugging algorith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2250-9E60-4BFB-AD56-3EC948884B0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5CE-B083-4428-BDB3-8A3D4DFD7E5B}" type="slidenum">
              <a:t>42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ircumsta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y aspect that may influence a problem is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ircumstanc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pects of the problem environ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dividual steps of the problem histo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3C41-C890-41C6-9658-EA55C594ED6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xperiment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y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xperimenta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 one finds out whether a circumstance is relevant or not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mit the circumstance and try to reproduce the proble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circumstance is relevant iff the problem no longer occur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E53C-EDBB-4153-B950-4D32B7611F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ozilla Bug #24735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7" name=""/>
          <p:cNvSpPr/>
          <p:nvPr/>
        </p:nvSpPr>
        <p:spPr>
          <a:xfrm>
            <a:off x="1193760" y="2629080"/>
            <a:ext cx="106171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Ok the following operations cause mozilla to crash consistently on my machin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Start mozill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Go to bugzilla.mozilla.org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Select search for bug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Print to file setting the bottom and right margins to .50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(I use the file /var/tmp/netscape.ps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Once it's done printing do the exact same thing again on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the same file (/var/tmp/netscape.ps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This causes the browser to crash with a segfaul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A7F6-CF99-49FE-A770-F58C0E34B6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2600" y="-609480"/>
            <a:ext cx="12979440" cy="13893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&lt;td align=left valign=top&gt;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op_sys" MULTIPLE SIZE=7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&lt;OPTION VALUE="All"&gt;All&lt;OPTION VALUE="Windows 3.1"&gt;Windows 3.1&lt;OPTION VALUE="Windows 95"&gt;Windows 95&lt;OPTION VALUE="Windows 98"&gt;Windows 98&lt;OPTION VALUE="Windows ME"&gt;Windows ME&lt;OPTION VALUE="Windows 2000"&gt;Windows 2000&lt;OPTION VALUE="Windows NT"&gt;Windows NT&lt;OPTION VALUE="Mac System 7"&gt;Mac System 7&lt;OPTION VALUE="Mac System 7.5"&gt;Mac System 7.5&lt;OPTION VALUE="Mac System 7.6.1"&gt;Mac System 7.6.1&lt;OPTION VALUE="Mac System 8.0"&gt;Mac System 8.0&lt;OPTION VALUE="Mac System 8.5"&gt;Mac System 8.5&lt;OPTION VALUE="Mac System 8.6"&gt;Mac System 8.6&lt;OPTION VALUE="Mac System 9.x"&gt;Mac System 9.x&lt;OPTION VALUE="MacOS X"&gt;MacOS X&lt;OPTION VALUE="Linux"&gt;Linux&lt;OPTION VALUE="BSDI"&gt;BSDI&lt;OPTION VALUE="FreeBSD"&gt;FreeBSD&lt;OPTION VALUE="NetBSD"&gt;NetBSD&lt;OPTION VALUE="OpenBSD"&gt;OpenBSD&lt;OPTION VALUE="AIX"&gt;AIX&lt;OPTION VALUE="BeOS"&gt;BeOS&lt;OPTION VALUE="HP-UX"&gt;HP-UX&lt;OPTION VALUE="IRIX"&gt;IRIX&lt;OPTION VALUE="Neutrino"&gt;Neutrino&lt;OPTION VALUE="OpenVMS"&gt;OpenVMS&lt;OPTION VALUE="OS/2"&gt;OS/2&lt;OPTION VALUE="OSF/1"&gt;OSF/1&lt;OPTION VALUE="Solaris"&gt;Solaris&lt;OPTION VALUE="SunOS"&gt;SunOS&lt;OPTION VALUE="other"&gt;other&lt;/SELECT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&lt;/td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&lt;td align=left valign=top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priority" MULTIPLE SIZE=7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&lt;OPTION VALUE="--"&gt;--&lt;OPTION VALUE="P1"&gt;P1&lt;OPTION VALUE="P2"&gt;P2&lt;OPTION VALUE="P3"&gt;P3&lt;OPTION VALUE="P4"&gt;P4&lt;OPTION VALUE="P5"&gt;P5&lt;/SELECT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&lt;/td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&lt;td align=left valign=to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&lt;SELECT NAME="bug_severity" MULTIPLE SIZE=7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&lt;OPTION VALUE="blocker"&gt;blocker&lt;OPTION VALUE="critical"&gt;critical&lt;OPTION VALUE="major"&gt;major&lt;OPTION VALUE="normal"&gt;normal&lt;OPTION VALUE="minor"&gt;minor&lt;OPTION VALUE="trivial"&gt;trivial&lt;OPTION VALUE="enhancement"&gt;enhancement&lt;/SELECT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ugzilla.mozilla.or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187800" y="4863960"/>
            <a:ext cx="6616440" cy="1295280"/>
            <a:chOff x="3187800" y="4863960"/>
            <a:chExt cx="6616440" cy="1295280"/>
          </a:xfrm>
        </p:grpSpPr>
        <p:sp>
          <p:nvSpPr>
            <p:cNvPr id="591" name=""/>
            <p:cNvSpPr/>
            <p:nvPr/>
          </p:nvSpPr>
          <p:spPr>
            <a:xfrm>
              <a:off x="3187800" y="4863960"/>
              <a:ext cx="6616440" cy="1295280"/>
            </a:xfrm>
            <a:prstGeom prst="rect">
              <a:avLst/>
            </a:prstGeom>
            <a:blipFill rotWithShape="0">
              <a:blip r:embed="rId2">
                <a:alphaModFix amt="90000"/>
              </a:blip>
              <a:srcRect/>
              <a:tile tx="0" ty="0" sx="100000" sy="100000" algn="ctr"/>
            </a:blip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04600" y="5130720"/>
              <a:ext cx="59810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What’s relevant in here?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2093-F31D-4DE1-9AB9-1B43091F1A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y simplify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Ease of communication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simplified test case is easier to communicat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Easier debugging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maller test cases result in smaller states and shorter execution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Identify duplicates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mplified test cas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ubsum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several duplicate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1B0D-11F1-4A2C-B325-2EAD2B0CA96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