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10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http://www.varsityclub.harvard.edu/Logos/teddy.gif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Daysleeper, by R.E.M.  (Image from amazon.com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@Article{wagner/etal/2004/nature,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author =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{Ullrich Wagner and Steffen Gais and Hilde Haider and Rolf Verleger and Jan Born},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title =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{Sleep inspires insight},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journal =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{Nature},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year =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2004,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volume =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427,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pages =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{325--355}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A090E-0B05-4503-8B25-E64BCA80896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6239C-105D-4026-A50A-438D20B3737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B5C95-6287-4A85-91B8-1D08893CD8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6CCA5-7A2C-4004-A259-C8DD984F55A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6479A-2071-4272-962A-6F3BD1B7004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22130-95FA-4EA0-8459-4DB0AB55E9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2A8FE-0FE1-4158-8EF8-80D05F76D21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C9841-DA2E-4B37-A654-5D6DAF5E066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D1BAF-A952-4040-AB5E-003603FBF08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CC35-50E5-4D3D-AF56-0E0BB3B46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80E1-C791-4528-96C1-112836FA78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2618-BA57-4A4A-9352-350DBBDE746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5CD0-6899-4B27-AF93-89797AB0F4F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0813-5BBE-417B-A2BC-43020CE6A9A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1862-E1F3-48F6-B685-AF3B3449926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6B13-C166-41C0-B5E8-EAF05D62C49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AE19-D164-4D25-8264-F831E030724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7E58-A20A-402E-A028-77150C7DC0A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FE6F-5807-45C7-97BC-BFC9099F00A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F06B-17E7-419A-8EC2-06B99CEAB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FBCB-776D-4433-9A01-4BB613757AF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D2A37-95AA-4E06-8192-1C91EB56E1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81079-459D-409A-8910-C4C5B0709E6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5657D-B192-44AA-81E6-848C4F8CC19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C260B1-7F73-4DC2-86A5-2C261F6A201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ECB77-BAF1-49D0-8C97-3774F29BFB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4A2FB-2318-4617-A54D-E342E447C9A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5FB46-5656-4AC3-A859-152831B913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B78EA-D18A-492D-ADD0-C1E55A6E61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9F1E3-43AA-4390-8EF3-B20759256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2E30-124D-4042-B288-D1693D96F5A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633F6-3350-4C4B-A68B-6AA973DDDFE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50858-F684-48CB-ACCD-89158A293BF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69423-F9F9-44CC-A812-4ABA209D59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9028-9526-4DD1-9596-E578A6B4E1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A81D-5C3E-4DD6-98EC-58BF4D9458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14C4-955E-49B0-9CB8-5FE3D9127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11CA-8859-4019-AEA3-E9E97F80D4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0C6E-AE4B-40D8-A7E8-BDF70225A9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B104-47EE-4E12-AB51-3AD9F1145B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3424-44DA-4050-9575-C5F80A866F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384E-3411-4C31-BD3E-E2AA92980B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5AFE-4714-43BB-A6B8-63F69B6711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8976-7CD3-4B6C-9511-9C400B0584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6033-7006-431E-8159-DF0AE3E7D1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83B9-D1CF-4006-ACE3-4F6E6DCC4C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6F8D-C9CA-4304-8077-457370E66A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E0A3-964F-44BF-9229-288C6E659F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B8D5-0264-4204-B8C5-EEF9ED3AF3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8719-DABC-4A3F-945E-46C5893D5B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1187-5FB6-4706-A33B-099D6DE26B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AD43-3199-4F8F-8F02-9A10C5E58B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CF23-E9E7-4EFA-AD96-7A7B89F0AC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E29D-1007-4160-87A4-FA8D0213F7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DB46-2852-4EC5-AAA0-BC03173978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FF52-2F02-4322-AD87-2149E941F5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58B1-636C-4CE9-8FC6-6100357CD0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136-8311-4965-8E72-A1D61337CC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BBC-E413-4F84-8F68-BE680AF0C9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272-FB2C-40BA-9CA3-6333CCA7B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2CA-108D-4B81-A315-608E273F77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7CB-4A1E-4B22-BA8C-D913609295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3D6-2A16-48A4-9D43-B5E5345875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461-4CF2-42E1-A68F-85C82E5349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C3E-946D-474C-87B4-142222888B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C74-458A-444E-A322-CA0F2FF811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34D-1669-4220-A12B-EC0CF320B6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06F-8389-44CD-8ACD-4505F0D585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492-73E2-40D5-B1DF-7BDF1BF23E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758C1-4249-4DDC-ADA4-22F7B92C1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75E20-2ACC-4057-AC5A-811C75AF6B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E1DD8-0A8A-49B0-872D-81EDA6B2D13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43A5F-69FA-48DF-AE0C-712339BD3F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B2A49-AFB4-42B7-99AE-CF1B8F8A1E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F2D04-B464-4BA8-9044-55030C486C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8C95E-8EC0-49A3-9A73-BC561492B1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21E19-2BC8-417B-8F8B-2D1BEE5E880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40B09-FAF0-4ACA-B8AC-1970929695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E81F3-D836-494F-8663-4210EEDDEA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DC4C7-FD39-44D1-93AE-2AF6492C5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272F4-E5D9-41B5-BD80-0306767746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4F9B2-7B71-4DFE-A11C-47C88353FFE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4986F-E65D-4CA5-BAC9-FFEDC60DFC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87C19-8F18-4809-857E-09C973FD77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B392A-7B97-4F4E-BF44-EC9980B1955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62DF5-DF72-4AEF-A464-03DC028BF26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A58CE-4746-4244-9FF3-9538070886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23673-006A-456C-8802-3DA851723E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F926B-3258-42C1-B677-271E3AA73B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18DF1-E26B-48C7-A541-360699B50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F7E34-F134-4415-BCC2-5F3DBC65CE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4F8A8-6AE2-4642-82B3-0E0BDEFD184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C5D82-A583-44B6-B83C-15F5604D8B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352F-8B66-493D-BBEE-A97263A190E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1547-BE60-4E3D-8D87-313715F707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CEDE-540D-4960-9629-D11A84E4286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56C5-FDC4-4372-9213-C7E0816676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B15B-903C-45CF-8E01-751C805AACF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C53C-DDFA-4044-A9AC-446888E22A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0ED7-47BD-4F86-ACE7-93BAA2D29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56E7-A896-4BA4-B6FA-737B9A4CB7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F620-5CCE-4135-8BC3-76613CA8845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CB94-ED1F-44DC-8491-79C9CD011C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04CE-3915-4B76-A9F9-FCAAB3646DD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673E-319B-418F-AB64-8023826ACC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87A00F-24A2-484C-B177-E7220EF565D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79D82-AC19-42D3-865D-E5C2985E370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DF2B6-D543-48C0-BB17-FF7A994D0E2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69D97-1769-4D7F-94C7-6E86B1AEC36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93D53-BA4A-4217-9C49-E8A423B98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61C3D-B7C2-4AC7-A1B1-8B68B315075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062FC-4592-40DA-B869-19D385F7EB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777D9-2D56-4419-A754-64CE8612025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871E8-FEBB-466B-A255-61A493E1B2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CD781-AD7C-4545-A37B-C8F4A5782F8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E1AC69-86D8-4EF1-989D-E4619434180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37FFE-476C-4ADD-86C2-5D510742D6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B055E-E856-4B01-8449-BE4DBAF55B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22D0C-F284-4292-8D9C-458A45DB06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04195-2534-4C10-BFBD-08D19F7B7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7FA9-0DA3-47E1-B7C6-F95CAFB5670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69F7-A12F-45CB-9CBF-08988A1598A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9E14-3268-4AF8-AAAD-56E28CEC8E6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1F55-7971-4E54-974F-42EDC1F1461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60A9-0671-4EEE-9D6E-8E16A4DBEB9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13FB-7894-4D9F-8D73-1B32DA20241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C7C3-D383-45DB-9B57-9F2053954E2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CAC7-B908-4EC5-AF1B-24DA22BB08CD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89B1-B0CA-4C26-BA95-E4CEC7AE25E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AADA-8205-4C82-B73E-D0C2A22FC89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7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Scientific Method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10058400" y="3848040"/>
            <a:ext cx="5205240" cy="133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44520" y="253800"/>
            <a:ext cx="104904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Scientific Method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54280" indent="-5623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serve some aspect of the univers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4280" indent="-5623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vent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hypothesi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t is consistent with the observa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4280" indent="-5623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 the hypothesis to mak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ediction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4280" indent="-5623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sts the predictions by experiments or observations and modify the hypothesi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4280" indent="-5623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peat 3 and 4 to refine the hypothesi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7A21-AEE6-4CE2-852B-C827907607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Theor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55280" indent="-4791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n the hypothesis explains all experiments and observations, the hypothesis become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heor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55280" indent="-479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theory is a hypothesis th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53080" indent="-479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plains earlier observ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53080" indent="-479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edicts further observ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55280" indent="-4791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our context, a theory is called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iagnos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55280" indent="-4791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(Contrast to popular usage, where a theory is a vague guess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B0DD-B17B-4615-8DB5-02ADDB16BCB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845400" y="2768760"/>
            <a:ext cx="5634000" cy="5715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stermind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04840" y="27684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72560" indent="-4899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Mastermind game is a typical example of applying the scientific metho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reate hypotheses until the theory predicts the secre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608-7DE0-4205-A415-799EDCEF13C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44520" y="253800"/>
            <a:ext cx="104904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cientific Method of 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47640" y="4838760"/>
            <a:ext cx="2705040" cy="1396800"/>
            <a:chOff x="647640" y="4838760"/>
            <a:chExt cx="2705040" cy="1396800"/>
          </a:xfrm>
        </p:grpSpPr>
        <p:sp>
          <p:nvSpPr>
            <p:cNvPr id="465" name=""/>
            <p:cNvSpPr/>
            <p:nvPr/>
          </p:nvSpPr>
          <p:spPr>
            <a:xfrm>
              <a:off x="647640" y="4838760"/>
              <a:ext cx="2705040" cy="1396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1040" y="5155920"/>
              <a:ext cx="2657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Gill Sans"/>
                  <a:ea typeface="Gill Sans"/>
                </a:rPr>
                <a:t>Hypothesis</a:t>
              </a:r>
              <a:endParaRPr b="0" lang="en-US" sz="4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26120" y="2641680"/>
            <a:ext cx="3966120" cy="2387520"/>
            <a:chOff x="726120" y="2641680"/>
            <a:chExt cx="3966120" cy="2387520"/>
          </a:xfrm>
        </p:grpSpPr>
        <p:sp>
          <p:nvSpPr>
            <p:cNvPr id="468" name=""/>
            <p:cNvSpPr/>
            <p:nvPr/>
          </p:nvSpPr>
          <p:spPr>
            <a:xfrm>
              <a:off x="726120" y="2641680"/>
              <a:ext cx="3966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blem Repor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171520" y="3378240"/>
              <a:ext cx="734760" cy="1650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53440" y="3720960"/>
            <a:ext cx="1383120" cy="1333440"/>
            <a:chOff x="253440" y="3720960"/>
            <a:chExt cx="1383120" cy="1333440"/>
          </a:xfrm>
        </p:grpSpPr>
        <p:sp>
          <p:nvSpPr>
            <p:cNvPr id="471" name=""/>
            <p:cNvSpPr/>
            <p:nvPr/>
          </p:nvSpPr>
          <p:spPr>
            <a:xfrm>
              <a:off x="253440" y="3720960"/>
              <a:ext cx="1288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od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39600" y="4381200"/>
              <a:ext cx="696960" cy="673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4920" y="5930640"/>
            <a:ext cx="1253880" cy="1072440"/>
            <a:chOff x="394920" y="5930640"/>
            <a:chExt cx="1253880" cy="1072440"/>
          </a:xfrm>
        </p:grpSpPr>
        <p:sp>
          <p:nvSpPr>
            <p:cNvPr id="474" name=""/>
            <p:cNvSpPr/>
            <p:nvPr/>
          </p:nvSpPr>
          <p:spPr>
            <a:xfrm>
              <a:off x="394920" y="6362640"/>
              <a:ext cx="991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104120" y="5930640"/>
              <a:ext cx="544680" cy="507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89840" y="5905440"/>
            <a:ext cx="2713320" cy="2418480"/>
            <a:chOff x="789840" y="5905440"/>
            <a:chExt cx="2713320" cy="2418480"/>
          </a:xfrm>
        </p:grpSpPr>
        <p:sp>
          <p:nvSpPr>
            <p:cNvPr id="477" name=""/>
            <p:cNvSpPr/>
            <p:nvPr/>
          </p:nvSpPr>
          <p:spPr>
            <a:xfrm>
              <a:off x="789840" y="7683480"/>
              <a:ext cx="2713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ore Run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2222640" y="5905440"/>
              <a:ext cx="216000" cy="17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327480" y="4826160"/>
            <a:ext cx="3149640" cy="1396800"/>
            <a:chOff x="3327480" y="4826160"/>
            <a:chExt cx="3149640" cy="1396800"/>
          </a:xfrm>
        </p:grpSpPr>
        <p:grpSp>
          <p:nvGrpSpPr>
            <p:cNvPr id="480" name=""/>
            <p:cNvGrpSpPr/>
            <p:nvPr/>
          </p:nvGrpSpPr>
          <p:grpSpPr>
            <a:xfrm>
              <a:off x="3772080" y="4826160"/>
              <a:ext cx="2705040" cy="1396800"/>
              <a:chOff x="3772080" y="4826160"/>
              <a:chExt cx="2705040" cy="1396800"/>
            </a:xfrm>
          </p:grpSpPr>
          <p:sp>
            <p:nvSpPr>
              <p:cNvPr id="481" name=""/>
              <p:cNvSpPr/>
              <p:nvPr/>
            </p:nvSpPr>
            <p:spPr>
              <a:xfrm>
                <a:off x="3772080" y="4826160"/>
                <a:ext cx="2705040" cy="13968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17520" y="5143320"/>
                <a:ext cx="24253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Gill Sans"/>
                    <a:ea typeface="Gill Sans"/>
                  </a:rPr>
                  <a:t>Prediction</a:t>
                </a:r>
                <a:endParaRPr b="0" lang="en-US" sz="4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327480" y="553716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89720" y="4838760"/>
            <a:ext cx="3100680" cy="1396800"/>
            <a:chOff x="6489720" y="4838760"/>
            <a:chExt cx="3100680" cy="1396800"/>
          </a:xfrm>
        </p:grpSpPr>
        <p:grpSp>
          <p:nvGrpSpPr>
            <p:cNvPr id="485" name=""/>
            <p:cNvGrpSpPr/>
            <p:nvPr/>
          </p:nvGrpSpPr>
          <p:grpSpPr>
            <a:xfrm>
              <a:off x="6841800" y="4838760"/>
              <a:ext cx="2748600" cy="1396800"/>
              <a:chOff x="6841800" y="4838760"/>
              <a:chExt cx="2748600" cy="1396800"/>
            </a:xfrm>
          </p:grpSpPr>
          <p:sp>
            <p:nvSpPr>
              <p:cNvPr id="486" name=""/>
              <p:cNvSpPr/>
              <p:nvPr/>
            </p:nvSpPr>
            <p:spPr>
              <a:xfrm>
                <a:off x="6858000" y="4838760"/>
                <a:ext cx="2705040" cy="13968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41800" y="5155920"/>
                <a:ext cx="27486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Gill Sans"/>
                    <a:ea typeface="Gill Sans"/>
                  </a:rPr>
                  <a:t>Experiment</a:t>
                </a:r>
                <a:endParaRPr b="0" lang="en-US" sz="4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6489720" y="5524200"/>
              <a:ext cx="53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9550440" y="4838760"/>
            <a:ext cx="3314160" cy="1396800"/>
            <a:chOff x="9550440" y="4838760"/>
            <a:chExt cx="3314160" cy="1396800"/>
          </a:xfrm>
        </p:grpSpPr>
        <p:sp>
          <p:nvSpPr>
            <p:cNvPr id="490" name=""/>
            <p:cNvSpPr/>
            <p:nvPr/>
          </p:nvSpPr>
          <p:spPr>
            <a:xfrm>
              <a:off x="10070640" y="4838760"/>
              <a:ext cx="2705040" cy="139680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943920" y="4965480"/>
              <a:ext cx="292068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946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ff"/>
                  </a:solidFill>
                  <a:latin typeface="Gill Sans"/>
                  <a:ea typeface="Gill Sans"/>
                </a:rPr>
                <a:t>Observation</a:t>
              </a:r>
              <a:endParaRPr b="0" lang="en-US" sz="34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2946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ff"/>
                  </a:solidFill>
                  <a:latin typeface="Gill Sans"/>
                  <a:ea typeface="Gill Sans"/>
                </a:rPr>
                <a:t>+ Conclusion</a:t>
              </a:r>
              <a:endParaRPr b="0" lang="en-US" sz="3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550440" y="5536800"/>
              <a:ext cx="53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830320" y="3200400"/>
            <a:ext cx="8616960" cy="1981080"/>
            <a:chOff x="2830320" y="3200400"/>
            <a:chExt cx="8616960" cy="1981080"/>
          </a:xfrm>
        </p:grpSpPr>
        <p:sp>
          <p:nvSpPr>
            <p:cNvPr id="494" name=""/>
            <p:cNvSpPr/>
            <p:nvPr/>
          </p:nvSpPr>
          <p:spPr>
            <a:xfrm flipH="1">
              <a:off x="2830320" y="3924360"/>
              <a:ext cx="2178360" cy="1257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015520" y="3924360"/>
              <a:ext cx="52077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159560" y="3924360"/>
              <a:ext cx="1287720" cy="934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01440" y="3200400"/>
              <a:ext cx="62078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Hypothesis is supported: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31680" y="3835440"/>
              <a:ext cx="4335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efine hypothesi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946240" y="5905080"/>
            <a:ext cx="8464320" cy="1860120"/>
            <a:chOff x="2946240" y="5905080"/>
            <a:chExt cx="8464320" cy="1860120"/>
          </a:xfrm>
        </p:grpSpPr>
        <p:sp>
          <p:nvSpPr>
            <p:cNvPr id="500" name=""/>
            <p:cNvSpPr/>
            <p:nvPr/>
          </p:nvSpPr>
          <p:spPr>
            <a:xfrm flipH="1" flipV="1">
              <a:off x="2946240" y="5905080"/>
              <a:ext cx="2039760" cy="1274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016240" y="7175520"/>
              <a:ext cx="5205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0197720" y="6172200"/>
              <a:ext cx="1212840" cy="98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81160" y="6514920"/>
              <a:ext cx="5637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Hypothesis is rejected: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84760" y="7124760"/>
              <a:ext cx="5618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reate new hypothesi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995040" y="6159600"/>
            <a:ext cx="2921040" cy="3047400"/>
            <a:chOff x="9995040" y="6159600"/>
            <a:chExt cx="2921040" cy="3047400"/>
          </a:xfrm>
        </p:grpSpPr>
        <p:grpSp>
          <p:nvGrpSpPr>
            <p:cNvPr id="506" name=""/>
            <p:cNvGrpSpPr/>
            <p:nvPr/>
          </p:nvGrpSpPr>
          <p:grpSpPr>
            <a:xfrm>
              <a:off x="9995040" y="7810200"/>
              <a:ext cx="2921040" cy="1396800"/>
              <a:chOff x="9995040" y="7810200"/>
              <a:chExt cx="2921040" cy="1396800"/>
            </a:xfrm>
          </p:grpSpPr>
          <p:sp>
            <p:nvSpPr>
              <p:cNvPr id="507" name=""/>
              <p:cNvSpPr/>
              <p:nvPr/>
            </p:nvSpPr>
            <p:spPr>
              <a:xfrm>
                <a:off x="10096560" y="7810200"/>
                <a:ext cx="2705040" cy="139680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995040" y="8152920"/>
                <a:ext cx="2921040" cy="68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29462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Gill Sans"/>
                    <a:ea typeface="Gill Sans"/>
                  </a:rPr>
                  <a:t>Diagnosis</a:t>
                </a:r>
                <a:endParaRPr b="0" lang="en-US" sz="4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11455560" y="6159600"/>
              <a:ext cx="0" cy="1726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3879-352C-42F5-9C88-5C0A449EA2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Sample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1" name=""/>
          <p:cNvSpPr/>
          <p:nvPr/>
        </p:nvSpPr>
        <p:spPr>
          <a:xfrm>
            <a:off x="3056760" y="2959200"/>
            <a:ext cx="314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sample 9 8 7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2044800" y="297180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2539080" y="36831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6db5c"/>
                </a:solidFill>
                <a:latin typeface="Monaco"/>
                <a:ea typeface="Monaco"/>
              </a:rPr>
              <a:t>Output: 7 8 9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044800" y="4889520"/>
            <a:ext cx="4257360" cy="787320"/>
            <a:chOff x="2044800" y="4889520"/>
            <a:chExt cx="4257360" cy="787320"/>
          </a:xfrm>
        </p:grpSpPr>
        <p:sp>
          <p:nvSpPr>
            <p:cNvPr id="515" name=""/>
            <p:cNvSpPr/>
            <p:nvPr/>
          </p:nvSpPr>
          <p:spPr>
            <a:xfrm>
              <a:off x="2986560" y="4889520"/>
              <a:ext cx="3315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sample 11 14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44800" y="4902120"/>
              <a:ext cx="4572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$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539080" y="56642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Monaco"/>
                <a:ea typeface="Monaco"/>
              </a:rPr>
              <a:t>Output: 0 11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2031840" y="7162920"/>
            <a:ext cx="9804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3628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et’s use the scientific method to debug thi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4A03-CE9C-472A-B072-0C56E60136F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itial Hypothesi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282680" y="2781360"/>
          <a:ext cx="10439280" cy="5689440"/>
        </p:xfrm>
        <a:graphic>
          <a:graphicData uri="http://schemas.openxmlformats.org/drawingml/2006/table">
            <a:tbl>
              <a:tblPr/>
              <a:tblGrid>
                <a:gridCol w="3403440"/>
                <a:gridCol w="7035840"/>
              </a:tblGrid>
              <a:tr h="8740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Hypothesi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Predic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Experimen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Observa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onclus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"/>
          <p:cNvSpPr/>
          <p:nvPr/>
        </p:nvSpPr>
        <p:spPr>
          <a:xfrm>
            <a:off x="4686480" y="29718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ample 11 14” works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4686480" y="41148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utput is “11 14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673520" y="5245200"/>
            <a:ext cx="703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un sample as abov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686480" y="63882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utput is “0 11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673520" y="7531200"/>
            <a:ext cx="703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Hypothesis i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ject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0CA8-08F0-4453-9FF9-7FCD86B8605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47640" y="533520"/>
            <a:ext cx="11684160" cy="86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rgc, char *argv[]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*a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 = (int *)malloc((argc - 1) * sizeof(int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i] = atoi(argv[i + 1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Output: 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%d ", a[i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\n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ree(a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067000" y="4572000"/>
            <a:ext cx="7276320" cy="725400"/>
            <a:chOff x="5067000" y="4572000"/>
            <a:chExt cx="7276320" cy="725400"/>
          </a:xfrm>
        </p:grpSpPr>
        <p:sp>
          <p:nvSpPr>
            <p:cNvPr id="528" name=""/>
            <p:cNvSpPr/>
            <p:nvPr/>
          </p:nvSpPr>
          <p:spPr>
            <a:xfrm>
              <a:off x="7607520" y="4572000"/>
              <a:ext cx="47358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oes a[0] = 0 hold?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5067000" y="4991040"/>
              <a:ext cx="2500200" cy="306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68CD5-65F3-430C-8373-ACED0C0742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ypothesis 1: a[]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282680" y="2781360"/>
          <a:ext cx="10439280" cy="5689440"/>
        </p:xfrm>
        <a:graphic>
          <a:graphicData uri="http://schemas.openxmlformats.org/drawingml/2006/table">
            <a:tbl>
              <a:tblPr/>
              <a:tblGrid>
                <a:gridCol w="3403440"/>
                <a:gridCol w="7035840"/>
              </a:tblGrid>
              <a:tr h="8740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Hypothesi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Predic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Experimen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Observa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onclus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"/>
          <p:cNvSpPr/>
          <p:nvPr/>
        </p:nvSpPr>
        <p:spPr>
          <a:xfrm>
            <a:off x="4686480" y="29718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execution causes a[0] = 0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686480" y="41148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t Line 37, a[0] = 0 should hold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673520" y="5245200"/>
            <a:ext cx="703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bserve a[0] at Line 37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86480" y="63882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[0] = 0 holds as predicted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4673520" y="7531200"/>
            <a:ext cx="703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Hypothesis i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nfirm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A6BD-82BC-4E88-9C22-FE455037307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977760" y="736560"/>
            <a:ext cx="11023920" cy="82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at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hell_sor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[], int siz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, j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h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= h * 3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&lt;= siz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/= 3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h; i &lt; size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v = a[i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j = i; j &gt;= h &amp;&amp; a[j - h] &gt; v; j -= h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a[j - h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i != j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v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!= 1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095520" y="1307880"/>
            <a:ext cx="6524280" cy="1185840"/>
            <a:chOff x="6095520" y="1307880"/>
            <a:chExt cx="6524280" cy="1185840"/>
          </a:xfrm>
        </p:grpSpPr>
        <p:sp>
          <p:nvSpPr>
            <p:cNvPr id="539" name=""/>
            <p:cNvSpPr/>
            <p:nvPr/>
          </p:nvSpPr>
          <p:spPr>
            <a:xfrm>
              <a:off x="7000200" y="1853280"/>
              <a:ext cx="5619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s the state sane here?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6095520" y="1307880"/>
              <a:ext cx="1071720" cy="808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A6A74-2A4E-4C61-8FFB-E1A264AE055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ypothesis 2:shell_sort(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282680" y="2781360"/>
          <a:ext cx="10439280" cy="5689440"/>
        </p:xfrm>
        <a:graphic>
          <a:graphicData uri="http://schemas.openxmlformats.org/drawingml/2006/table">
            <a:tbl>
              <a:tblPr/>
              <a:tblGrid>
                <a:gridCol w="3403440"/>
                <a:gridCol w="7035840"/>
              </a:tblGrid>
              <a:tr h="8740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Hypothesi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Predic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Experimen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Observa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onclus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4686480" y="2717640"/>
            <a:ext cx="70354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The infection does not take place until shell_sor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4686480" y="41148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t Line 6, a[] = [11, 14]; size = 2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4673520" y="5245200"/>
            <a:ext cx="703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Observe a[] and size at Line 6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4686480" y="63882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[] = [11, 14, 0]; size =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4673520" y="7531200"/>
            <a:ext cx="703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Hypothesis i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reject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CC6A-62C0-4996-A443-5D2CA60C9D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Sample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4" name=""/>
          <p:cNvSpPr/>
          <p:nvPr/>
        </p:nvSpPr>
        <p:spPr>
          <a:xfrm>
            <a:off x="3056760" y="2959200"/>
            <a:ext cx="314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sample 9 8 7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2044800" y="297180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2539080" y="36831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6db5c"/>
                </a:solidFill>
                <a:latin typeface="Monaco"/>
                <a:ea typeface="Monaco"/>
              </a:rPr>
              <a:t>Output: 7 8 9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44800" y="4889520"/>
            <a:ext cx="4257360" cy="787320"/>
            <a:chOff x="2044800" y="4889520"/>
            <a:chExt cx="4257360" cy="787320"/>
          </a:xfrm>
        </p:grpSpPr>
        <p:sp>
          <p:nvSpPr>
            <p:cNvPr id="438" name=""/>
            <p:cNvSpPr/>
            <p:nvPr/>
          </p:nvSpPr>
          <p:spPr>
            <a:xfrm>
              <a:off x="2986560" y="4889520"/>
              <a:ext cx="3315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sample 11 14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44800" y="4902120"/>
              <a:ext cx="4572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$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2539080" y="56642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Monaco"/>
                <a:ea typeface="Monaco"/>
              </a:rPr>
              <a:t>Output: 0 11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1386000" y="7162920"/>
            <a:ext cx="10199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here’s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rro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tha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aus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this failur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DB2E-5DDD-4399-A281-6F8BFD16EC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ypothesis 3: siz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282680" y="2781360"/>
          <a:ext cx="10439280" cy="5689440"/>
        </p:xfrm>
        <a:graphic>
          <a:graphicData uri="http://schemas.openxmlformats.org/drawingml/2006/table">
            <a:tbl>
              <a:tblPr/>
              <a:tblGrid>
                <a:gridCol w="3403440"/>
                <a:gridCol w="7035840"/>
              </a:tblGrid>
              <a:tr h="8740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Hypothesi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Predic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Experimen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Observa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onclus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4686480" y="29718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ize = 3 causes the failur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4686480" y="3886200"/>
            <a:ext cx="7035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59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hanging size to 2 should make the output correct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4673520" y="5245200"/>
            <a:ext cx="703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Set size = 2 using a debugger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4686480" y="63882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s predicted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4673520" y="7531200"/>
            <a:ext cx="703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Hypothesis i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nfirm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6088-F9B5-4B6F-8C3A-A15E16297EA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47640" y="6591240"/>
            <a:ext cx="11684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635040" y="6591240"/>
            <a:ext cx="1168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52c857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52c857"/>
                </a:solidFill>
                <a:latin typeface="Monaco"/>
                <a:ea typeface="Monaco"/>
              </a:rPr>
              <a:t>shell_sort(a, argc - 1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647640" y="6591240"/>
            <a:ext cx="11684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647640" y="2895480"/>
            <a:ext cx="1168416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main(int argc, char *argv[]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*a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 = (int *)malloc((argc - 1) * sizeof(int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i] = atoi(argv[i + 1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xing the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7086600" y="6667560"/>
            <a:ext cx="4057200" cy="1270080"/>
            <a:chOff x="7086600" y="6667560"/>
            <a:chExt cx="4057200" cy="1270080"/>
          </a:xfrm>
        </p:grpSpPr>
        <p:grpSp>
          <p:nvGrpSpPr>
            <p:cNvPr id="561" name=""/>
            <p:cNvGrpSpPr/>
            <p:nvPr/>
          </p:nvGrpSpPr>
          <p:grpSpPr>
            <a:xfrm>
              <a:off x="8712000" y="6807240"/>
              <a:ext cx="2431800" cy="772560"/>
              <a:chOff x="8712000" y="6807240"/>
              <a:chExt cx="2431800" cy="772560"/>
            </a:xfrm>
          </p:grpSpPr>
          <p:sp>
            <p:nvSpPr>
              <p:cNvPr id="562" name=""/>
              <p:cNvSpPr/>
              <p:nvPr/>
            </p:nvSpPr>
            <p:spPr>
              <a:xfrm>
                <a:off x="9248760" y="6807240"/>
                <a:ext cx="189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Monaco"/>
                    <a:ea typeface="Monaco"/>
                  </a:rPr>
                  <a:t>sample 11 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712000" y="6807240"/>
                <a:ext cx="4572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Monaco"/>
                    <a:ea typeface="Monaco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965080" y="7213680"/>
                <a:ext cx="195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6db5b"/>
                    </a:solidFill>
                    <a:latin typeface="Monaco"/>
                    <a:ea typeface="Monaco"/>
                  </a:rPr>
                  <a:t>Output: 11 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7086600" y="6667560"/>
              <a:ext cx="1270080" cy="1270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BE48-030A-4620-9974-E1F2DD29EEC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ypothesis 4: argc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282680" y="2781360"/>
          <a:ext cx="10439280" cy="5689440"/>
        </p:xfrm>
        <a:graphic>
          <a:graphicData uri="http://schemas.openxmlformats.org/drawingml/2006/table">
            <a:tbl>
              <a:tblPr/>
              <a:tblGrid>
                <a:gridCol w="3403440"/>
                <a:gridCol w="7035840"/>
              </a:tblGrid>
              <a:tr h="8740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Hypothesi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Predic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Experimen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Observa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onclus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"/>
          <p:cNvSpPr/>
          <p:nvPr/>
        </p:nvSpPr>
        <p:spPr>
          <a:xfrm>
            <a:off x="4686480" y="2730600"/>
            <a:ext cx="70354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Invocation of shell_sort with size = argc causes the failur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4686480" y="3886200"/>
            <a:ext cx="70354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hanging argc to argc - 1 should make the run successful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4699080" y="5016600"/>
            <a:ext cx="70358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hange argc to argc - 1 and recompile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4686480" y="6388200"/>
            <a:ext cx="7035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s predicted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4673520" y="7531200"/>
            <a:ext cx="7035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054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Hypothesis i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confirm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2C8B-8BF0-405F-BF37-9591C2D0404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Diagnosi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16120" indent="-5176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use is “Invoking shell_sort() with argc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612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ven by two experiment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</a:rPr>
              <a:t>Invoked with argc, the failure occurs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6db5b"/>
                </a:solidFill>
                <a:latin typeface="Gill Sans"/>
              </a:rPr>
              <a:t>Invoked with argc - 1, it does no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612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de-effect: we have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x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6120" indent="-5176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(Note that we don’t have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correctness –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t take my word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EB69-E44D-4044-8878-0302DD5D07F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6934320" y="2362320"/>
            <a:ext cx="4591080" cy="61214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A03D-7016-4EA2-83AB-DC30D05C472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xplicit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4356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24760" indent="-5230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ing explicit is important to understand the probl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4760" indent="-52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us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tating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blem can already solve i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B5FF8-A28D-423E-8A32-3585F5CD681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6845400" y="2768760"/>
            <a:ext cx="5634000" cy="57150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Keeping Track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33400" indent="-528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a Mastermind game,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l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hypotheses and observations are explici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kes playing the game much easie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6F1-8E7A-4390-8E0D-BF9ADBA478F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mplicit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42040" indent="-5342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member your last debugging sessio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d you write down hypotheses and observation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t being explicit forces you to keep all hypotheses and outcom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 mem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ike playing Mastermind in mem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299D-4D01-42AC-B123-23C8315B069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aysleep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270080" y="2692440"/>
            <a:ext cx="6908760" cy="605772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01760" y="2768400"/>
            <a:ext cx="7505640" cy="49021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8000"/>
          </a:bodyPr>
          <a:p>
            <a:pPr marL="279360" indent="0">
              <a:lnSpc>
                <a:spcPct val="100000"/>
              </a:lnSpc>
              <a:buNone/>
              <a:tabLst>
                <a:tab algn="l" pos="0"/>
                <a:tab algn="l" pos="673200"/>
                <a:tab algn="l" pos="1028880"/>
                <a:tab algn="l" pos="1384200"/>
                <a:tab algn="l" pos="1739880"/>
                <a:tab algn="l" pos="2095560"/>
                <a:tab algn="l" pos="2451240"/>
                <a:tab algn="l" pos="2806560"/>
                <a:tab algn="l" pos="3162240"/>
                <a:tab algn="l" pos="3517920"/>
                <a:tab algn="l" pos="3873600"/>
                <a:tab algn="l" pos="4229280"/>
                <a:tab algn="l" pos="458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Gill Sans"/>
              </a:rPr>
              <a:t>I'm the screen, the blinding light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279360" indent="0">
              <a:lnSpc>
                <a:spcPct val="100000"/>
              </a:lnSpc>
              <a:buNone/>
              <a:tabLst>
                <a:tab algn="l" pos="0"/>
                <a:tab algn="l" pos="673200"/>
                <a:tab algn="l" pos="1028880"/>
                <a:tab algn="l" pos="1384200"/>
                <a:tab algn="l" pos="1739880"/>
                <a:tab algn="l" pos="2095560"/>
                <a:tab algn="l" pos="2451240"/>
                <a:tab algn="l" pos="2806560"/>
                <a:tab algn="l" pos="3162240"/>
                <a:tab algn="l" pos="3517920"/>
                <a:tab algn="l" pos="3873600"/>
                <a:tab algn="l" pos="4229280"/>
                <a:tab algn="l" pos="458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Gill Sans"/>
              </a:rPr>
              <a:t>I'm the screen, I work at night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279360" indent="0">
              <a:lnSpc>
                <a:spcPct val="100000"/>
              </a:lnSpc>
              <a:buNone/>
              <a:tabLst>
                <a:tab algn="l" pos="0"/>
                <a:tab algn="l" pos="673200"/>
                <a:tab algn="l" pos="1028880"/>
                <a:tab algn="l" pos="1384200"/>
                <a:tab algn="l" pos="1739880"/>
                <a:tab algn="l" pos="2095560"/>
                <a:tab algn="l" pos="2451240"/>
                <a:tab algn="l" pos="2806560"/>
                <a:tab algn="l" pos="3162240"/>
                <a:tab algn="l" pos="3517920"/>
                <a:tab algn="l" pos="3873600"/>
                <a:tab algn="l" pos="4229280"/>
                <a:tab algn="l" pos="458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279360" indent="0">
              <a:lnSpc>
                <a:spcPct val="100000"/>
              </a:lnSpc>
              <a:buNone/>
              <a:tabLst>
                <a:tab algn="l" pos="0"/>
                <a:tab algn="l" pos="673200"/>
                <a:tab algn="l" pos="1028880"/>
                <a:tab algn="l" pos="1384200"/>
                <a:tab algn="l" pos="1739880"/>
                <a:tab algn="l" pos="2095560"/>
                <a:tab algn="l" pos="2451240"/>
                <a:tab algn="l" pos="2806560"/>
                <a:tab algn="l" pos="3162240"/>
                <a:tab algn="l" pos="3517920"/>
                <a:tab algn="l" pos="3873600"/>
                <a:tab algn="l" pos="4229280"/>
                <a:tab algn="l" pos="458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Gill Sans"/>
              </a:rPr>
              <a:t>I see today with a newsprint fray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279360" indent="0">
              <a:lnSpc>
                <a:spcPct val="100000"/>
              </a:lnSpc>
              <a:buNone/>
              <a:tabLst>
                <a:tab algn="l" pos="0"/>
                <a:tab algn="l" pos="673200"/>
                <a:tab algn="l" pos="1028880"/>
                <a:tab algn="l" pos="1384200"/>
                <a:tab algn="l" pos="1739880"/>
                <a:tab algn="l" pos="2095560"/>
                <a:tab algn="l" pos="2451240"/>
                <a:tab algn="l" pos="2806560"/>
                <a:tab algn="l" pos="3162240"/>
                <a:tab algn="l" pos="3517920"/>
                <a:tab algn="l" pos="3873600"/>
                <a:tab algn="l" pos="4229280"/>
                <a:tab algn="l" pos="458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Gill Sans"/>
              </a:rPr>
              <a:t>My night is colored headache grey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279360" indent="0">
              <a:lnSpc>
                <a:spcPct val="100000"/>
              </a:lnSpc>
              <a:buNone/>
              <a:tabLst>
                <a:tab algn="l" pos="0"/>
                <a:tab algn="l" pos="673200"/>
                <a:tab algn="l" pos="1028880"/>
                <a:tab algn="l" pos="1384200"/>
                <a:tab algn="l" pos="1739880"/>
                <a:tab algn="l" pos="2095560"/>
                <a:tab algn="l" pos="2451240"/>
                <a:tab algn="l" pos="2806560"/>
                <a:tab algn="l" pos="3162240"/>
                <a:tab algn="l" pos="3517920"/>
                <a:tab algn="l" pos="3873600"/>
                <a:tab algn="l" pos="4229280"/>
                <a:tab algn="l" pos="458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Gill Sans"/>
              </a:rPr>
              <a:t>Don't wake me with so much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279360" indent="0">
              <a:lnSpc>
                <a:spcPct val="100000"/>
              </a:lnSpc>
              <a:buNone/>
              <a:tabLst>
                <a:tab algn="l" pos="0"/>
                <a:tab algn="l" pos="673200"/>
                <a:tab algn="l" pos="1028880"/>
                <a:tab algn="l" pos="1384200"/>
                <a:tab algn="l" pos="1739880"/>
                <a:tab algn="l" pos="2095560"/>
                <a:tab algn="l" pos="2451240"/>
                <a:tab algn="l" pos="2806560"/>
                <a:tab algn="l" pos="3162240"/>
                <a:tab algn="l" pos="3517920"/>
                <a:tab algn="l" pos="3873600"/>
                <a:tab algn="l" pos="4229280"/>
                <a:tab algn="l" pos="458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Gill Sans"/>
              </a:rPr>
              <a:t>Daysleeper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34BC-E047-4F9C-B618-71122D6145C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Keep a Notebook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095560"/>
            <a:ext cx="10464840" cy="706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rything gets written down, formally, so that you know at all tim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re you are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re you've been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re you're going, 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re you want to get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therwise the problems get so complex you get lost in the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9695-8C06-4048-BA18-E35C23C86903}" type="slidenum">
              <a:t>28</a:t>
            </a:fld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at to Keep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282680" y="2781360"/>
          <a:ext cx="10439280" cy="5689440"/>
        </p:xfrm>
        <a:graphic>
          <a:graphicData uri="http://schemas.openxmlformats.org/drawingml/2006/table">
            <a:tbl>
              <a:tblPr/>
              <a:tblGrid>
                <a:gridCol w="3403440"/>
                <a:gridCol w="7035840"/>
              </a:tblGrid>
              <a:tr h="8740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Hypothesi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Predic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Experimen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Observat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03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onclusio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92" name=""/>
          <p:cNvGrpSpPr/>
          <p:nvPr/>
        </p:nvGrpSpPr>
        <p:grpSpPr>
          <a:xfrm>
            <a:off x="1667160" y="3098880"/>
            <a:ext cx="9973800" cy="4978440"/>
            <a:chOff x="1667160" y="3098880"/>
            <a:chExt cx="9973800" cy="4978440"/>
          </a:xfrm>
        </p:grpSpPr>
        <p:sp>
          <p:nvSpPr>
            <p:cNvPr id="593" name=""/>
            <p:cNvSpPr/>
            <p:nvPr/>
          </p:nvSpPr>
          <p:spPr>
            <a:xfrm>
              <a:off x="1841400" y="3098880"/>
              <a:ext cx="9613800" cy="4978440"/>
            </a:xfrm>
            <a:prstGeom prst="rect">
              <a:avLst/>
            </a:prstGeom>
            <a:blipFill rotWithShape="0">
              <a:blip r:embed="rId2">
                <a:alphaModFix amt="95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67160" y="4127760"/>
              <a:ext cx="9973800" cy="29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Faced with a difficult task,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“</a:t>
              </a:r>
              <a:r>
                <a:rPr b="0" lang="en-US" sz="48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sleeping on it” makes students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three times more apt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to solve the task the next morning.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3561-F6B3-4F0D-AB4E-C8B0C75CFA0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rro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38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’s the error in the sample program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rro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a deviation from what’s correct, right, or true. </a:t>
            </a:r>
            <a:r>
              <a:rPr b="0" lang="en-US" sz="4200" spc="-1" strike="noStrike">
                <a:solidFill>
                  <a:srgbClr val="666666"/>
                </a:solidFill>
                <a:latin typeface="Gill Sans"/>
              </a:rPr>
              <a:t>(IEEE glossary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844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prove that something is an error, we mus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how the deviatio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impl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or failures,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har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or the 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844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re does sample.c deviate from – wha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5945-C571-4F5A-9022-2703A31542B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Quick and Dir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t every problem needs the strength of the scientific method or a notebook – a quick-and-dirty process suffice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ggestion: Go quick and dirty for 10 minutes, and then apply the scientific metho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2AD0-DAC5-4BB2-979B-FF276D9349F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50680" y="253800"/>
            <a:ext cx="11328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lgorithmic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3772080" y="6311880"/>
          <a:ext cx="5447880" cy="876240"/>
        </p:xfrm>
        <a:graphic>
          <a:graphicData uri="http://schemas.openxmlformats.org/drawingml/2006/table">
            <a:tbl>
              <a:tblPr/>
              <a:tblGrid>
                <a:gridCol w="1090440"/>
                <a:gridCol w="1081800"/>
                <a:gridCol w="1090800"/>
                <a:gridCol w="1090800"/>
                <a:gridCol w="1094040"/>
              </a:tblGrid>
              <a:tr h="876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943600" y="8153280"/>
          <a:ext cx="1079640" cy="86364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8636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6268320" y="822960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5320800" y="7048440"/>
            <a:ext cx="1089000" cy="12096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591240" y="7010280"/>
            <a:ext cx="844560" cy="1252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769080" y="7022880"/>
            <a:ext cx="1812960" cy="12222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65240" y="0"/>
            <a:ext cx="7746120" cy="8850240"/>
            <a:chOff x="165240" y="0"/>
            <a:chExt cx="7746120" cy="8850240"/>
          </a:xfrm>
        </p:grpSpPr>
        <p:pic>
          <p:nvPicPr>
            <p:cNvPr id="605" name="" descr=""/>
            <p:cNvPicPr/>
            <p:nvPr/>
          </p:nvPicPr>
          <p:blipFill>
            <a:blip r:embed="rId2"/>
            <a:stretch/>
          </p:blipFill>
          <p:spPr>
            <a:xfrm>
              <a:off x="165240" y="0"/>
              <a:ext cx="7491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 flipH="1" flipV="1">
              <a:off x="7721640" y="8254800"/>
              <a:ext cx="163440" cy="11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7670880" y="854676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95720" y="8686800"/>
              <a:ext cx="21564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851360" y="6299280"/>
            <a:ext cx="1092240" cy="8888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5575320" y="3581280"/>
            <a:ext cx="4102200" cy="229896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s this correc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5149080" y="640080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023240" y="6299280"/>
            <a:ext cx="1092240" cy="8888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7785000" y="3581280"/>
            <a:ext cx="4102200" cy="229896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s this correc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7322400" y="640080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3784680" y="4292640"/>
          <a:ext cx="5447880" cy="876240"/>
        </p:xfrm>
        <a:graphic>
          <a:graphicData uri="http://schemas.openxmlformats.org/drawingml/2006/table">
            <a:tbl>
              <a:tblPr/>
              <a:tblGrid>
                <a:gridCol w="1090440"/>
                <a:gridCol w="1081800"/>
                <a:gridCol w="1090800"/>
                <a:gridCol w="1090800"/>
                <a:gridCol w="1094040"/>
              </a:tblGrid>
              <a:tr h="876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16" name=""/>
          <p:cNvSpPr/>
          <p:nvPr/>
        </p:nvSpPr>
        <p:spPr>
          <a:xfrm flipV="1">
            <a:off x="7696080" y="4901760"/>
            <a:ext cx="874800" cy="148428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413400" y="5021280"/>
            <a:ext cx="1206720" cy="13651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956200" y="4267080"/>
            <a:ext cx="1092240" cy="88920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6680160" y="1549440"/>
            <a:ext cx="4102200" cy="229860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s this correc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6253920" y="436896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8153280" y="4280040"/>
            <a:ext cx="1092240" cy="8888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8877240" y="1562040"/>
            <a:ext cx="4102200" cy="229860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s this correc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8451000" y="438156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0" y="0"/>
            <a:ext cx="4080960" cy="5974560"/>
            <a:chOff x="0" y="0"/>
            <a:chExt cx="4080960" cy="5974560"/>
          </a:xfrm>
        </p:grpSpPr>
        <p:pic>
          <p:nvPicPr>
            <p:cNvPr id="625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963800" cy="14731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626" name=""/>
            <p:cNvSpPr/>
            <p:nvPr/>
          </p:nvSpPr>
          <p:spPr>
            <a:xfrm>
              <a:off x="987120" y="5334120"/>
              <a:ext cx="162072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fec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2768400" y="5753160"/>
              <a:ext cx="1312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697F-494F-4D9F-A5D7-A37AEE282FF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040" y="253800"/>
            <a:ext cx="111632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lgorithmic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54280" indent="-5623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ume an incorrect result R with origins 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</a:rPr>
              <a:t>1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…, 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</a:rPr>
              <a:t>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4280" indent="-5623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each 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, enquire whether 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corr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4280" indent="-5623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f some 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incorrect, continue at Step 1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4280" indent="-5623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therwise (all O</a:t>
            </a:r>
            <a:r>
              <a:rPr b="0" lang="en-US" sz="4200" spc="-1" strike="noStrike" baseline="-6000">
                <a:solidFill>
                  <a:srgbClr val="ffffff"/>
                </a:solidFill>
                <a:latin typeface="Gill Sans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re correct), we found the 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2AA6-7477-40CF-AE8B-41303EE9A24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841400" y="1015920"/>
            <a:ext cx="932184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inser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elem, list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len(list) == 0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[elem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head = list[0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tail = list[1: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elem &lt;= head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list + [elem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[head] + insert(elem, tail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1816200" y="5638680"/>
            <a:ext cx="8001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sor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list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len(list) &lt;= 1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list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head = list[0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tail = list[1: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insert(head, sort(tail)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98056-5939-47EE-81BB-66BB088C7BB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4267080" y="1638360"/>
            <a:ext cx="439416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ort([2, 1, 3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2349360" y="4317840"/>
            <a:ext cx="439452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ort([1, 3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343080" y="6845400"/>
            <a:ext cx="439416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ort([3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5778360" y="6845400"/>
            <a:ext cx="439452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sert(1, [3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7861320" y="4317840"/>
            <a:ext cx="439416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sert(2, [3, 1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099040" y="2941200"/>
            <a:ext cx="1176480" cy="13734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181320" y="5544720"/>
            <a:ext cx="1176480" cy="13734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5729040" y="5481360"/>
            <a:ext cx="958680" cy="13827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7405200" y="2944800"/>
            <a:ext cx="1303560" cy="1370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343080" y="6845400"/>
            <a:ext cx="439416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ort([3]) = [3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5778360" y="6845400"/>
            <a:ext cx="439452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sert(1, [3]) = [3,1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2349360" y="4317840"/>
            <a:ext cx="439452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ort([1, 3]) = [3,1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7861320" y="4317840"/>
            <a:ext cx="439416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  <a:ea typeface="Gill Sans"/>
              </a:rPr>
              <a:t>insert(2, [3, 1]) = [2, 3,1]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4317840" y="1638360"/>
            <a:ext cx="439452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sort([2, 1, 3]) = [2, 3, 1]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4305240" y="1625760"/>
            <a:ext cx="4407120" cy="128268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8991720" y="368280"/>
            <a:ext cx="3047760" cy="203220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s this correc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2349360" y="4305240"/>
            <a:ext cx="4407120" cy="128268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035840" y="3048120"/>
            <a:ext cx="3048120" cy="203184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s this correc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393840" y="6845400"/>
            <a:ext cx="4406760" cy="128268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5079960" y="5587920"/>
            <a:ext cx="3048120" cy="203220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s this correc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5778360" y="6870600"/>
            <a:ext cx="4407120" cy="128268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10464840" y="5613480"/>
            <a:ext cx="3048120" cy="2031840"/>
          </a:xfrm>
          <a:prstGeom prst="wedgeEllipseCallout">
            <a:avLst>
              <a:gd name="adj1" fmla="val -52500"/>
              <a:gd name="adj2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s this correc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4856760" y="716292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8769960" y="191772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6750720" y="459756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10217880" y="716292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9B652-A3E9-4D4C-9AC5-FCC4B26C79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778360" y="6845400"/>
            <a:ext cx="439452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sert(1, [3]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778360" y="6845400"/>
            <a:ext cx="4394520" cy="1270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5400000"/>
          </a:gra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sert(1, [3]) = [3,1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10217880" y="716292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39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sert() produces an incorrect result and has no further origi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t must be the source of the incorrect val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fect Loc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3E52-DE49-4FA9-96A8-B69F0F30C75A}" type="slidenum">
              <a:t>35</a:t>
            </a:fld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841400" y="1015920"/>
            <a:ext cx="932184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inser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elem, list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len(list) == 0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[elem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head = list[0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tail = list[1: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elem &lt;= head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list + [elem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[head] + insert(elem, tail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"/>
          <p:cNvSpPr/>
          <p:nvPr/>
        </p:nvSpPr>
        <p:spPr>
          <a:xfrm>
            <a:off x="1816200" y="5638680"/>
            <a:ext cx="8001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sor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list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len(list) &lt;= 1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list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head = list[0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tail = list[1: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insert(head, sort(tail)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"/>
          <p:cNvSpPr/>
          <p:nvPr/>
        </p:nvSpPr>
        <p:spPr>
          <a:xfrm>
            <a:off x="4940280" y="3492360"/>
            <a:ext cx="3225960" cy="11941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"/>
          <p:cNvSpPr/>
          <p:nvPr/>
        </p:nvSpPr>
        <p:spPr>
          <a:xfrm>
            <a:off x="8490600" y="3289320"/>
            <a:ext cx="1928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Monaco"/>
                <a:ea typeface="Monaco"/>
              </a:rPr>
              <a:t>[elem] + li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42B0E-4567-48F8-A1B1-3827E6CFB05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scuss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347840" indent="-1030320">
              <a:lnSpc>
                <a:spcPct val="100000"/>
              </a:lnSpc>
              <a:spcBef>
                <a:spcPts val="2599"/>
              </a:spcBef>
              <a:buClr>
                <a:srgbClr val="52c858"/>
              </a:buClr>
              <a:buSzPct val="150000"/>
              <a:buFont typeface="ＭＳ ゴシック"/>
              <a:buChar char="✔"/>
              <a:tabLst>
                <a:tab algn="l" pos="199404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tects defects systematical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1347840" indent="-1030320">
              <a:lnSpc>
                <a:spcPct val="100000"/>
              </a:lnSpc>
              <a:spcBef>
                <a:spcPts val="2599"/>
              </a:spcBef>
              <a:buClr>
                <a:srgbClr val="52c858"/>
              </a:buClr>
              <a:buSzPct val="150000"/>
              <a:buFont typeface="ＭＳ ゴシック"/>
              <a:buChar char="✔"/>
              <a:tabLst>
                <a:tab algn="l" pos="199404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orks naturally for logical + functional comput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1347840" indent="-1030320">
              <a:lnSpc>
                <a:spcPct val="100000"/>
              </a:lnSpc>
              <a:spcBef>
                <a:spcPts val="2599"/>
              </a:spcBef>
              <a:buClr>
                <a:srgbClr val="ff0000"/>
              </a:buClr>
              <a:buSzPct val="150000"/>
              <a:buFont typeface="ＭＳ ゴシック"/>
              <a:buChar char="✘"/>
              <a:tabLst>
                <a:tab algn="l" pos="199404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on’t work for large states (and imperative computatio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1347840" indent="-1030320">
              <a:lnSpc>
                <a:spcPct val="100000"/>
              </a:lnSpc>
              <a:spcBef>
                <a:spcPts val="2599"/>
              </a:spcBef>
              <a:buClr>
                <a:srgbClr val="ff0000"/>
              </a:buClr>
              <a:buSzPct val="150000"/>
              <a:buFont typeface="ＭＳ ゴシック"/>
              <a:buChar char="✘"/>
              <a:tabLst>
                <a:tab algn="l" pos="199404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 programmers like being driven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5E15-42AC-40BE-A47D-54E724CA2CB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racl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algorithmic debugging, the user acts as 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oracl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– telling correct from false resul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th 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utomatic oracl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could isolate any defect automaticall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complex would such an oracle b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EC51-7D2F-4B51-B953-E7FC659E477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36560" y="253800"/>
            <a:ext cx="1153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taining a Hypothesi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762440" y="4838760"/>
            <a:ext cx="2705040" cy="1396800"/>
            <a:chOff x="4762440" y="4838760"/>
            <a:chExt cx="2705040" cy="1396800"/>
          </a:xfrm>
        </p:grpSpPr>
        <p:sp>
          <p:nvSpPr>
            <p:cNvPr id="673" name=""/>
            <p:cNvSpPr/>
            <p:nvPr/>
          </p:nvSpPr>
          <p:spPr>
            <a:xfrm>
              <a:off x="4762440" y="4838760"/>
              <a:ext cx="2705040" cy="1396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85840" y="5155920"/>
              <a:ext cx="2657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Gill Sans"/>
                  <a:ea typeface="Gill Sans"/>
                </a:rPr>
                <a:t>Hypothesis</a:t>
              </a:r>
              <a:endParaRPr b="0" lang="en-US" sz="4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4840920" y="2641680"/>
            <a:ext cx="3966120" cy="2387520"/>
            <a:chOff x="4840920" y="2641680"/>
            <a:chExt cx="3966120" cy="2387520"/>
          </a:xfrm>
        </p:grpSpPr>
        <p:sp>
          <p:nvSpPr>
            <p:cNvPr id="676" name=""/>
            <p:cNvSpPr/>
            <p:nvPr/>
          </p:nvSpPr>
          <p:spPr>
            <a:xfrm>
              <a:off x="4840920" y="2641680"/>
              <a:ext cx="3966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blem Repor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6286320" y="3378240"/>
              <a:ext cx="734760" cy="1650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368240" y="3720960"/>
            <a:ext cx="1383120" cy="1333440"/>
            <a:chOff x="4368240" y="3720960"/>
            <a:chExt cx="1383120" cy="1333440"/>
          </a:xfrm>
        </p:grpSpPr>
        <p:sp>
          <p:nvSpPr>
            <p:cNvPr id="679" name=""/>
            <p:cNvSpPr/>
            <p:nvPr/>
          </p:nvSpPr>
          <p:spPr>
            <a:xfrm>
              <a:off x="4368240" y="3720960"/>
              <a:ext cx="1288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od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54400" y="4381200"/>
              <a:ext cx="696960" cy="673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4509720" y="5930640"/>
            <a:ext cx="1253880" cy="1072440"/>
            <a:chOff x="4509720" y="5930640"/>
            <a:chExt cx="1253880" cy="1072440"/>
          </a:xfrm>
        </p:grpSpPr>
        <p:sp>
          <p:nvSpPr>
            <p:cNvPr id="682" name=""/>
            <p:cNvSpPr/>
            <p:nvPr/>
          </p:nvSpPr>
          <p:spPr>
            <a:xfrm>
              <a:off x="4509720" y="6362640"/>
              <a:ext cx="991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5218920" y="5930640"/>
              <a:ext cx="544680" cy="507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904640" y="5905440"/>
            <a:ext cx="2713320" cy="2418480"/>
            <a:chOff x="4904640" y="5905440"/>
            <a:chExt cx="2713320" cy="2418480"/>
          </a:xfrm>
        </p:grpSpPr>
        <p:sp>
          <p:nvSpPr>
            <p:cNvPr id="685" name=""/>
            <p:cNvSpPr/>
            <p:nvPr/>
          </p:nvSpPr>
          <p:spPr>
            <a:xfrm>
              <a:off x="4904640" y="7683480"/>
              <a:ext cx="2713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ore Run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6337440" y="5905440"/>
              <a:ext cx="216000" cy="17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79360" y="3733920"/>
            <a:ext cx="12661920" cy="4673520"/>
            <a:chOff x="279360" y="3733920"/>
            <a:chExt cx="12661920" cy="4673520"/>
          </a:xfrm>
        </p:grpSpPr>
        <p:sp>
          <p:nvSpPr>
            <p:cNvPr id="688" name=""/>
            <p:cNvSpPr/>
            <p:nvPr/>
          </p:nvSpPr>
          <p:spPr>
            <a:xfrm>
              <a:off x="279360" y="3733920"/>
              <a:ext cx="40640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4089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ducing fro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4600" y="6363000"/>
              <a:ext cx="406404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4089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bserving a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39600" y="7683480"/>
              <a:ext cx="40640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4089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Learning fro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96080" y="6350040"/>
              <a:ext cx="52452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5270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…</a:t>
              </a: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all in the next weeks!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7188120" y="3809880"/>
            <a:ext cx="5678640" cy="1492200"/>
            <a:chOff x="7188120" y="3809880"/>
            <a:chExt cx="5678640" cy="1492200"/>
          </a:xfrm>
        </p:grpSpPr>
        <p:sp>
          <p:nvSpPr>
            <p:cNvPr id="693" name=""/>
            <p:cNvSpPr/>
            <p:nvPr/>
          </p:nvSpPr>
          <p:spPr>
            <a:xfrm>
              <a:off x="8163000" y="3809880"/>
              <a:ext cx="470376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Earlier Hypothes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+ Observation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188120" y="4813200"/>
              <a:ext cx="1424160" cy="488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94B8-5789-466A-AD77-C2D3CAC7831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uses and Effe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57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88720" indent="0">
              <a:lnSpc>
                <a:spcPct val="100000"/>
              </a:lnSpc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’s the cause of the sample failur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aus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any event (”effect”) is a preceding event without which the effect would not have occurr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88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prove causality, one must show th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</a:rPr>
              <a:t>the effect occurs when the cause occu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6db5b"/>
                </a:solidFill>
                <a:latin typeface="Gill Sans"/>
              </a:rPr>
              <a:t>the effect does </a:t>
            </a:r>
            <a:r>
              <a:rPr b="0" i="1" lang="en-US" sz="4200" spc="-1" strike="noStrike">
                <a:solidFill>
                  <a:srgbClr val="56db5b"/>
                </a:solidFill>
                <a:latin typeface="Gill Sans"/>
              </a:rPr>
              <a:t>not</a:t>
            </a:r>
            <a:r>
              <a:rPr b="0" lang="en-US" sz="4200" spc="-1" strike="noStrike">
                <a:solidFill>
                  <a:srgbClr val="56db5b"/>
                </a:solidFill>
                <a:latin typeface="Gill Sans"/>
              </a:rPr>
              <a:t> occur when the cause does no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41D2-EE7B-4A43-A049-4E62F32B3B6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6560" y="253800"/>
            <a:ext cx="1153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ources of Hypothe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6" name=""/>
          <p:cNvSpPr/>
          <p:nvPr/>
        </p:nvSpPr>
        <p:spPr>
          <a:xfrm>
            <a:off x="3619440" y="7709040"/>
            <a:ext cx="4381560" cy="126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edu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3619440" y="6172200"/>
            <a:ext cx="438156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bserv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"/>
          <p:cNvSpPr/>
          <p:nvPr/>
        </p:nvSpPr>
        <p:spPr>
          <a:xfrm>
            <a:off x="3619440" y="4622760"/>
            <a:ext cx="438156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ndu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"/>
          <p:cNvSpPr/>
          <p:nvPr/>
        </p:nvSpPr>
        <p:spPr>
          <a:xfrm>
            <a:off x="3619440" y="3060720"/>
            <a:ext cx="4381560" cy="1270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xperiment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"/>
          <p:cNvSpPr/>
          <p:nvPr/>
        </p:nvSpPr>
        <p:spPr>
          <a:xfrm>
            <a:off x="8373240" y="7975440"/>
            <a:ext cx="1579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0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"/>
          <p:cNvSpPr/>
          <p:nvPr/>
        </p:nvSpPr>
        <p:spPr>
          <a:xfrm>
            <a:off x="8399520" y="6438960"/>
            <a:ext cx="1323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"/>
          <p:cNvSpPr/>
          <p:nvPr/>
        </p:nvSpPr>
        <p:spPr>
          <a:xfrm>
            <a:off x="8371800" y="4889520"/>
            <a:ext cx="158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"/>
          <p:cNvSpPr/>
          <p:nvPr/>
        </p:nvSpPr>
        <p:spPr>
          <a:xfrm>
            <a:off x="8184960" y="3327480"/>
            <a:ext cx="426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controlled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931000" y="726408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931000" y="560052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5931000" y="421596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D69A-2DEE-4B2A-B325-320EC3BC937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aus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any event (”effect”) is a preceding event without which the effect would not have occurr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isolate a failure cause, use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cientific metho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ke the problem and its solutio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plici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3462-0077-4E5E-B90B-8898D4B982C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omated debugging organizes the scientific method by having the user assess outcom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st suited for functional and logical program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5FE7-6406-4E6F-9E53-BE6D4B0051D6}" type="slidenum">
              <a:t>42</a:t>
            </a:fld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21925-3052-4B31-93E8-08A217E01063}" type="slidenum">
              <a:t>43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91880" y="253800"/>
            <a:ext cx="10820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stablishing Causalit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natural and social sciences, causality is often hard to establish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d long lines at election sites cause George W. Bush to become presiden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d drugs cause the death of Elvi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es CO</a:t>
            </a:r>
            <a:r>
              <a:rPr b="0" lang="en-US" sz="4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₂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production cause global warming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BE02-1867-433C-8C09-1A7641AA26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peating Histor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72560" indent="-48996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determine causes formally, we would have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peat histor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– in an alternate world that is as close as possible to our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nce we cannot repeat history, we have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peculat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wha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woul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have happen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2560" indent="-489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me researchers have suggested to drop the concept of causality altogeth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1C37-4B1A-499B-9FF7-BBD4738E32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peating Ru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computer science, we are luckier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gram runs can be controlled and repeated at wil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(well, almost: physics can’t be repeated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bstraction is kept to a minimum – the program is the real thi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B45A-C50F-4536-81EB-6972E22F3C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ere’s the Bug”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16120" indent="-5176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me people are good at guessing cause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612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fortunately, intuition is hard to grasp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quir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 priori knowled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es not work in a systematic and reproducible fash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short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tuition cannot be taugh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4083-C67D-4025-ADF2-55E077C5E66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503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Scientific Method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cientific metho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a general pattern of how to find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heor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t explains (and predicts) some aspect of the univer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lled “scientific method” because it’s supposed to summarize the way that (experimental) scientists 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DB8F-644B-4BFA-A292-E83163D601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