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3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  <p:sldId id="292" r:id="rId50"/>
    <p:sldId id="293" r:id="rId51"/>
    <p:sldId id="294" r:id="rId52"/>
    <p:sldId id="295" r:id="rId53"/>
    <p:sldId id="296" r:id="rId54"/>
    <p:sldId id="297" r:id="rId55"/>
    <p:sldId id="298" r:id="rId56"/>
    <p:sldId id="299" r:id="rId57"/>
    <p:sldId id="300" r:id="rId58"/>
    <p:sldId id="301" r:id="rId59"/>
    <p:sldId id="302" r:id="rId60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slide" Target="slides/slide37.xml"/><Relationship Id="rId51" Type="http://schemas.openxmlformats.org/officeDocument/2006/relationships/slide" Target="slides/slide38.xml"/><Relationship Id="rId52" Type="http://schemas.openxmlformats.org/officeDocument/2006/relationships/slide" Target="slides/slide39.xml"/><Relationship Id="rId53" Type="http://schemas.openxmlformats.org/officeDocument/2006/relationships/slide" Target="slides/slide40.xml"/><Relationship Id="rId54" Type="http://schemas.openxmlformats.org/officeDocument/2006/relationships/slide" Target="slides/slide41.xml"/><Relationship Id="rId55" Type="http://schemas.openxmlformats.org/officeDocument/2006/relationships/slide" Target="slides/slide42.xml"/><Relationship Id="rId56" Type="http://schemas.openxmlformats.org/officeDocument/2006/relationships/slide" Target="slides/slide43.xml"/><Relationship Id="rId57" Type="http://schemas.openxmlformats.org/officeDocument/2006/relationships/slide" Target="slides/slide44.xml"/><Relationship Id="rId58" Type="http://schemas.openxmlformats.org/officeDocument/2006/relationships/slide" Target="slides/slide45.xml"/><Relationship Id="rId59" Type="http://schemas.openxmlformats.org/officeDocument/2006/relationships/slide" Target="slides/slide46.xml"/><Relationship Id="rId60" Type="http://schemas.openxmlformats.org/officeDocument/2006/relationships/slide" Target="slides/slide47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Click to move the slide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Bohr Bug = Repeatable under well-def’d conditions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Heisenbug = Changes when observed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Mandelbug = Causes are complex and chaotic, appears non-deterministic, but isn’t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Schrödinbug = Never should have worked, and promptly fails as soon one realizes this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Source: http://www.ci.newton.ma.us/MIS/Network.htm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Source: http://www.vmware.com/products/server/gsx_screens.html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B5F704-8F5A-414A-822C-47B1B8BAF00E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A5C8CA-95F0-4A8C-A326-54B6071D91BD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5AA263-8A57-4B74-A7AE-99A955F72475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41BB38-48B9-4AE9-A4BC-D603111D9DB0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DE523E-8D92-4BE4-982D-D63DA33B0C0B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9C8C1E-8C12-4D57-B622-97CE9D314F99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47A105-7BA9-483E-93A9-71690AE8178C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D35A4E-BD87-4BDA-ABA3-9DFC50EC7FD5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BB171C-89D4-4AF0-B714-E60FD2721E42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B064B1-E678-402E-A081-5084BBA3D9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CFF513-D51B-45FF-B894-27ADCDC83DF6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E63980-D3ED-44F7-8B96-7499F593B8D2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EC1BD5-FE8A-4E3A-916F-9E7F22B31F46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74281A-31E8-4413-AF43-1B51182A1DB2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D03462-BDE8-4558-B3A2-ACF7D600B2A6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83E5A4-9C15-4A53-B741-D4FA5AAD529F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4E3BFC-AC2D-4C1D-8714-342012407371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0E7168-DA9F-451A-A219-3271E586D058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D51A78-F349-4D69-8C12-D0C33CA19583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99C10F-B1CF-4B72-9E26-78356A9538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E49D8F-1B85-4A4F-B674-6539D9933F70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342D533-CF3D-4ED7-8FCE-D9CF81D6FAFB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01E52A7-F116-42FC-9833-5DF590B6EFE0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672C8EB-CC99-446E-8442-53072FE8BA90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2809413-978A-45BE-A890-3C0FA1CB6FF1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28D5893-A0A4-41B4-A11F-862FF4745BA8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1D0D2FA-A3DD-42C0-BCAD-DE1C81CE84FB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7F1916D-3E29-4FB5-9581-F2D01CF85AE5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92D41A8-31A4-425E-A165-EDCD96E6DC29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8201DE9-5D01-492B-AE84-845F1B7545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CBB66-25C9-4F44-9F7F-07913B8E0020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9BA371E-F1B5-4315-9B6F-3EE88FF2A1E9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A7B47E9-66F9-42D7-8AE8-760D9ABC6593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B522608-CBBD-4ACB-864E-D11281E10B7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E4CCF-29EE-4661-9801-BF5951AE24D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8C09D-A49A-4C04-9DCE-92E509CE96E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D02E3-FEEC-4AD8-8322-A38F58B788D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10777-C4BD-44F9-B321-9D728451C00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882EE-AE78-4619-8308-D5D79537A3F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9916D-DECF-4301-8A43-C75B1500A48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BE632-E269-464E-841B-F7346B7386D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88FE3-3EB5-4947-924A-BECAEF8C0D7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9E28A-25D7-4C52-B4ED-554B46488D9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D7AA3-957B-49CD-91D1-808367BFF6B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5D924-C383-4CF4-8267-CEE01F2B81E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AF470B-A970-4946-886A-4570959D732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3C929-3BB6-4066-B33E-1E131A69BDF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1CAC20-0107-41DC-88C5-41FA03D09A4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CC711C-F49A-4122-81C0-D741A5DF971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696C53-D978-4827-B57A-BF41997257D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2F9AB0-8AA7-4C9B-94C8-35FE5949F88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217841-F79E-43CD-B041-2B13EBB7C5F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229E8D-E126-433C-890D-EE89C13938F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CC0C73-2F26-4F99-8CA6-D2CF069EB43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1DEA4B-D13C-4EEF-A924-0736A10D7FA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63E9F0-9A58-42CD-A700-D1607DDF4EF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1E1539-EE82-4B82-BDE8-CE0C8631998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C853-FE64-48D4-A9AB-A3EF014F2B8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C016-8FC5-4E9D-AC0C-7D8921A2721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B215-9500-4258-BC16-B992F97497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D3DC-F4CF-4DF9-A409-C98B668556F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D952-B43F-4C43-9310-B6103E15FAC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4C77-5158-439A-96B2-ACB8E8271DC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4A9F-E81C-4C7E-A55E-2FBA6E0A8DB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DDA5-1BEA-453A-8615-CAE920773DF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48EC-45E7-428C-A126-1A83C89C448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EAEF-C366-4453-94AC-3E91762ECA7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FAE3-4EF3-446D-9086-1365C5D3601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0A4D-E57F-42C5-A209-6CCB1A819E26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D09D37-0D5D-432D-A201-0FECAC6B77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61D68F-E81F-4C0F-A233-6BEFD8AE8FAF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27FB37-E939-48B9-9BB0-F57C2B3BEC0A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170645-FF58-4D1A-8728-AAAD8B8D388B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859127-8708-4E7F-897E-C5A23DF47E9A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B815F7-B85F-4BA0-9B42-AE02DA0A3F6A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97753C-5A5B-4983-946F-C7A36285642E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37EBA4-EC5D-4955-B7D9-96E9F9F6CC42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112CF4-D968-4009-9C37-615387835775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76A982-EF02-46BD-AD05-45F8E8802653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A2D015-FA2C-41C4-B001-1909FA5A43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F3D628-947A-4F5E-AF80-672E0792232C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9BB2CC-B62A-41EA-9904-DD4FED7C5C38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CE9AE5-8991-472A-A7CD-30D2987E8F0D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13525A-C7E5-4D9D-A1F3-EE27D52A5919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410080-C6F2-40E9-84FB-1BA866F61A9A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911A2B-ED94-4BB0-A93A-E389243F79BA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B69A38-DB05-42E6-8EE8-5232C8DEE886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218F06-E9F7-4022-BD7C-4A0B7B0EE419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729382-7E0B-406D-8DC1-FD338253F0CF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55AACD-415F-4715-88B5-77796C772D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3C4218-B851-48D6-B056-E8E19157ABB5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93E890-C3D7-4025-B467-3BFCD589DA23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5BB507-F0BA-4FF2-BD25-55BFCA4B0A79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5E2E9-EB7A-4E05-92C1-063615A627F3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DD7EF-D9AD-48A9-8DD7-3E59BC1DC607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B8CED-0143-4C58-875F-8C13A1D485A5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83DE6-77BE-4AC0-9EA7-EE2485A93C66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0223E-7390-45FE-A71B-1B73992DDA4E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626C4-7E96-40F0-93BA-060727C1EC27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4D120-32EE-4243-9E2B-06EAC013C4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2F477-83CA-4AD2-BDE4-2CFADA47320B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A19A7-4944-44EA-A6FD-5FFC075D4732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C2013-1D92-4FB3-8DFB-F6975188100B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664AA-4CE0-4D62-9CC2-D6A5A9210295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7EA34-4E42-466B-B341-F6EC1CFE4186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4E45197-2C6C-4F24-B6AA-16908EA9E3A6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6344971-2FE9-4FE5-865F-9B8BC4B44249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2EFCE4F-7F31-48B5-BBA9-2D2986475C1F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2DB4F59-79C5-4D01-B3B2-89B27533089A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E9563F7-E0BB-432D-893E-1C7E7B50CC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D2436A7-C5BC-4213-B0E7-F1179F7510F6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D5694E1-9738-4704-9ECB-CD60C47AACC3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55DF709-92C7-4CD9-8B8B-08578974E85C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76E8DE0-7BF3-4AB4-B80A-4AFCB883AB6A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5FD8BBB-F938-4872-B12E-610F7AC26234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0BEB231-84D0-480C-BE14-21E5496DF30E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FD7ED84-92FC-4A63-9151-E389E85A3F57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618CD7-CF64-4492-94EC-7A61CB050270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BEA3CA-32E5-4C73-B162-1128AE982119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1F51DF-59AB-470D-BF65-5D9A691AA0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5000"/>
          </a:bodyPr>
          <a:p>
            <a:pPr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1" algn="ctr">
              <a:spcBef>
                <a:spcPts val="201"/>
              </a:spcBef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2" algn="ctr">
              <a:spcBef>
                <a:spcPts val="201"/>
              </a:spcBef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3" algn="ctr">
              <a:spcBef>
                <a:spcPts val="201"/>
              </a:spcBef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4" algn="ctr">
              <a:spcBef>
                <a:spcPts val="201"/>
              </a:spcBef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5" algn="ctr">
              <a:spcBef>
                <a:spcPts val="201"/>
              </a:spcBef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6" algn="ctr">
              <a:spcBef>
                <a:spcPts val="201"/>
              </a:spcBef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Click to edit the title text format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Click to edit the title text format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1000"/>
          </a:bodyPr>
          <a:p>
            <a:pPr marL="600120" indent="-38412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970560" indent="-38412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330560" indent="-38412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690920" indent="-38448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2061000" indent="-38448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2061000" indent="-38448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2061000" indent="-38448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sldNum" idx="9"/>
          </p:nvPr>
        </p:nvSpPr>
        <p:spPr>
          <a:xfrm>
            <a:off x="6343560" y="9271080"/>
            <a:ext cx="317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181818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D75AA-46A9-4C51-8967-5EBD422FB94F}" type="slidenum">
              <a:rPr b="0" lang="en-US" sz="1800" spc="-1" strike="noStrike">
                <a:solidFill>
                  <a:srgbClr val="181818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Click to edit the title text format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040" y="2768400"/>
            <a:ext cx="39625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3000"/>
          </a:bodyPr>
          <a:p>
            <a:pPr marL="541080" indent="-34632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874800" indent="-34632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199160" indent="-34632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523880" indent="-34632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1857600" indent="-34632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1857600" indent="-34632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1857600" indent="-34632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sldNum" idx="10"/>
          </p:nvPr>
        </p:nvSpPr>
        <p:spPr>
          <a:xfrm>
            <a:off x="6343560" y="9271080"/>
            <a:ext cx="317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31EEC-59E5-412D-AF78-A54A16293594}" type="slidenum">
              <a:rPr b="0" lang="en-US" sz="1800" spc="-1" strike="noStrike">
                <a:solidFill>
                  <a:srgbClr val="ffffff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Click to edit the title text format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6000"/>
          </a:bodyPr>
          <a:p>
            <a:pPr marL="703080" indent="-47340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096200" indent="-47340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478520" indent="-47340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3" marL="1860480" indent="-47340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4" marL="2253600" indent="-47340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5" marL="2253600" indent="-47340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6" marL="2253600" indent="-47340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Num" idx="1"/>
          </p:nvPr>
        </p:nvSpPr>
        <p:spPr>
          <a:xfrm>
            <a:off x="6343560" y="9271080"/>
            <a:ext cx="317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181818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AA183-5D2E-447F-B61D-20A6609BF017}" type="slidenum">
              <a:rPr b="0" lang="en-US" sz="1800" spc="-1" strike="noStrike">
                <a:solidFill>
                  <a:srgbClr val="181818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Click to edit the title text format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ldNum" idx="2"/>
          </p:nvPr>
        </p:nvSpPr>
        <p:spPr>
          <a:xfrm>
            <a:off x="6343560" y="9271080"/>
            <a:ext cx="317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181818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E1480-C412-49DF-9F4C-9A4E6A7368E7}" type="slidenum">
              <a:rPr b="0" lang="en-US" sz="1800" spc="-1" strike="noStrike">
                <a:solidFill>
                  <a:srgbClr val="181818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807480" indent="-51192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232640" indent="-51192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645920" indent="-51192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3" marL="2059560" indent="-51228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4" marL="2484720" indent="-51228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5" marL="2484720" indent="-512280">
              <a:spcBef>
                <a:spcPts val="104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6" marL="2484720" indent="-512280">
              <a:spcBef>
                <a:spcPts val="104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Num" idx="3"/>
          </p:nvPr>
        </p:nvSpPr>
        <p:spPr>
          <a:xfrm>
            <a:off x="6343560" y="9271080"/>
            <a:ext cx="317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181818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167C3-45F3-4F19-8476-AE376A16300A}" type="slidenum">
              <a:rPr b="0" lang="en-US" sz="1800" spc="-1" strike="noStrike">
                <a:solidFill>
                  <a:srgbClr val="181818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807480" indent="-51192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232640" indent="-51192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645920" indent="-51192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3" marL="2059560" indent="-51228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4" marL="2484720" indent="-51228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5" marL="2484720" indent="-512280">
              <a:spcBef>
                <a:spcPts val="104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6" marL="2484720" indent="-512280">
              <a:spcBef>
                <a:spcPts val="104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5000"/>
          </a:bodyPr>
          <a:p>
            <a:pPr marL="694800" indent="-468000">
              <a:spcBef>
                <a:spcPts val="50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083240" indent="-468000">
              <a:spcBef>
                <a:spcPts val="50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461240" indent="-468000">
              <a:spcBef>
                <a:spcPts val="50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3" marL="1838880" indent="-468000">
              <a:spcBef>
                <a:spcPts val="50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4" marL="2227680" indent="-468000">
              <a:spcBef>
                <a:spcPts val="50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5" marL="2227680" indent="-468000">
              <a:spcBef>
                <a:spcPts val="50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6" marL="2227680" indent="-468000">
              <a:spcBef>
                <a:spcPts val="50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ldNum" idx="4"/>
          </p:nvPr>
        </p:nvSpPr>
        <p:spPr>
          <a:xfrm>
            <a:off x="6343560" y="9271080"/>
            <a:ext cx="317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181818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3AD7D-DFC6-405F-8937-2B2E265CDA87}" type="slidenum">
              <a:rPr b="0" lang="en-US" sz="1800" spc="-1" strike="noStrike">
                <a:solidFill>
                  <a:srgbClr val="181818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Click to edit the title text format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ldNum" idx="5"/>
          </p:nvPr>
        </p:nvSpPr>
        <p:spPr>
          <a:xfrm>
            <a:off x="6343560" y="9271080"/>
            <a:ext cx="317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181818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EF9B8-435E-4E17-B38F-5EE1FECCBA08}" type="slidenum">
              <a:rPr b="0" lang="en-US" sz="1800" spc="-1" strike="noStrike">
                <a:solidFill>
                  <a:srgbClr val="181818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400" spc="-1" strike="noStrike">
                <a:solidFill>
                  <a:srgbClr val="ffffff"/>
                </a:solidFill>
                <a:latin typeface="Lucida Grande"/>
              </a:rPr>
              <a:t>Click to edit the title text format</a:t>
            </a:r>
            <a:endParaRPr b="1" lang="en-US" sz="8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ldNum" idx="6"/>
          </p:nvPr>
        </p:nvSpPr>
        <p:spPr>
          <a:xfrm>
            <a:off x="6343560" y="9271080"/>
            <a:ext cx="317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181818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5C246-607B-4F10-9800-5000385CDCA5}" type="slidenum">
              <a:rPr b="0" lang="en-US" sz="1800" spc="-1" strike="noStrike">
                <a:solidFill>
                  <a:srgbClr val="181818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35040" y="1523520"/>
            <a:ext cx="5867280" cy="330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Click to edit the title text format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35040" y="490212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1" algn="ctr">
              <a:spcBef>
                <a:spcPts val="201"/>
              </a:spcBef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2" algn="ctr">
              <a:spcBef>
                <a:spcPts val="201"/>
              </a:spcBef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3" algn="ctr">
              <a:spcBef>
                <a:spcPts val="201"/>
              </a:spcBef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4" algn="ctr">
              <a:spcBef>
                <a:spcPts val="201"/>
              </a:spcBef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5" algn="ctr">
              <a:spcBef>
                <a:spcPts val="201"/>
              </a:spcBef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6" algn="ctr">
              <a:spcBef>
                <a:spcPts val="201"/>
              </a:spcBef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sldNum" idx="7"/>
          </p:nvPr>
        </p:nvSpPr>
        <p:spPr>
          <a:xfrm>
            <a:off x="6343560" y="9271080"/>
            <a:ext cx="317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181818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AA16A-4540-417A-B7CA-54AF245085B0}" type="slidenum">
              <a:rPr b="0" lang="en-US" sz="1800" spc="-1" strike="noStrike">
                <a:solidFill>
                  <a:srgbClr val="181818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Click to edit the title text format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1000"/>
          </a:bodyPr>
          <a:p>
            <a:pPr marL="600120" indent="-38412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970560" indent="-38412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330560" indent="-38412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690920" indent="-38448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2061000" indent="-38448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2061000" indent="-38448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2061000" indent="-38448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sldNum" idx="8"/>
          </p:nvPr>
        </p:nvSpPr>
        <p:spPr>
          <a:xfrm>
            <a:off x="6343560" y="9271080"/>
            <a:ext cx="317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181818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25522-0740-415E-B9EF-D64E6F7D262A}" type="slidenum">
              <a:rPr b="0" lang="en-US" sz="1800" spc="-1" strike="noStrike">
                <a:solidFill>
                  <a:srgbClr val="181818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2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2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Andreas Zeller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title"/>
          </p:nvPr>
        </p:nvSpPr>
        <p:spPr>
          <a:xfrm>
            <a:off x="482400" y="1638360"/>
            <a:ext cx="12179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Reproducing Problems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pic>
        <p:nvPicPr>
          <p:cNvPr id="433" name="" descr=""/>
          <p:cNvPicPr/>
          <p:nvPr/>
        </p:nvPicPr>
        <p:blipFill>
          <a:blip r:embed="rId2"/>
          <a:stretch/>
        </p:blipFill>
        <p:spPr>
          <a:xfrm>
            <a:off x="7873920" y="4443480"/>
            <a:ext cx="5664240" cy="761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Program Inputs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0" y="0"/>
            <a:ext cx="8256600" cy="6355440"/>
            <a:chOff x="0" y="0"/>
            <a:chExt cx="8256600" cy="6355440"/>
          </a:xfrm>
        </p:grpSpPr>
        <p:pic>
          <p:nvPicPr>
            <p:cNvPr id="454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195720" cy="2397240"/>
            </a:xfrm>
            <a:prstGeom prst="rect">
              <a:avLst/>
            </a:prstGeom>
            <a:ln w="76320">
              <a:solidFill>
                <a:srgbClr val="ffffff"/>
              </a:solidFill>
              <a:miter/>
            </a:ln>
            <a:effectLst>
              <a:outerShdw dist="76367" dir="2700000" blurRad="0" rotWithShape="0">
                <a:srgbClr val="000000">
                  <a:alpha val="75000"/>
                </a:srgbClr>
              </a:outerShdw>
            </a:effectLst>
          </p:spPr>
        </p:pic>
        <p:sp>
          <p:nvSpPr>
            <p:cNvPr id="455" name=""/>
            <p:cNvSpPr/>
            <p:nvPr/>
          </p:nvSpPr>
          <p:spPr>
            <a:xfrm>
              <a:off x="6042960" y="5715000"/>
              <a:ext cx="2213640" cy="640440"/>
            </a:xfrm>
            <a:prstGeom prst="rect">
              <a:avLst/>
            </a:prstGeom>
            <a:noFill/>
            <a:ln w="0">
              <a:noFill/>
            </a:ln>
            <a:effectLst>
              <a:outerShdw dist="76367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Program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grpSp>
        <p:nvGrpSpPr>
          <p:cNvPr id="456" name=""/>
          <p:cNvGrpSpPr/>
          <p:nvPr/>
        </p:nvGrpSpPr>
        <p:grpSpPr>
          <a:xfrm>
            <a:off x="4375440" y="7505280"/>
            <a:ext cx="1427400" cy="1314000"/>
            <a:chOff x="4375440" y="7505280"/>
            <a:chExt cx="1427400" cy="1314000"/>
          </a:xfrm>
        </p:grpSpPr>
        <p:sp>
          <p:nvSpPr>
            <p:cNvPr id="457" name=""/>
            <p:cNvSpPr/>
            <p:nvPr/>
          </p:nvSpPr>
          <p:spPr>
            <a:xfrm>
              <a:off x="4375440" y="8178840"/>
              <a:ext cx="1178640" cy="640440"/>
            </a:xfrm>
            <a:prstGeom prst="rect">
              <a:avLst/>
            </a:prstGeom>
            <a:noFill/>
            <a:ln w="0">
              <a:noFill/>
            </a:ln>
            <a:effectLst>
              <a:outerShdw dist="76367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Data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458" name=""/>
            <p:cNvSpPr/>
            <p:nvPr/>
          </p:nvSpPr>
          <p:spPr>
            <a:xfrm flipV="1">
              <a:off x="5052960" y="7505280"/>
              <a:ext cx="749880" cy="74916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grpSp>
        <p:nvGrpSpPr>
          <p:cNvPr id="459" name=""/>
          <p:cNvGrpSpPr/>
          <p:nvPr/>
        </p:nvGrpSpPr>
        <p:grpSpPr>
          <a:xfrm>
            <a:off x="385560" y="6527880"/>
            <a:ext cx="5012280" cy="640440"/>
            <a:chOff x="385560" y="6527880"/>
            <a:chExt cx="5012280" cy="640440"/>
          </a:xfrm>
        </p:grpSpPr>
        <p:sp>
          <p:nvSpPr>
            <p:cNvPr id="460" name=""/>
            <p:cNvSpPr/>
            <p:nvPr/>
          </p:nvSpPr>
          <p:spPr>
            <a:xfrm>
              <a:off x="385560" y="6527880"/>
              <a:ext cx="4066920" cy="640440"/>
            </a:xfrm>
            <a:prstGeom prst="rect">
              <a:avLst/>
            </a:prstGeom>
            <a:noFill/>
            <a:ln w="0">
              <a:noFill/>
            </a:ln>
            <a:effectLst>
              <a:outerShdw dist="76367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User Interaction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461" name=""/>
            <p:cNvSpPr/>
            <p:nvPr/>
          </p:nvSpPr>
          <p:spPr>
            <a:xfrm flipV="1">
              <a:off x="4354920" y="6667200"/>
              <a:ext cx="1042920" cy="29844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grpSp>
        <p:nvGrpSpPr>
          <p:cNvPr id="462" name=""/>
          <p:cNvGrpSpPr/>
          <p:nvPr/>
        </p:nvGrpSpPr>
        <p:grpSpPr>
          <a:xfrm>
            <a:off x="698400" y="4813200"/>
            <a:ext cx="4673520" cy="811080"/>
            <a:chOff x="698400" y="4813200"/>
            <a:chExt cx="4673520" cy="811080"/>
          </a:xfrm>
        </p:grpSpPr>
        <p:sp>
          <p:nvSpPr>
            <p:cNvPr id="463" name=""/>
            <p:cNvSpPr/>
            <p:nvPr/>
          </p:nvSpPr>
          <p:spPr>
            <a:xfrm>
              <a:off x="698400" y="4813200"/>
              <a:ext cx="3670200" cy="723960"/>
            </a:xfrm>
            <a:prstGeom prst="rect">
              <a:avLst/>
            </a:prstGeom>
            <a:noFill/>
            <a:ln w="0">
              <a:noFill/>
            </a:ln>
            <a:effectLst>
              <a:outerShdw dist="76367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66680"/>
                  <a:tab algn="l" pos="369576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Communication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292640" y="5232240"/>
              <a:ext cx="1079280" cy="39204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grpSp>
        <p:nvGrpSpPr>
          <p:cNvPr id="465" name=""/>
          <p:cNvGrpSpPr/>
          <p:nvPr/>
        </p:nvGrpSpPr>
        <p:grpSpPr>
          <a:xfrm>
            <a:off x="3632040" y="3416400"/>
            <a:ext cx="2832120" cy="1214280"/>
            <a:chOff x="3632040" y="3416400"/>
            <a:chExt cx="2832120" cy="1214280"/>
          </a:xfrm>
        </p:grpSpPr>
        <p:sp>
          <p:nvSpPr>
            <p:cNvPr id="466" name=""/>
            <p:cNvSpPr/>
            <p:nvPr/>
          </p:nvSpPr>
          <p:spPr>
            <a:xfrm>
              <a:off x="3632040" y="3416400"/>
              <a:ext cx="2832120" cy="723960"/>
            </a:xfrm>
            <a:prstGeom prst="rect">
              <a:avLst/>
            </a:prstGeom>
            <a:noFill/>
            <a:ln w="0">
              <a:noFill/>
            </a:ln>
            <a:effectLst>
              <a:outerShdw dist="76367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66680"/>
                  <a:tab algn="l" pos="285768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Randomness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092560" y="4152960"/>
              <a:ext cx="611280" cy="47772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grpSp>
        <p:nvGrpSpPr>
          <p:cNvPr id="468" name=""/>
          <p:cNvGrpSpPr/>
          <p:nvPr/>
        </p:nvGrpSpPr>
        <p:grpSpPr>
          <a:xfrm>
            <a:off x="7658280" y="3416400"/>
            <a:ext cx="4063680" cy="1350360"/>
            <a:chOff x="7658280" y="3416400"/>
            <a:chExt cx="4063680" cy="1350360"/>
          </a:xfrm>
        </p:grpSpPr>
        <p:sp>
          <p:nvSpPr>
            <p:cNvPr id="469" name=""/>
            <p:cNvSpPr/>
            <p:nvPr/>
          </p:nvSpPr>
          <p:spPr>
            <a:xfrm>
              <a:off x="7658280" y="3416400"/>
              <a:ext cx="4063680" cy="723600"/>
            </a:xfrm>
            <a:prstGeom prst="rect">
              <a:avLst/>
            </a:prstGeom>
            <a:noFill/>
            <a:ln w="0">
              <a:noFill/>
            </a:ln>
            <a:effectLst>
              <a:outerShdw dist="76367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66680"/>
                  <a:tab algn="l" pos="40892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Operating System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470" name=""/>
            <p:cNvSpPr/>
            <p:nvPr/>
          </p:nvSpPr>
          <p:spPr>
            <a:xfrm flipH="1">
              <a:off x="8445240" y="4165200"/>
              <a:ext cx="769680" cy="60156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grpSp>
        <p:nvGrpSpPr>
          <p:cNvPr id="471" name=""/>
          <p:cNvGrpSpPr/>
          <p:nvPr/>
        </p:nvGrpSpPr>
        <p:grpSpPr>
          <a:xfrm>
            <a:off x="8953200" y="4800600"/>
            <a:ext cx="3607200" cy="723960"/>
            <a:chOff x="8953200" y="4800600"/>
            <a:chExt cx="3607200" cy="723960"/>
          </a:xfrm>
        </p:grpSpPr>
        <p:sp>
          <p:nvSpPr>
            <p:cNvPr id="472" name=""/>
            <p:cNvSpPr/>
            <p:nvPr/>
          </p:nvSpPr>
          <p:spPr>
            <a:xfrm>
              <a:off x="10274400" y="4800600"/>
              <a:ext cx="2286000" cy="723960"/>
            </a:xfrm>
            <a:prstGeom prst="rect">
              <a:avLst/>
            </a:prstGeom>
            <a:noFill/>
            <a:ln w="0">
              <a:noFill/>
            </a:ln>
            <a:effectLst>
              <a:outerShdw dist="76367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66680"/>
                  <a:tab algn="l" pos="23115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Schedules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473" name=""/>
            <p:cNvSpPr/>
            <p:nvPr/>
          </p:nvSpPr>
          <p:spPr>
            <a:xfrm flipH="1">
              <a:off x="8953200" y="5168880"/>
              <a:ext cx="1306440" cy="16020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grpSp>
        <p:nvGrpSpPr>
          <p:cNvPr id="474" name=""/>
          <p:cNvGrpSpPr/>
          <p:nvPr/>
        </p:nvGrpSpPr>
        <p:grpSpPr>
          <a:xfrm>
            <a:off x="9042120" y="6515280"/>
            <a:ext cx="3225600" cy="723600"/>
            <a:chOff x="9042120" y="6515280"/>
            <a:chExt cx="3225600" cy="723600"/>
          </a:xfrm>
        </p:grpSpPr>
        <p:sp>
          <p:nvSpPr>
            <p:cNvPr id="475" name=""/>
            <p:cNvSpPr/>
            <p:nvPr/>
          </p:nvSpPr>
          <p:spPr>
            <a:xfrm>
              <a:off x="10616760" y="6515280"/>
              <a:ext cx="1650960" cy="723600"/>
            </a:xfrm>
            <a:prstGeom prst="rect">
              <a:avLst/>
            </a:prstGeom>
            <a:noFill/>
            <a:ln w="0">
              <a:noFill/>
            </a:ln>
            <a:effectLst>
              <a:outerShdw dist="76367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66680"/>
                  <a:tab algn="l" pos="16765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Physics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476" name=""/>
            <p:cNvSpPr/>
            <p:nvPr/>
          </p:nvSpPr>
          <p:spPr>
            <a:xfrm flipH="1" flipV="1">
              <a:off x="9042120" y="6629040"/>
              <a:ext cx="1572840" cy="30420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grpSp>
        <p:nvGrpSpPr>
          <p:cNvPr id="477" name=""/>
          <p:cNvGrpSpPr/>
          <p:nvPr/>
        </p:nvGrpSpPr>
        <p:grpSpPr>
          <a:xfrm>
            <a:off x="7886880" y="7441920"/>
            <a:ext cx="3606480" cy="1422720"/>
            <a:chOff x="7886880" y="7441920"/>
            <a:chExt cx="3606480" cy="1422720"/>
          </a:xfrm>
        </p:grpSpPr>
        <p:sp>
          <p:nvSpPr>
            <p:cNvPr id="478" name=""/>
            <p:cNvSpPr/>
            <p:nvPr/>
          </p:nvSpPr>
          <p:spPr>
            <a:xfrm>
              <a:off x="7886880" y="8140680"/>
              <a:ext cx="3606480" cy="723960"/>
            </a:xfrm>
            <a:prstGeom prst="rect">
              <a:avLst/>
            </a:prstGeom>
            <a:noFill/>
            <a:ln w="0">
              <a:noFill/>
            </a:ln>
            <a:effectLst>
              <a:outerShdw dist="76367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66680"/>
                  <a:tab algn="l" pos="363204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Debugging Tools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479" name=""/>
            <p:cNvSpPr/>
            <p:nvPr/>
          </p:nvSpPr>
          <p:spPr>
            <a:xfrm flipH="1" flipV="1">
              <a:off x="8381520" y="7441920"/>
              <a:ext cx="799560" cy="80028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50B0FD-7393-4321-9E3F-8CF9D843AFD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Program Inputs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grpSp>
        <p:nvGrpSpPr>
          <p:cNvPr id="481" name=""/>
          <p:cNvGrpSpPr/>
          <p:nvPr/>
        </p:nvGrpSpPr>
        <p:grpSpPr>
          <a:xfrm>
            <a:off x="0" y="0"/>
            <a:ext cx="8256600" cy="6355440"/>
            <a:chOff x="0" y="0"/>
            <a:chExt cx="8256600" cy="6355440"/>
          </a:xfrm>
        </p:grpSpPr>
        <p:pic>
          <p:nvPicPr>
            <p:cNvPr id="48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195720" cy="2397240"/>
            </a:xfrm>
            <a:prstGeom prst="rect">
              <a:avLst/>
            </a:prstGeom>
            <a:ln w="76320">
              <a:solidFill>
                <a:srgbClr val="ffffff"/>
              </a:solidFill>
              <a:miter/>
            </a:ln>
            <a:effectLst>
              <a:outerShdw dist="76367" dir="2700000" blurRad="0" rotWithShape="0">
                <a:srgbClr val="000000">
                  <a:alpha val="75000"/>
                </a:srgbClr>
              </a:outerShdw>
            </a:effectLst>
          </p:spPr>
        </p:pic>
        <p:sp>
          <p:nvSpPr>
            <p:cNvPr id="483" name=""/>
            <p:cNvSpPr/>
            <p:nvPr/>
          </p:nvSpPr>
          <p:spPr>
            <a:xfrm>
              <a:off x="6042960" y="5715000"/>
              <a:ext cx="2213640" cy="640440"/>
            </a:xfrm>
            <a:prstGeom prst="rect">
              <a:avLst/>
            </a:prstGeom>
            <a:noFill/>
            <a:ln w="0">
              <a:noFill/>
            </a:ln>
            <a:effectLst>
              <a:outerShdw dist="76367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Program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sp>
        <p:nvSpPr>
          <p:cNvPr id="484" name=""/>
          <p:cNvSpPr/>
          <p:nvPr/>
        </p:nvSpPr>
        <p:spPr>
          <a:xfrm>
            <a:off x="4375800" y="8178840"/>
            <a:ext cx="1178640" cy="64044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Data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5" name=""/>
          <p:cNvSpPr/>
          <p:nvPr/>
        </p:nvSpPr>
        <p:spPr>
          <a:xfrm flipV="1">
            <a:off x="5054040" y="7505640"/>
            <a:ext cx="749160" cy="74952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39F92-89FA-45AD-9FAC-5B2005E8C2B1}" type="slidenum">
              <a:t>11</a:t>
            </a:fld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Data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68320" indent="-550800">
              <a:lnSpc>
                <a:spcPct val="100000"/>
              </a:lnSpc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Easy to transfer and replicate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aveat #1: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Get all the data you need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aveat #2: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Get only the data you need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aveat #3: Privacy issue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BFAFD-6B97-476B-98A9-835FC1D31E4D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Program Inputs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grpSp>
        <p:nvGrpSpPr>
          <p:cNvPr id="489" name=""/>
          <p:cNvGrpSpPr/>
          <p:nvPr/>
        </p:nvGrpSpPr>
        <p:grpSpPr>
          <a:xfrm>
            <a:off x="0" y="0"/>
            <a:ext cx="8256600" cy="6355440"/>
            <a:chOff x="0" y="0"/>
            <a:chExt cx="8256600" cy="6355440"/>
          </a:xfrm>
        </p:grpSpPr>
        <p:pic>
          <p:nvPicPr>
            <p:cNvPr id="490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195720" cy="2397240"/>
            </a:xfrm>
            <a:prstGeom prst="rect">
              <a:avLst/>
            </a:prstGeom>
            <a:ln w="76320">
              <a:solidFill>
                <a:srgbClr val="ffffff"/>
              </a:solidFill>
              <a:miter/>
            </a:ln>
            <a:effectLst>
              <a:outerShdw dist="76367" dir="2700000" blurRad="0" rotWithShape="0">
                <a:srgbClr val="000000">
                  <a:alpha val="75000"/>
                </a:srgbClr>
              </a:outerShdw>
            </a:effectLst>
          </p:spPr>
        </p:pic>
        <p:sp>
          <p:nvSpPr>
            <p:cNvPr id="491" name=""/>
            <p:cNvSpPr/>
            <p:nvPr/>
          </p:nvSpPr>
          <p:spPr>
            <a:xfrm>
              <a:off x="6042960" y="5715000"/>
              <a:ext cx="2213640" cy="640440"/>
            </a:xfrm>
            <a:prstGeom prst="rect">
              <a:avLst/>
            </a:prstGeom>
            <a:noFill/>
            <a:ln w="0">
              <a:noFill/>
            </a:ln>
            <a:effectLst>
              <a:outerShdw dist="76367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Program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sp>
        <p:nvSpPr>
          <p:cNvPr id="492" name=""/>
          <p:cNvSpPr/>
          <p:nvPr/>
        </p:nvSpPr>
        <p:spPr>
          <a:xfrm>
            <a:off x="4375800" y="8178840"/>
            <a:ext cx="1178640" cy="64044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e7e7e"/>
                </a:solidFill>
                <a:latin typeface="Gill Sans"/>
                <a:ea typeface="Gill Sans"/>
              </a:rPr>
              <a:t>Data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3" name=""/>
          <p:cNvSpPr/>
          <p:nvPr/>
        </p:nvSpPr>
        <p:spPr>
          <a:xfrm flipV="1">
            <a:off x="5054040" y="7505640"/>
            <a:ext cx="749160" cy="749520"/>
          </a:xfrm>
          <a:prstGeom prst="line">
            <a:avLst/>
          </a:prstGeom>
          <a:ln w="50760">
            <a:solidFill>
              <a:srgbClr val="7e7e7e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4" name=""/>
          <p:cNvSpPr/>
          <p:nvPr/>
        </p:nvSpPr>
        <p:spPr>
          <a:xfrm>
            <a:off x="385200" y="6527880"/>
            <a:ext cx="4066920" cy="64044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User Interaction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5" name=""/>
          <p:cNvSpPr/>
          <p:nvPr/>
        </p:nvSpPr>
        <p:spPr>
          <a:xfrm flipV="1">
            <a:off x="4355280" y="6667200"/>
            <a:ext cx="1042920" cy="29844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5E6F35-CCAF-4396-9398-8BD7D9283C20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User Interaction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grpSp>
        <p:nvGrpSpPr>
          <p:cNvPr id="497" name=""/>
          <p:cNvGrpSpPr/>
          <p:nvPr/>
        </p:nvGrpSpPr>
        <p:grpSpPr>
          <a:xfrm>
            <a:off x="0" y="0"/>
            <a:ext cx="6159600" cy="8577720"/>
            <a:chOff x="0" y="0"/>
            <a:chExt cx="6159600" cy="8577720"/>
          </a:xfrm>
        </p:grpSpPr>
        <p:pic>
          <p:nvPicPr>
            <p:cNvPr id="498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6159600" cy="417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9" name=""/>
            <p:cNvSpPr/>
            <p:nvPr/>
          </p:nvSpPr>
          <p:spPr>
            <a:xfrm>
              <a:off x="2718720" y="7937280"/>
              <a:ext cx="176112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Record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grpSp>
        <p:nvGrpSpPr>
          <p:cNvPr id="500" name=""/>
          <p:cNvGrpSpPr/>
          <p:nvPr/>
        </p:nvGrpSpPr>
        <p:grpSpPr>
          <a:xfrm>
            <a:off x="0" y="0"/>
            <a:ext cx="10594080" cy="8577720"/>
            <a:chOff x="0" y="0"/>
            <a:chExt cx="10594080" cy="8577720"/>
          </a:xfrm>
        </p:grpSpPr>
        <p:pic>
          <p:nvPicPr>
            <p:cNvPr id="501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159600" cy="417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2" name=""/>
            <p:cNvSpPr/>
            <p:nvPr/>
          </p:nvSpPr>
          <p:spPr>
            <a:xfrm>
              <a:off x="8924400" y="7937280"/>
              <a:ext cx="166968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Replay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78D790-92FC-4036-9E1F-E5815DAA77DB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Recorded Interaction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04" name=""/>
          <p:cNvSpPr/>
          <p:nvPr/>
        </p:nvSpPr>
        <p:spPr>
          <a:xfrm>
            <a:off x="1574640" y="2247840"/>
            <a:ext cx="9842760" cy="65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986796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send_xevents key H @400,100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986796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send_xevents wait 376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986796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send_xevents key T @400,100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986796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send_xevents wait 178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986796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send_xevents key T @400,100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986796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send_xevents wait 214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986796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send_xevents key P @400,101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986796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send_xevents wait 537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986796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send_xevents keydn Shift_L @400,101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986796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send_xevents wait 218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986796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send_xevents key “;” @400,101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986796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send_xevents wait 167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986796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send_xevents keyup Shift_L @400,101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986796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send_xevents wait 1556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986796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send_xevents click 1 @428,287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986796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send_xevents wait 3765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241DD9-D5C0-4136-81F7-5D12835DEF74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Program Inputs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grpSp>
        <p:nvGrpSpPr>
          <p:cNvPr id="506" name=""/>
          <p:cNvGrpSpPr/>
          <p:nvPr/>
        </p:nvGrpSpPr>
        <p:grpSpPr>
          <a:xfrm>
            <a:off x="0" y="0"/>
            <a:ext cx="8256600" cy="6355440"/>
            <a:chOff x="0" y="0"/>
            <a:chExt cx="8256600" cy="6355440"/>
          </a:xfrm>
        </p:grpSpPr>
        <p:pic>
          <p:nvPicPr>
            <p:cNvPr id="507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195720" cy="2397240"/>
            </a:xfrm>
            <a:prstGeom prst="rect">
              <a:avLst/>
            </a:prstGeom>
            <a:ln w="76320">
              <a:solidFill>
                <a:srgbClr val="ffffff"/>
              </a:solidFill>
              <a:miter/>
            </a:ln>
            <a:effectLst>
              <a:outerShdw dist="76367" dir="2700000" blurRad="0" rotWithShape="0">
                <a:srgbClr val="000000">
                  <a:alpha val="75000"/>
                </a:srgbClr>
              </a:outerShdw>
            </a:effectLst>
          </p:spPr>
        </p:pic>
        <p:sp>
          <p:nvSpPr>
            <p:cNvPr id="508" name=""/>
            <p:cNvSpPr/>
            <p:nvPr/>
          </p:nvSpPr>
          <p:spPr>
            <a:xfrm>
              <a:off x="6042960" y="5715000"/>
              <a:ext cx="2213640" cy="640440"/>
            </a:xfrm>
            <a:prstGeom prst="rect">
              <a:avLst/>
            </a:prstGeom>
            <a:noFill/>
            <a:ln w="0">
              <a:noFill/>
            </a:ln>
            <a:effectLst>
              <a:outerShdw dist="76367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Program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sp>
        <p:nvSpPr>
          <p:cNvPr id="509" name=""/>
          <p:cNvSpPr/>
          <p:nvPr/>
        </p:nvSpPr>
        <p:spPr>
          <a:xfrm>
            <a:off x="4375800" y="8178840"/>
            <a:ext cx="1178640" cy="64044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e7e7e"/>
                </a:solidFill>
                <a:latin typeface="Gill Sans"/>
                <a:ea typeface="Gill Sans"/>
              </a:rPr>
              <a:t>Data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0" name=""/>
          <p:cNvSpPr/>
          <p:nvPr/>
        </p:nvSpPr>
        <p:spPr>
          <a:xfrm flipV="1">
            <a:off x="5054040" y="7505640"/>
            <a:ext cx="749160" cy="749520"/>
          </a:xfrm>
          <a:prstGeom prst="line">
            <a:avLst/>
          </a:prstGeom>
          <a:ln w="50760">
            <a:solidFill>
              <a:srgbClr val="7e7e7e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1" name=""/>
          <p:cNvSpPr/>
          <p:nvPr/>
        </p:nvSpPr>
        <p:spPr>
          <a:xfrm>
            <a:off x="385200" y="6527880"/>
            <a:ext cx="4066920" cy="64044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e7e7e"/>
                </a:solidFill>
                <a:latin typeface="Gill Sans"/>
                <a:ea typeface="Gill Sans"/>
              </a:rPr>
              <a:t>User Interaction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2" name=""/>
          <p:cNvSpPr/>
          <p:nvPr/>
        </p:nvSpPr>
        <p:spPr>
          <a:xfrm flipV="1">
            <a:off x="4355280" y="6667200"/>
            <a:ext cx="1042920" cy="298440"/>
          </a:xfrm>
          <a:prstGeom prst="line">
            <a:avLst/>
          </a:prstGeom>
          <a:ln w="50760">
            <a:solidFill>
              <a:srgbClr val="7e7e7e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3" name=""/>
          <p:cNvSpPr/>
          <p:nvPr/>
        </p:nvSpPr>
        <p:spPr>
          <a:xfrm>
            <a:off x="698400" y="4813200"/>
            <a:ext cx="3670560" cy="72396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3695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Communication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4" name=""/>
          <p:cNvSpPr/>
          <p:nvPr/>
        </p:nvSpPr>
        <p:spPr>
          <a:xfrm>
            <a:off x="4292640" y="5232240"/>
            <a:ext cx="1079640" cy="39240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E24C1A-6450-4FAF-B095-7B5081DB8CB1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Communication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68320" indent="-550800">
              <a:lnSpc>
                <a:spcPct val="100000"/>
              </a:lnSpc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General idea: Record and replay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8320" indent="-550800">
              <a:lnSpc>
                <a:spcPct val="100000"/>
              </a:lnSpc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like user interaction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Bad impact on performance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Alternative #1: Only record since last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checkpoint 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(= reproducible state)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Alternative #2: Only record “last” transaction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95C20-EFB8-4DBF-9D09-4AF64D671EA3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Program Inputs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0" y="0"/>
            <a:ext cx="8256600" cy="6355440"/>
            <a:chOff x="0" y="0"/>
            <a:chExt cx="8256600" cy="6355440"/>
          </a:xfrm>
        </p:grpSpPr>
        <p:pic>
          <p:nvPicPr>
            <p:cNvPr id="519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195720" cy="2397240"/>
            </a:xfrm>
            <a:prstGeom prst="rect">
              <a:avLst/>
            </a:prstGeom>
            <a:ln w="76320">
              <a:solidFill>
                <a:srgbClr val="ffffff"/>
              </a:solidFill>
              <a:miter/>
            </a:ln>
            <a:effectLst>
              <a:outerShdw dist="76367" dir="2700000" blurRad="0" rotWithShape="0">
                <a:srgbClr val="000000">
                  <a:alpha val="75000"/>
                </a:srgbClr>
              </a:outerShdw>
            </a:effectLst>
          </p:spPr>
        </p:pic>
        <p:sp>
          <p:nvSpPr>
            <p:cNvPr id="520" name=""/>
            <p:cNvSpPr/>
            <p:nvPr/>
          </p:nvSpPr>
          <p:spPr>
            <a:xfrm>
              <a:off x="6042960" y="5715000"/>
              <a:ext cx="2213640" cy="640440"/>
            </a:xfrm>
            <a:prstGeom prst="rect">
              <a:avLst/>
            </a:prstGeom>
            <a:noFill/>
            <a:ln w="0">
              <a:noFill/>
            </a:ln>
            <a:effectLst>
              <a:outerShdw dist="76367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Program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sp>
        <p:nvSpPr>
          <p:cNvPr id="521" name=""/>
          <p:cNvSpPr/>
          <p:nvPr/>
        </p:nvSpPr>
        <p:spPr>
          <a:xfrm>
            <a:off x="4375800" y="8178840"/>
            <a:ext cx="1178640" cy="64044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e7e7e"/>
                </a:solidFill>
                <a:latin typeface="Gill Sans"/>
                <a:ea typeface="Gill Sans"/>
              </a:rPr>
              <a:t>Data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2" name=""/>
          <p:cNvSpPr/>
          <p:nvPr/>
        </p:nvSpPr>
        <p:spPr>
          <a:xfrm flipV="1">
            <a:off x="5054040" y="7505640"/>
            <a:ext cx="749160" cy="749520"/>
          </a:xfrm>
          <a:prstGeom prst="line">
            <a:avLst/>
          </a:prstGeom>
          <a:ln w="50760">
            <a:solidFill>
              <a:srgbClr val="7e7e7e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3" name=""/>
          <p:cNvSpPr/>
          <p:nvPr/>
        </p:nvSpPr>
        <p:spPr>
          <a:xfrm>
            <a:off x="385200" y="6527880"/>
            <a:ext cx="4066920" cy="64044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e7e7e"/>
                </a:solidFill>
                <a:latin typeface="Gill Sans"/>
                <a:ea typeface="Gill Sans"/>
              </a:rPr>
              <a:t>User Interaction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4" name=""/>
          <p:cNvSpPr/>
          <p:nvPr/>
        </p:nvSpPr>
        <p:spPr>
          <a:xfrm flipV="1">
            <a:off x="4355280" y="6667200"/>
            <a:ext cx="1042920" cy="298440"/>
          </a:xfrm>
          <a:prstGeom prst="line">
            <a:avLst/>
          </a:prstGeom>
          <a:ln w="50760">
            <a:solidFill>
              <a:srgbClr val="7e7e7e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5" name=""/>
          <p:cNvSpPr/>
          <p:nvPr/>
        </p:nvSpPr>
        <p:spPr>
          <a:xfrm>
            <a:off x="698400" y="4813200"/>
            <a:ext cx="3670560" cy="72396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3695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e7e7e"/>
                </a:solidFill>
                <a:latin typeface="Gill Sans"/>
                <a:ea typeface="Gill Sans"/>
              </a:rPr>
              <a:t>Communication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6" name=""/>
          <p:cNvSpPr/>
          <p:nvPr/>
        </p:nvSpPr>
        <p:spPr>
          <a:xfrm>
            <a:off x="4292640" y="5232240"/>
            <a:ext cx="1079640" cy="392400"/>
          </a:xfrm>
          <a:prstGeom prst="line">
            <a:avLst/>
          </a:prstGeom>
          <a:ln w="50760">
            <a:solidFill>
              <a:srgbClr val="7e7e7e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7" name=""/>
          <p:cNvSpPr/>
          <p:nvPr/>
        </p:nvSpPr>
        <p:spPr>
          <a:xfrm>
            <a:off x="3632040" y="3416400"/>
            <a:ext cx="2832120" cy="72396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Randomnes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8" name=""/>
          <p:cNvSpPr/>
          <p:nvPr/>
        </p:nvSpPr>
        <p:spPr>
          <a:xfrm>
            <a:off x="5092560" y="4152960"/>
            <a:ext cx="611280" cy="47772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65729-30F6-4782-ACFF-6DCEF6725938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Randomness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5000"/>
          </a:bodyPr>
          <a:p>
            <a:pPr marL="824760" indent="-523080">
              <a:lnSpc>
                <a:spcPct val="100000"/>
              </a:lnSpc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973160"/>
                <a:tab algn="l" pos="2417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Program behaves different in every run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24760" indent="-52308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973160"/>
                <a:tab algn="l" pos="2417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Based on random number generator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258920" indent="-52308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973160"/>
                <a:tab algn="l" pos="2417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Pseudo-random: save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seed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258920" indent="-523080">
              <a:lnSpc>
                <a:spcPct val="100000"/>
              </a:lnSpc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973160"/>
                <a:tab algn="l" pos="2417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(and make it configurable)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681560" indent="-52308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973160"/>
                <a:tab algn="l" pos="2417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ame applies to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time of day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258920" indent="-52308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973160"/>
                <a:tab algn="l" pos="2417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rue random: record + replay sequence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308E1-D2C3-4B53-A5CA-D1D7673CE63D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The First Task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68320" indent="-550800">
              <a:lnSpc>
                <a:spcPct val="100000"/>
              </a:lnSpc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Once a problem is reported (or exposed by a test), some programmer must fix it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e first task is to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reproduce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 the problem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4F432-A0E2-4671-B346-634F143D46C3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Program Inputs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grpSp>
        <p:nvGrpSpPr>
          <p:cNvPr id="532" name=""/>
          <p:cNvGrpSpPr/>
          <p:nvPr/>
        </p:nvGrpSpPr>
        <p:grpSpPr>
          <a:xfrm>
            <a:off x="0" y="0"/>
            <a:ext cx="8256600" cy="6355440"/>
            <a:chOff x="0" y="0"/>
            <a:chExt cx="8256600" cy="6355440"/>
          </a:xfrm>
        </p:grpSpPr>
        <p:pic>
          <p:nvPicPr>
            <p:cNvPr id="533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195720" cy="2397240"/>
            </a:xfrm>
            <a:prstGeom prst="rect">
              <a:avLst/>
            </a:prstGeom>
            <a:ln w="76320">
              <a:solidFill>
                <a:srgbClr val="ffffff"/>
              </a:solidFill>
              <a:miter/>
            </a:ln>
            <a:effectLst>
              <a:outerShdw dist="76367" dir="2700000" blurRad="0" rotWithShape="0">
                <a:srgbClr val="000000">
                  <a:alpha val="75000"/>
                </a:srgbClr>
              </a:outerShdw>
            </a:effectLst>
          </p:spPr>
        </p:pic>
        <p:sp>
          <p:nvSpPr>
            <p:cNvPr id="534" name=""/>
            <p:cNvSpPr/>
            <p:nvPr/>
          </p:nvSpPr>
          <p:spPr>
            <a:xfrm>
              <a:off x="6042960" y="5715000"/>
              <a:ext cx="2213640" cy="640440"/>
            </a:xfrm>
            <a:prstGeom prst="rect">
              <a:avLst/>
            </a:prstGeom>
            <a:noFill/>
            <a:ln w="0">
              <a:noFill/>
            </a:ln>
            <a:effectLst>
              <a:outerShdw dist="76367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Program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sp>
        <p:nvSpPr>
          <p:cNvPr id="535" name=""/>
          <p:cNvSpPr/>
          <p:nvPr/>
        </p:nvSpPr>
        <p:spPr>
          <a:xfrm>
            <a:off x="4375800" y="8178840"/>
            <a:ext cx="1178640" cy="64044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e7e7e"/>
                </a:solidFill>
                <a:latin typeface="Gill Sans"/>
                <a:ea typeface="Gill Sans"/>
              </a:rPr>
              <a:t>Data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6" name=""/>
          <p:cNvSpPr/>
          <p:nvPr/>
        </p:nvSpPr>
        <p:spPr>
          <a:xfrm flipV="1">
            <a:off x="5054040" y="7505640"/>
            <a:ext cx="749160" cy="749520"/>
          </a:xfrm>
          <a:prstGeom prst="line">
            <a:avLst/>
          </a:prstGeom>
          <a:ln w="50760">
            <a:solidFill>
              <a:srgbClr val="7e7e7e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7" name=""/>
          <p:cNvSpPr/>
          <p:nvPr/>
        </p:nvSpPr>
        <p:spPr>
          <a:xfrm>
            <a:off x="385200" y="6527880"/>
            <a:ext cx="4066920" cy="64044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e7e7e"/>
                </a:solidFill>
                <a:latin typeface="Gill Sans"/>
                <a:ea typeface="Gill Sans"/>
              </a:rPr>
              <a:t>User Interaction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4355280" y="6667200"/>
            <a:ext cx="1042920" cy="298440"/>
          </a:xfrm>
          <a:prstGeom prst="line">
            <a:avLst/>
          </a:prstGeom>
          <a:ln w="50760">
            <a:solidFill>
              <a:srgbClr val="7e7e7e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9" name=""/>
          <p:cNvSpPr/>
          <p:nvPr/>
        </p:nvSpPr>
        <p:spPr>
          <a:xfrm>
            <a:off x="698400" y="4813200"/>
            <a:ext cx="3670560" cy="72396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3695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e7e7e"/>
                </a:solidFill>
                <a:latin typeface="Gill Sans"/>
                <a:ea typeface="Gill Sans"/>
              </a:rPr>
              <a:t>Communication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0" name=""/>
          <p:cNvSpPr/>
          <p:nvPr/>
        </p:nvSpPr>
        <p:spPr>
          <a:xfrm>
            <a:off x="4292640" y="5232240"/>
            <a:ext cx="1079640" cy="392400"/>
          </a:xfrm>
          <a:prstGeom prst="line">
            <a:avLst/>
          </a:prstGeom>
          <a:ln w="50760">
            <a:solidFill>
              <a:srgbClr val="7e7e7e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1" name=""/>
          <p:cNvSpPr/>
          <p:nvPr/>
        </p:nvSpPr>
        <p:spPr>
          <a:xfrm>
            <a:off x="3632040" y="3416400"/>
            <a:ext cx="2832120" cy="72396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e7e7e"/>
                </a:solidFill>
                <a:latin typeface="Gill Sans"/>
                <a:ea typeface="Gill Sans"/>
              </a:rPr>
              <a:t>Randomnes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2" name=""/>
          <p:cNvSpPr/>
          <p:nvPr/>
        </p:nvSpPr>
        <p:spPr>
          <a:xfrm>
            <a:off x="5092560" y="4152960"/>
            <a:ext cx="611280" cy="477720"/>
          </a:xfrm>
          <a:prstGeom prst="line">
            <a:avLst/>
          </a:prstGeom>
          <a:ln w="50760">
            <a:solidFill>
              <a:srgbClr val="7e7e7e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3" name=""/>
          <p:cNvSpPr/>
          <p:nvPr/>
        </p:nvSpPr>
        <p:spPr>
          <a:xfrm>
            <a:off x="7658280" y="3416400"/>
            <a:ext cx="4063680" cy="72396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40892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Operating System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4" name=""/>
          <p:cNvSpPr/>
          <p:nvPr/>
        </p:nvSpPr>
        <p:spPr>
          <a:xfrm flipH="1">
            <a:off x="8445600" y="4165560"/>
            <a:ext cx="769680" cy="60156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73132F-3A79-4472-B78B-7C1E54210204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Operating System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68320" indent="-550800">
              <a:lnSpc>
                <a:spcPct val="100000"/>
              </a:lnSpc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e OS handles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entire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 interaction between program and environmen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Recording and replaying OS interaction thus makes entire program run reproducible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AAF55-E800-4B67-B2A1-ABD65F5C0227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/>
          <p:nvPr/>
        </p:nvSpPr>
        <p:spPr>
          <a:xfrm>
            <a:off x="825480" y="2616120"/>
            <a:ext cx="11341080" cy="65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366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#include &lt;string&gt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366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#include &lt;iostream&gt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366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using namespace std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366640"/>
              </a:tabLst>
            </a:pP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366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string </a:t>
            </a:r>
            <a:r>
              <a:rPr b="0" lang="en-US" sz="2400" spc="-1" strike="noStrike">
                <a:solidFill>
                  <a:srgbClr val="ffff00"/>
                </a:solidFill>
                <a:latin typeface="Monaco"/>
                <a:ea typeface="Monaco"/>
              </a:rPr>
              <a:t>secret_password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= "secret"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366640"/>
              </a:tabLst>
            </a:pP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366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int </a:t>
            </a:r>
            <a:r>
              <a:rPr b="0" lang="en-US" sz="2400" spc="-1" strike="noStrike">
                <a:solidFill>
                  <a:srgbClr val="ffff00"/>
                </a:solidFill>
                <a:latin typeface="Monaco"/>
                <a:ea typeface="Monaco"/>
              </a:rPr>
              <a:t>main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(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366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366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string given_password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366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cout &lt;&lt; "Please enter your password: "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366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cin &gt;&gt; given_password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366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if (given_password == secret_password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366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cout &lt;&lt; "Access granted." &lt;&lt; endl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366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else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366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cout &lt;&lt; "Access denied." &lt;&lt; endl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366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A Password Program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49" name=""/>
          <p:cNvSpPr/>
          <p:nvPr/>
        </p:nvSpPr>
        <p:spPr>
          <a:xfrm>
            <a:off x="7581960" y="2629080"/>
            <a:ext cx="538488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5410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$ </a:t>
            </a:r>
            <a:r>
              <a:rPr b="0" lang="en-US" sz="2400" spc="-1" strike="noStrike">
                <a:solidFill>
                  <a:srgbClr val="ffff00"/>
                </a:solidFill>
                <a:latin typeface="Monaco"/>
                <a:ea typeface="Monaco"/>
              </a:rPr>
              <a:t>c++ -o password password.C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0" name=""/>
          <p:cNvSpPr/>
          <p:nvPr/>
        </p:nvSpPr>
        <p:spPr>
          <a:xfrm>
            <a:off x="7581960" y="3035160"/>
            <a:ext cx="53848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5410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$ </a:t>
            </a:r>
            <a:r>
              <a:rPr b="0" lang="en-US" sz="2400" spc="-1" strike="noStrike">
                <a:solidFill>
                  <a:srgbClr val="ffff00"/>
                </a:solidFill>
                <a:latin typeface="Monaco"/>
                <a:ea typeface="Monaco"/>
              </a:rPr>
              <a:t>./password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1" name=""/>
          <p:cNvSpPr/>
          <p:nvPr/>
        </p:nvSpPr>
        <p:spPr>
          <a:xfrm>
            <a:off x="7581960" y="3441600"/>
            <a:ext cx="384804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3873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Please enter your password: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2" name=""/>
          <p:cNvSpPr/>
          <p:nvPr/>
        </p:nvSpPr>
        <p:spPr>
          <a:xfrm>
            <a:off x="7581960" y="4317840"/>
            <a:ext cx="538488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5410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Access granted.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5410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$ 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3" name=""/>
          <p:cNvSpPr/>
          <p:nvPr/>
        </p:nvSpPr>
        <p:spPr>
          <a:xfrm>
            <a:off x="9296280" y="3835440"/>
            <a:ext cx="125748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282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Monaco"/>
                <a:ea typeface="Monaco"/>
              </a:rPr>
              <a:t>secret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C7668C-5E15-4B57-A7BB-56122F5D9A1C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Traced Interaction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55" name=""/>
          <p:cNvSpPr/>
          <p:nvPr/>
        </p:nvSpPr>
        <p:spPr>
          <a:xfrm>
            <a:off x="1282680" y="2603520"/>
            <a:ext cx="53848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5410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$ c++ -o password password.C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6" name=""/>
          <p:cNvSpPr/>
          <p:nvPr/>
        </p:nvSpPr>
        <p:spPr>
          <a:xfrm>
            <a:off x="1282680" y="3009960"/>
            <a:ext cx="538488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5410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$ </a:t>
            </a:r>
            <a:r>
              <a:rPr b="0" lang="en-US" sz="2400" spc="-1" strike="noStrike">
                <a:solidFill>
                  <a:srgbClr val="ff8000"/>
                </a:solidFill>
                <a:latin typeface="Monaco"/>
                <a:ea typeface="Monaco"/>
              </a:rPr>
              <a:t>strace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./password </a:t>
            </a:r>
            <a:r>
              <a:rPr b="0" lang="en-US" sz="2400" spc="-1" strike="noStrike">
                <a:solidFill>
                  <a:srgbClr val="ff8000"/>
                </a:solidFill>
                <a:latin typeface="Monaco"/>
                <a:ea typeface="Monaco"/>
              </a:rPr>
              <a:t>2&gt; LOG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7" name=""/>
          <p:cNvSpPr/>
          <p:nvPr/>
        </p:nvSpPr>
        <p:spPr>
          <a:xfrm>
            <a:off x="1282680" y="3416400"/>
            <a:ext cx="384804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3873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Enter your password: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8" name=""/>
          <p:cNvSpPr/>
          <p:nvPr/>
        </p:nvSpPr>
        <p:spPr>
          <a:xfrm>
            <a:off x="1282680" y="3822840"/>
            <a:ext cx="1117620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201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Access granted.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201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$ 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9" name=""/>
          <p:cNvSpPr/>
          <p:nvPr/>
        </p:nvSpPr>
        <p:spPr>
          <a:xfrm>
            <a:off x="5156280" y="3416400"/>
            <a:ext cx="125712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282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secret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0" name=""/>
          <p:cNvSpPr/>
          <p:nvPr/>
        </p:nvSpPr>
        <p:spPr>
          <a:xfrm>
            <a:off x="1282680" y="4648320"/>
            <a:ext cx="11176200" cy="21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201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201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write(1, "Please enter your password: ", 28) = 28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201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read(0, "secret\n", 1024)                    = 7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201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write(1, "Access granted.\n", 16)            = 16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201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exit_group(0)                                = ?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1" name=""/>
          <p:cNvSpPr/>
          <p:nvPr/>
        </p:nvSpPr>
        <p:spPr>
          <a:xfrm>
            <a:off x="1612800" y="4229280"/>
            <a:ext cx="287028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cat LOG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4E87F7-BDBD-47B9-AF9D-B7BDBEE84BFD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How Tracing works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grpSp>
        <p:nvGrpSpPr>
          <p:cNvPr id="563" name=""/>
          <p:cNvGrpSpPr/>
          <p:nvPr/>
        </p:nvGrpSpPr>
        <p:grpSpPr>
          <a:xfrm>
            <a:off x="0" y="0"/>
            <a:ext cx="4929480" cy="4628160"/>
            <a:chOff x="0" y="0"/>
            <a:chExt cx="4929480" cy="4628160"/>
          </a:xfrm>
        </p:grpSpPr>
        <p:pic>
          <p:nvPicPr>
            <p:cNvPr id="564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044800" cy="1533600"/>
            </a:xfrm>
            <a:prstGeom prst="rect">
              <a:avLst/>
            </a:prstGeom>
            <a:ln w="76320">
              <a:solidFill>
                <a:srgbClr val="ffffff"/>
              </a:solidFill>
              <a:miter/>
            </a:ln>
            <a:effectLst>
              <a:outerShdw dist="76367" dir="2700000" blurRad="0" rotWithShape="0">
                <a:srgbClr val="000000">
                  <a:alpha val="75000"/>
                </a:srgbClr>
              </a:outerShdw>
            </a:effectLst>
          </p:spPr>
        </p:pic>
        <p:sp>
          <p:nvSpPr>
            <p:cNvPr id="565" name=""/>
            <p:cNvSpPr/>
            <p:nvPr/>
          </p:nvSpPr>
          <p:spPr>
            <a:xfrm>
              <a:off x="2715840" y="3987720"/>
              <a:ext cx="2213640" cy="640440"/>
            </a:xfrm>
            <a:prstGeom prst="rect">
              <a:avLst/>
            </a:prstGeom>
            <a:noFill/>
            <a:ln w="0">
              <a:noFill/>
            </a:ln>
            <a:effectLst>
              <a:outerShdw dist="76367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Program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grpSp>
        <p:nvGrpSpPr>
          <p:cNvPr id="566" name=""/>
          <p:cNvGrpSpPr/>
          <p:nvPr/>
        </p:nvGrpSpPr>
        <p:grpSpPr>
          <a:xfrm>
            <a:off x="0" y="0"/>
            <a:ext cx="9960120" cy="4628160"/>
            <a:chOff x="0" y="0"/>
            <a:chExt cx="9960120" cy="4628160"/>
          </a:xfrm>
        </p:grpSpPr>
        <p:pic>
          <p:nvPicPr>
            <p:cNvPr id="567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2044800" cy="1533600"/>
            </a:xfrm>
            <a:prstGeom prst="rect">
              <a:avLst/>
            </a:prstGeom>
            <a:ln w="76320">
              <a:solidFill>
                <a:srgbClr val="ffffff"/>
              </a:solidFill>
              <a:miter/>
            </a:ln>
            <a:effectLst>
              <a:outerShdw dist="76367" dir="2700000" blurRad="0" rotWithShape="0">
                <a:srgbClr val="000000">
                  <a:alpha val="75000"/>
                </a:srgbClr>
              </a:outerShdw>
            </a:effectLst>
          </p:spPr>
        </p:pic>
        <p:sp>
          <p:nvSpPr>
            <p:cNvPr id="568" name=""/>
            <p:cNvSpPr/>
            <p:nvPr/>
          </p:nvSpPr>
          <p:spPr>
            <a:xfrm>
              <a:off x="8340840" y="3987720"/>
              <a:ext cx="1619280" cy="640440"/>
            </a:xfrm>
            <a:prstGeom prst="rect">
              <a:avLst/>
            </a:prstGeom>
            <a:noFill/>
            <a:ln w="0">
              <a:noFill/>
            </a:ln>
            <a:effectLst>
              <a:outerShdw dist="76367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Kernel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sp>
        <p:nvSpPr>
          <p:cNvPr id="569" name=""/>
          <p:cNvSpPr/>
          <p:nvPr/>
        </p:nvSpPr>
        <p:spPr>
          <a:xfrm>
            <a:off x="4788000" y="4254480"/>
            <a:ext cx="3365280" cy="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0" y="0"/>
            <a:ext cx="7254000" cy="7129800"/>
            <a:chOff x="0" y="0"/>
            <a:chExt cx="7254000" cy="7129800"/>
          </a:xfrm>
        </p:grpSpPr>
        <p:pic>
          <p:nvPicPr>
            <p:cNvPr id="571" name="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2044800" cy="1533600"/>
            </a:xfrm>
            <a:prstGeom prst="rect">
              <a:avLst/>
            </a:prstGeom>
            <a:ln w="76320">
              <a:solidFill>
                <a:srgbClr val="ffffff"/>
              </a:solidFill>
              <a:miter/>
            </a:ln>
            <a:effectLst>
              <a:outerShdw dist="76367" dir="2700000" blurRad="0" rotWithShape="0">
                <a:srgbClr val="000000">
                  <a:alpha val="75000"/>
                </a:srgbClr>
              </a:outerShdw>
            </a:effectLst>
          </p:spPr>
        </p:pic>
        <p:sp>
          <p:nvSpPr>
            <p:cNvPr id="572" name=""/>
            <p:cNvSpPr/>
            <p:nvPr/>
          </p:nvSpPr>
          <p:spPr>
            <a:xfrm>
              <a:off x="5659200" y="6489360"/>
              <a:ext cx="1594800" cy="640440"/>
            </a:xfrm>
            <a:prstGeom prst="rect">
              <a:avLst/>
            </a:prstGeom>
            <a:noFill/>
            <a:ln w="0">
              <a:noFill/>
            </a:ln>
            <a:effectLst>
              <a:outerShdw dist="76367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Tracer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grpSp>
        <p:nvGrpSpPr>
          <p:cNvPr id="573" name=""/>
          <p:cNvGrpSpPr/>
          <p:nvPr/>
        </p:nvGrpSpPr>
        <p:grpSpPr>
          <a:xfrm>
            <a:off x="3797280" y="5130720"/>
            <a:ext cx="5289480" cy="1657080"/>
            <a:chOff x="3797280" y="5130720"/>
            <a:chExt cx="5289480" cy="1657080"/>
          </a:xfrm>
        </p:grpSpPr>
        <p:sp>
          <p:nvSpPr>
            <p:cNvPr id="574" name=""/>
            <p:cNvSpPr/>
            <p:nvPr/>
          </p:nvSpPr>
          <p:spPr>
            <a:xfrm>
              <a:off x="3797280" y="5130720"/>
              <a:ext cx="1625760" cy="162576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575" name=""/>
            <p:cNvSpPr/>
            <p:nvPr/>
          </p:nvSpPr>
          <p:spPr>
            <a:xfrm flipV="1">
              <a:off x="7480440" y="5179680"/>
              <a:ext cx="1606320" cy="160812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grpSp>
        <p:nvGrpSpPr>
          <p:cNvPr id="576" name=""/>
          <p:cNvGrpSpPr/>
          <p:nvPr/>
        </p:nvGrpSpPr>
        <p:grpSpPr>
          <a:xfrm>
            <a:off x="2374920" y="0"/>
            <a:ext cx="7522920" cy="6889680"/>
            <a:chOff x="2374920" y="0"/>
            <a:chExt cx="7522920" cy="6889680"/>
          </a:xfrm>
        </p:grpSpPr>
        <p:sp>
          <p:nvSpPr>
            <p:cNvPr id="577" name=""/>
            <p:cNvSpPr/>
            <p:nvPr/>
          </p:nvSpPr>
          <p:spPr>
            <a:xfrm>
              <a:off x="7531200" y="6889680"/>
              <a:ext cx="236664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pic>
          <p:nvPicPr>
            <p:cNvPr id="578" name="" descr=""/>
            <p:cNvPicPr/>
            <p:nvPr/>
          </p:nvPicPr>
          <p:blipFill>
            <a:blip r:embed="rId5"/>
            <a:stretch/>
          </p:blipFill>
          <p:spPr>
            <a:xfrm>
              <a:off x="2374920" y="0"/>
              <a:ext cx="2416320" cy="1395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4F6046-38DF-4F95-951C-DEAD88C35D8A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Replaying Traces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grpSp>
        <p:nvGrpSpPr>
          <p:cNvPr id="580" name=""/>
          <p:cNvGrpSpPr/>
          <p:nvPr/>
        </p:nvGrpSpPr>
        <p:grpSpPr>
          <a:xfrm>
            <a:off x="0" y="0"/>
            <a:ext cx="4929480" cy="4628160"/>
            <a:chOff x="0" y="0"/>
            <a:chExt cx="4929480" cy="4628160"/>
          </a:xfrm>
        </p:grpSpPr>
        <p:pic>
          <p:nvPicPr>
            <p:cNvPr id="581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044800" cy="1533600"/>
            </a:xfrm>
            <a:prstGeom prst="rect">
              <a:avLst/>
            </a:prstGeom>
            <a:ln w="76320">
              <a:solidFill>
                <a:srgbClr val="ffffff"/>
              </a:solidFill>
              <a:miter/>
            </a:ln>
            <a:effectLst>
              <a:outerShdw dist="76367" dir="2700000" blurRad="0" rotWithShape="0">
                <a:srgbClr val="000000">
                  <a:alpha val="75000"/>
                </a:srgbClr>
              </a:outerShdw>
            </a:effectLst>
          </p:spPr>
        </p:pic>
        <p:sp>
          <p:nvSpPr>
            <p:cNvPr id="582" name=""/>
            <p:cNvSpPr/>
            <p:nvPr/>
          </p:nvSpPr>
          <p:spPr>
            <a:xfrm>
              <a:off x="2715840" y="3987720"/>
              <a:ext cx="2213640" cy="640440"/>
            </a:xfrm>
            <a:prstGeom prst="rect">
              <a:avLst/>
            </a:prstGeom>
            <a:noFill/>
            <a:ln w="0">
              <a:noFill/>
            </a:ln>
            <a:effectLst>
              <a:outerShdw dist="76367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Program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grpSp>
        <p:nvGrpSpPr>
          <p:cNvPr id="583" name=""/>
          <p:cNvGrpSpPr/>
          <p:nvPr/>
        </p:nvGrpSpPr>
        <p:grpSpPr>
          <a:xfrm>
            <a:off x="0" y="0"/>
            <a:ext cx="7254000" cy="7129800"/>
            <a:chOff x="0" y="0"/>
            <a:chExt cx="7254000" cy="7129800"/>
          </a:xfrm>
        </p:grpSpPr>
        <p:pic>
          <p:nvPicPr>
            <p:cNvPr id="584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2044800" cy="1533600"/>
            </a:xfrm>
            <a:prstGeom prst="rect">
              <a:avLst/>
            </a:prstGeom>
            <a:ln w="76320">
              <a:solidFill>
                <a:srgbClr val="ffffff"/>
              </a:solidFill>
              <a:miter/>
            </a:ln>
            <a:effectLst>
              <a:outerShdw dist="76367" dir="2700000" blurRad="0" rotWithShape="0">
                <a:srgbClr val="000000">
                  <a:alpha val="75000"/>
                </a:srgbClr>
              </a:outerShdw>
            </a:effectLst>
          </p:spPr>
        </p:pic>
        <p:sp>
          <p:nvSpPr>
            <p:cNvPr id="585" name=""/>
            <p:cNvSpPr/>
            <p:nvPr/>
          </p:nvSpPr>
          <p:spPr>
            <a:xfrm>
              <a:off x="5659200" y="6489360"/>
              <a:ext cx="1594800" cy="640440"/>
            </a:xfrm>
            <a:prstGeom prst="rect">
              <a:avLst/>
            </a:prstGeom>
            <a:noFill/>
            <a:ln w="0">
              <a:noFill/>
            </a:ln>
            <a:effectLst>
              <a:outerShdw dist="76367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Tracer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sp>
        <p:nvSpPr>
          <p:cNvPr id="586" name=""/>
          <p:cNvSpPr/>
          <p:nvPr/>
        </p:nvSpPr>
        <p:spPr>
          <a:xfrm>
            <a:off x="3797280" y="5130720"/>
            <a:ext cx="1625760" cy="1625760"/>
          </a:xfrm>
          <a:prstGeom prst="line">
            <a:avLst/>
          </a:prstGeom>
          <a:ln w="50760">
            <a:solidFill>
              <a:srgbClr val="ffffff"/>
            </a:solidFill>
            <a:miter/>
            <a:headEnd len="med" type="stealth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7" name=""/>
          <p:cNvSpPr/>
          <p:nvPr/>
        </p:nvSpPr>
        <p:spPr>
          <a:xfrm>
            <a:off x="7531200" y="6889680"/>
            <a:ext cx="2367000" cy="0"/>
          </a:xfrm>
          <a:prstGeom prst="line">
            <a:avLst/>
          </a:prstGeom>
          <a:ln w="50760">
            <a:solidFill>
              <a:srgbClr val="ffffff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8" name=""/>
          <p:cNvSpPr/>
          <p:nvPr/>
        </p:nvSpPr>
        <p:spPr>
          <a:xfrm>
            <a:off x="10069200" y="6515280"/>
            <a:ext cx="23644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Trace File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grpSp>
        <p:nvGrpSpPr>
          <p:cNvPr id="589" name=""/>
          <p:cNvGrpSpPr/>
          <p:nvPr/>
        </p:nvGrpSpPr>
        <p:grpSpPr>
          <a:xfrm>
            <a:off x="0" y="0"/>
            <a:ext cx="9960120" cy="4628160"/>
            <a:chOff x="0" y="0"/>
            <a:chExt cx="9960120" cy="4628160"/>
          </a:xfrm>
        </p:grpSpPr>
        <p:pic>
          <p:nvPicPr>
            <p:cNvPr id="590" name="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2044800" cy="1533600"/>
            </a:xfrm>
            <a:prstGeom prst="rect">
              <a:avLst/>
            </a:prstGeom>
            <a:ln w="76320">
              <a:solidFill>
                <a:srgbClr val="ffffff"/>
              </a:solidFill>
              <a:miter/>
            </a:ln>
            <a:effectLst>
              <a:outerShdw dist="76367" dir="2700000" blurRad="0" rotWithShape="0">
                <a:srgbClr val="000000">
                  <a:alpha val="75000"/>
                </a:srgbClr>
              </a:outerShdw>
            </a:effectLst>
          </p:spPr>
        </p:pic>
        <p:sp>
          <p:nvSpPr>
            <p:cNvPr id="591" name=""/>
            <p:cNvSpPr/>
            <p:nvPr/>
          </p:nvSpPr>
          <p:spPr>
            <a:xfrm>
              <a:off x="8340840" y="3987720"/>
              <a:ext cx="1619280" cy="640440"/>
            </a:xfrm>
            <a:prstGeom prst="rect">
              <a:avLst/>
            </a:prstGeom>
            <a:noFill/>
            <a:ln w="0">
              <a:noFill/>
            </a:ln>
            <a:effectLst>
              <a:outerShdw dist="76367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Kernel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sp>
        <p:nvSpPr>
          <p:cNvPr id="592" name=""/>
          <p:cNvSpPr/>
          <p:nvPr/>
        </p:nvSpPr>
        <p:spPr>
          <a:xfrm>
            <a:off x="8102520" y="3568680"/>
            <a:ext cx="2121120" cy="1612800"/>
          </a:xfrm>
          <a:prstGeom prst="rect">
            <a:avLst/>
          </a:prstGeom>
          <a:solidFill>
            <a:srgbClr val="000000">
              <a:alpha val="6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6E1577-3683-4180-9183-426BF3E4B663}" type="slidenum">
              <a:t>25</a:t>
            </a:fld>
          </a:p>
        </p:txBody>
      </p:sp>
    </p:spTree>
  </p:cSld>
  <p:transition spd="med"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Challenges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1000"/>
          </a:bodyPr>
          <a:p>
            <a:pPr marL="789840" indent="-501120">
              <a:lnSpc>
                <a:spcPct val="100000"/>
              </a:lnSpc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racing creates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lots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 of data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789840" indent="-50112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Example: Web server with 10 requests/sec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789840" indent="-501120">
              <a:lnSpc>
                <a:spcPct val="100000"/>
              </a:lnSpc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A trace of 10 k/request means 8GB/day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789840" indent="-50112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All of this must be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replayed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 to reproduce the failure (alternative: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checkpoints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)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789840" indent="-50112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Huge performance penalty! 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8604E-08E8-44E9-8589-A2A6AEEDAB95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Program Inputs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grpSp>
        <p:nvGrpSpPr>
          <p:cNvPr id="596" name=""/>
          <p:cNvGrpSpPr/>
          <p:nvPr/>
        </p:nvGrpSpPr>
        <p:grpSpPr>
          <a:xfrm>
            <a:off x="0" y="0"/>
            <a:ext cx="8256600" cy="6355440"/>
            <a:chOff x="0" y="0"/>
            <a:chExt cx="8256600" cy="6355440"/>
          </a:xfrm>
        </p:grpSpPr>
        <p:pic>
          <p:nvPicPr>
            <p:cNvPr id="597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195720" cy="2397240"/>
            </a:xfrm>
            <a:prstGeom prst="rect">
              <a:avLst/>
            </a:prstGeom>
            <a:ln w="76320">
              <a:solidFill>
                <a:srgbClr val="ffffff"/>
              </a:solidFill>
              <a:miter/>
            </a:ln>
            <a:effectLst>
              <a:outerShdw dist="76367" dir="2700000" blurRad="0" rotWithShape="0">
                <a:srgbClr val="000000">
                  <a:alpha val="75000"/>
                </a:srgbClr>
              </a:outerShdw>
            </a:effectLst>
          </p:spPr>
        </p:pic>
        <p:sp>
          <p:nvSpPr>
            <p:cNvPr id="598" name=""/>
            <p:cNvSpPr/>
            <p:nvPr/>
          </p:nvSpPr>
          <p:spPr>
            <a:xfrm>
              <a:off x="6042960" y="5715000"/>
              <a:ext cx="2213640" cy="640440"/>
            </a:xfrm>
            <a:prstGeom prst="rect">
              <a:avLst/>
            </a:prstGeom>
            <a:noFill/>
            <a:ln w="0">
              <a:noFill/>
            </a:ln>
            <a:effectLst>
              <a:outerShdw dist="76367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Program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sp>
        <p:nvSpPr>
          <p:cNvPr id="599" name=""/>
          <p:cNvSpPr/>
          <p:nvPr/>
        </p:nvSpPr>
        <p:spPr>
          <a:xfrm>
            <a:off x="4375800" y="8178840"/>
            <a:ext cx="1178640" cy="64044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e7e7e"/>
                </a:solidFill>
                <a:latin typeface="Gill Sans"/>
                <a:ea typeface="Gill Sans"/>
              </a:rPr>
              <a:t>Data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5054040" y="7505640"/>
            <a:ext cx="749160" cy="749520"/>
          </a:xfrm>
          <a:prstGeom prst="line">
            <a:avLst/>
          </a:prstGeom>
          <a:ln w="50760">
            <a:solidFill>
              <a:srgbClr val="7e7e7e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1" name=""/>
          <p:cNvSpPr/>
          <p:nvPr/>
        </p:nvSpPr>
        <p:spPr>
          <a:xfrm>
            <a:off x="385200" y="6527880"/>
            <a:ext cx="4066920" cy="64044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e7e7e"/>
                </a:solidFill>
                <a:latin typeface="Gill Sans"/>
                <a:ea typeface="Gill Sans"/>
              </a:rPr>
              <a:t>User Interaction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2" name=""/>
          <p:cNvSpPr/>
          <p:nvPr/>
        </p:nvSpPr>
        <p:spPr>
          <a:xfrm flipV="1">
            <a:off x="4355280" y="6667200"/>
            <a:ext cx="1042920" cy="298440"/>
          </a:xfrm>
          <a:prstGeom prst="line">
            <a:avLst/>
          </a:prstGeom>
          <a:ln w="50760">
            <a:solidFill>
              <a:srgbClr val="7e7e7e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3" name=""/>
          <p:cNvSpPr/>
          <p:nvPr/>
        </p:nvSpPr>
        <p:spPr>
          <a:xfrm>
            <a:off x="698400" y="4813200"/>
            <a:ext cx="3670560" cy="72396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3695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e7e7e"/>
                </a:solidFill>
                <a:latin typeface="Gill Sans"/>
                <a:ea typeface="Gill Sans"/>
              </a:rPr>
              <a:t>Communication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4" name=""/>
          <p:cNvSpPr/>
          <p:nvPr/>
        </p:nvSpPr>
        <p:spPr>
          <a:xfrm>
            <a:off x="4292640" y="5232240"/>
            <a:ext cx="1079640" cy="392400"/>
          </a:xfrm>
          <a:prstGeom prst="line">
            <a:avLst/>
          </a:prstGeom>
          <a:ln w="50760">
            <a:solidFill>
              <a:srgbClr val="7e7e7e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5" name=""/>
          <p:cNvSpPr/>
          <p:nvPr/>
        </p:nvSpPr>
        <p:spPr>
          <a:xfrm>
            <a:off x="3632040" y="3416400"/>
            <a:ext cx="2832120" cy="72396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e7e7e"/>
                </a:solidFill>
                <a:latin typeface="Gill Sans"/>
                <a:ea typeface="Gill Sans"/>
              </a:rPr>
              <a:t>Randomnes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6" name=""/>
          <p:cNvSpPr/>
          <p:nvPr/>
        </p:nvSpPr>
        <p:spPr>
          <a:xfrm>
            <a:off x="5092560" y="4152960"/>
            <a:ext cx="611280" cy="477720"/>
          </a:xfrm>
          <a:prstGeom prst="line">
            <a:avLst/>
          </a:prstGeom>
          <a:ln w="50760">
            <a:solidFill>
              <a:srgbClr val="7e7e7e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7" name=""/>
          <p:cNvSpPr/>
          <p:nvPr/>
        </p:nvSpPr>
        <p:spPr>
          <a:xfrm>
            <a:off x="7658280" y="3416400"/>
            <a:ext cx="4063680" cy="72396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40892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e7e7e"/>
                </a:solidFill>
                <a:latin typeface="Gill Sans"/>
                <a:ea typeface="Gill Sans"/>
              </a:rPr>
              <a:t>Operating System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8445600" y="4165560"/>
            <a:ext cx="769680" cy="601560"/>
          </a:xfrm>
          <a:prstGeom prst="line">
            <a:avLst/>
          </a:prstGeom>
          <a:ln w="50760">
            <a:solidFill>
              <a:srgbClr val="7e7e7e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9" name=""/>
          <p:cNvSpPr/>
          <p:nvPr/>
        </p:nvSpPr>
        <p:spPr>
          <a:xfrm>
            <a:off x="10274400" y="4800600"/>
            <a:ext cx="2286000" cy="72396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2311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Schedule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0" name=""/>
          <p:cNvSpPr/>
          <p:nvPr/>
        </p:nvSpPr>
        <p:spPr>
          <a:xfrm flipH="1">
            <a:off x="8953200" y="5168880"/>
            <a:ext cx="1306440" cy="16020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8ED15E-063C-49BD-97AB-33AB5C92E8D5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Accessing Passwords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12" name=""/>
          <p:cNvSpPr/>
          <p:nvPr/>
        </p:nvSpPr>
        <p:spPr>
          <a:xfrm>
            <a:off x="6304680" y="2641680"/>
            <a:ext cx="45345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8000"/>
                </a:solidFill>
                <a:latin typeface="Gill Sans"/>
                <a:ea typeface="Gill Sans"/>
              </a:rPr>
              <a:t>open(”.htpasswd”)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3" name=""/>
          <p:cNvSpPr/>
          <p:nvPr/>
        </p:nvSpPr>
        <p:spPr>
          <a:xfrm>
            <a:off x="6543720" y="3263760"/>
            <a:ext cx="18903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8000"/>
                </a:solidFill>
                <a:latin typeface="Gill Sans"/>
                <a:ea typeface="Gill Sans"/>
              </a:rPr>
              <a:t>read(…)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4" name=""/>
          <p:cNvSpPr/>
          <p:nvPr/>
        </p:nvSpPr>
        <p:spPr>
          <a:xfrm>
            <a:off x="6499440" y="3898800"/>
            <a:ext cx="24847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8000"/>
                </a:solidFill>
                <a:latin typeface="Gill Sans"/>
                <a:ea typeface="Gill Sans"/>
              </a:rPr>
              <a:t>modify(…)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5" name=""/>
          <p:cNvSpPr/>
          <p:nvPr/>
        </p:nvSpPr>
        <p:spPr>
          <a:xfrm>
            <a:off x="6577200" y="4495680"/>
            <a:ext cx="20124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8000"/>
                </a:solidFill>
                <a:latin typeface="Gill Sans"/>
                <a:ea typeface="Gill Sans"/>
              </a:rPr>
              <a:t>write(…)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6" name=""/>
          <p:cNvSpPr/>
          <p:nvPr/>
        </p:nvSpPr>
        <p:spPr>
          <a:xfrm>
            <a:off x="6555960" y="5130720"/>
            <a:ext cx="20152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8000"/>
                </a:solidFill>
                <a:latin typeface="Gill Sans"/>
                <a:ea typeface="Gill Sans"/>
              </a:rPr>
              <a:t>close(…)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grpSp>
        <p:nvGrpSpPr>
          <p:cNvPr id="617" name=""/>
          <p:cNvGrpSpPr/>
          <p:nvPr/>
        </p:nvGrpSpPr>
        <p:grpSpPr>
          <a:xfrm>
            <a:off x="6304680" y="5765760"/>
            <a:ext cx="4534560" cy="3129480"/>
            <a:chOff x="6304680" y="5765760"/>
            <a:chExt cx="4534560" cy="3129480"/>
          </a:xfrm>
        </p:grpSpPr>
        <p:sp>
          <p:nvSpPr>
            <p:cNvPr id="618" name=""/>
            <p:cNvSpPr/>
            <p:nvPr/>
          </p:nvSpPr>
          <p:spPr>
            <a:xfrm>
              <a:off x="6304680" y="5765760"/>
              <a:ext cx="453456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00"/>
                  </a:solidFill>
                  <a:latin typeface="Gill Sans"/>
                  <a:ea typeface="Gill Sans"/>
                </a:rPr>
                <a:t>open(”.htpasswd”)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543720" y="6388200"/>
              <a:ext cx="189036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00"/>
                  </a:solidFill>
                  <a:latin typeface="Gill Sans"/>
                  <a:ea typeface="Gill Sans"/>
                </a:rPr>
                <a:t>read(…)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499080" y="7023240"/>
              <a:ext cx="248472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00"/>
                  </a:solidFill>
                  <a:latin typeface="Gill Sans"/>
                  <a:ea typeface="Gill Sans"/>
                </a:rPr>
                <a:t>modify(…)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577200" y="7620120"/>
              <a:ext cx="201240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00"/>
                  </a:solidFill>
                  <a:latin typeface="Gill Sans"/>
                  <a:ea typeface="Gill Sans"/>
                </a:rPr>
                <a:t>write(…)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6555960" y="8254800"/>
              <a:ext cx="201528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00"/>
                  </a:solidFill>
                  <a:latin typeface="Gill Sans"/>
                  <a:ea typeface="Gill Sans"/>
                </a:rPr>
                <a:t>close(…)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sp>
        <p:nvSpPr>
          <p:cNvPr id="623" name=""/>
          <p:cNvSpPr/>
          <p:nvPr/>
        </p:nvSpPr>
        <p:spPr>
          <a:xfrm>
            <a:off x="1996920" y="3911760"/>
            <a:ext cx="22546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8000"/>
                </a:solidFill>
                <a:latin typeface="Gill Sans"/>
                <a:ea typeface="Gill Sans"/>
              </a:rPr>
              <a:t>Thread A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4" name=""/>
          <p:cNvSpPr/>
          <p:nvPr/>
        </p:nvSpPr>
        <p:spPr>
          <a:xfrm>
            <a:off x="2019240" y="6997680"/>
            <a:ext cx="22593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Gill Sans"/>
                <a:ea typeface="Gill Sans"/>
              </a:rPr>
              <a:t>Thread B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grpSp>
        <p:nvGrpSpPr>
          <p:cNvPr id="625" name=""/>
          <p:cNvGrpSpPr/>
          <p:nvPr/>
        </p:nvGrpSpPr>
        <p:grpSpPr>
          <a:xfrm>
            <a:off x="4254480" y="4317840"/>
            <a:ext cx="5476320" cy="3078000"/>
            <a:chOff x="4254480" y="4317840"/>
            <a:chExt cx="5476320" cy="3078000"/>
          </a:xfrm>
        </p:grpSpPr>
        <p:sp>
          <p:nvSpPr>
            <p:cNvPr id="626" name=""/>
            <p:cNvSpPr/>
            <p:nvPr/>
          </p:nvSpPr>
          <p:spPr>
            <a:xfrm>
              <a:off x="6282720" y="5244840"/>
              <a:ext cx="344808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.htpasswd file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4292640" y="4317840"/>
              <a:ext cx="2174760" cy="135900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628" name=""/>
            <p:cNvSpPr/>
            <p:nvPr/>
          </p:nvSpPr>
          <p:spPr>
            <a:xfrm flipV="1">
              <a:off x="4254480" y="5789520"/>
              <a:ext cx="2208240" cy="160632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7C4CAE-0905-48A9-B37C-BEBB210EDFFF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Lost Update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30" name=""/>
          <p:cNvSpPr/>
          <p:nvPr/>
        </p:nvSpPr>
        <p:spPr>
          <a:xfrm>
            <a:off x="6291720" y="2666880"/>
            <a:ext cx="45345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8000"/>
                </a:solidFill>
                <a:latin typeface="Gill Sans"/>
                <a:ea typeface="Gill Sans"/>
              </a:rPr>
              <a:t>open(”.htpasswd”)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1" name=""/>
          <p:cNvSpPr/>
          <p:nvPr/>
        </p:nvSpPr>
        <p:spPr>
          <a:xfrm>
            <a:off x="6531120" y="4533840"/>
            <a:ext cx="18903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8000"/>
                </a:solidFill>
                <a:latin typeface="Gill Sans"/>
                <a:ea typeface="Gill Sans"/>
              </a:rPr>
              <a:t>read(…)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grpSp>
        <p:nvGrpSpPr>
          <p:cNvPr id="632" name=""/>
          <p:cNvGrpSpPr/>
          <p:nvPr/>
        </p:nvGrpSpPr>
        <p:grpSpPr>
          <a:xfrm>
            <a:off x="6486480" y="5156280"/>
            <a:ext cx="2484720" cy="1897920"/>
            <a:chOff x="6486480" y="5156280"/>
            <a:chExt cx="2484720" cy="1897920"/>
          </a:xfrm>
        </p:grpSpPr>
        <p:sp>
          <p:nvSpPr>
            <p:cNvPr id="633" name=""/>
            <p:cNvSpPr/>
            <p:nvPr/>
          </p:nvSpPr>
          <p:spPr>
            <a:xfrm>
              <a:off x="6486480" y="5156280"/>
              <a:ext cx="248472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8000"/>
                  </a:solidFill>
                  <a:latin typeface="Gill Sans"/>
                  <a:ea typeface="Gill Sans"/>
                </a:rPr>
                <a:t>modify(…)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6577200" y="5791320"/>
              <a:ext cx="201240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8000"/>
                  </a:solidFill>
                  <a:latin typeface="Gill Sans"/>
                  <a:ea typeface="Gill Sans"/>
                </a:rPr>
                <a:t>write(…)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6543000" y="6413760"/>
              <a:ext cx="201528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8000"/>
                  </a:solidFill>
                  <a:latin typeface="Gill Sans"/>
                  <a:ea typeface="Gill Sans"/>
                </a:rPr>
                <a:t>close(…)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sp>
        <p:nvSpPr>
          <p:cNvPr id="636" name=""/>
          <p:cNvSpPr/>
          <p:nvPr/>
        </p:nvSpPr>
        <p:spPr>
          <a:xfrm>
            <a:off x="6304680" y="3276720"/>
            <a:ext cx="45345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Gill Sans"/>
                <a:ea typeface="Gill Sans"/>
              </a:rPr>
              <a:t>open(”.htpasswd”)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7" name=""/>
          <p:cNvSpPr/>
          <p:nvPr/>
        </p:nvSpPr>
        <p:spPr>
          <a:xfrm>
            <a:off x="6543720" y="3898800"/>
            <a:ext cx="18903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Gill Sans"/>
                <a:ea typeface="Gill Sans"/>
              </a:rPr>
              <a:t>read(…)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grpSp>
        <p:nvGrpSpPr>
          <p:cNvPr id="638" name=""/>
          <p:cNvGrpSpPr/>
          <p:nvPr/>
        </p:nvGrpSpPr>
        <p:grpSpPr>
          <a:xfrm>
            <a:off x="6499080" y="6997680"/>
            <a:ext cx="2484720" cy="1897920"/>
            <a:chOff x="6499080" y="6997680"/>
            <a:chExt cx="2484720" cy="1897920"/>
          </a:xfrm>
        </p:grpSpPr>
        <p:sp>
          <p:nvSpPr>
            <p:cNvPr id="639" name=""/>
            <p:cNvSpPr/>
            <p:nvPr/>
          </p:nvSpPr>
          <p:spPr>
            <a:xfrm>
              <a:off x="6499080" y="6997680"/>
              <a:ext cx="248472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00"/>
                  </a:solidFill>
                  <a:latin typeface="Gill Sans"/>
                  <a:ea typeface="Gill Sans"/>
                </a:rPr>
                <a:t>modify(…)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6577200" y="7620120"/>
              <a:ext cx="201240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00"/>
                  </a:solidFill>
                  <a:latin typeface="Gill Sans"/>
                  <a:ea typeface="Gill Sans"/>
                </a:rPr>
                <a:t>write(…)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6543000" y="8255160"/>
              <a:ext cx="201528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00"/>
                  </a:solidFill>
                  <a:latin typeface="Gill Sans"/>
                  <a:ea typeface="Gill Sans"/>
                </a:rPr>
                <a:t>close(…)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sp>
        <p:nvSpPr>
          <p:cNvPr id="642" name=""/>
          <p:cNvSpPr/>
          <p:nvPr/>
        </p:nvSpPr>
        <p:spPr>
          <a:xfrm>
            <a:off x="1996920" y="3911760"/>
            <a:ext cx="22546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8000"/>
                </a:solidFill>
                <a:latin typeface="Gill Sans"/>
                <a:ea typeface="Gill Sans"/>
              </a:rPr>
              <a:t>Thread A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43" name=""/>
          <p:cNvSpPr/>
          <p:nvPr/>
        </p:nvSpPr>
        <p:spPr>
          <a:xfrm>
            <a:off x="2019240" y="6997680"/>
            <a:ext cx="22593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Gill Sans"/>
                <a:ea typeface="Gill Sans"/>
              </a:rPr>
              <a:t>Thread B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grpSp>
        <p:nvGrpSpPr>
          <p:cNvPr id="644" name=""/>
          <p:cNvGrpSpPr/>
          <p:nvPr/>
        </p:nvGrpSpPr>
        <p:grpSpPr>
          <a:xfrm>
            <a:off x="9144000" y="4622760"/>
            <a:ext cx="3144600" cy="2487600"/>
            <a:chOff x="9144000" y="4622760"/>
            <a:chExt cx="3144600" cy="2487600"/>
          </a:xfrm>
        </p:grpSpPr>
        <p:sp>
          <p:nvSpPr>
            <p:cNvPr id="645" name=""/>
            <p:cNvSpPr/>
            <p:nvPr/>
          </p:nvSpPr>
          <p:spPr>
            <a:xfrm>
              <a:off x="9427320" y="5156280"/>
              <a:ext cx="2861280" cy="128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A’s updates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get lost!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9144000" y="4622760"/>
              <a:ext cx="0" cy="248760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3A0FA6-569C-4C7D-9254-61109010933B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Why reproduce?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68320" indent="-550800">
              <a:lnSpc>
                <a:spcPct val="100000"/>
              </a:lnSpc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66ff"/>
                </a:solidFill>
                <a:latin typeface="Gill Sans"/>
              </a:rPr>
              <a:t>Observing the problem.  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Without being able to reproduce the problem, one cannot observe it or find any new facts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66ff"/>
                </a:solidFill>
                <a:latin typeface="Gill Sans"/>
              </a:rPr>
              <a:t>Check for success.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  How do you know that the problem is actually fixed?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095BC-33D5-465D-89B9-42AAF54EF20F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812520" y="253800"/>
            <a:ext cx="1136628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Reproducing Schedules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68320" indent="-550800">
              <a:lnSpc>
                <a:spcPct val="100000"/>
              </a:lnSpc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read changes are induced by a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scheduler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It suffices to record the schedule (i.e. the moments in time at which thread switches occur) and to replay i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Requires deterministic input replay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E2427-446C-404D-856F-B5FCA007556F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914040" y="253800"/>
            <a:ext cx="111632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Constructive Solutions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68320" indent="-550800">
              <a:lnSpc>
                <a:spcPct val="100000"/>
              </a:lnSpc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Lock resource before writing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heck resource update time before writing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… 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or any other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synchronization mechanism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D6E4B-F97F-4AF5-AB19-DF2C8ADFB6A9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Program Inputs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grpSp>
        <p:nvGrpSpPr>
          <p:cNvPr id="652" name=""/>
          <p:cNvGrpSpPr/>
          <p:nvPr/>
        </p:nvGrpSpPr>
        <p:grpSpPr>
          <a:xfrm>
            <a:off x="0" y="0"/>
            <a:ext cx="8256600" cy="6355440"/>
            <a:chOff x="0" y="0"/>
            <a:chExt cx="8256600" cy="6355440"/>
          </a:xfrm>
        </p:grpSpPr>
        <p:pic>
          <p:nvPicPr>
            <p:cNvPr id="653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195720" cy="2397240"/>
            </a:xfrm>
            <a:prstGeom prst="rect">
              <a:avLst/>
            </a:prstGeom>
            <a:ln w="76320">
              <a:solidFill>
                <a:srgbClr val="ffffff"/>
              </a:solidFill>
              <a:miter/>
            </a:ln>
            <a:effectLst>
              <a:outerShdw dist="76367" dir="2700000" blurRad="0" rotWithShape="0">
                <a:srgbClr val="000000">
                  <a:alpha val="75000"/>
                </a:srgbClr>
              </a:outerShdw>
            </a:effectLst>
          </p:spPr>
        </p:pic>
        <p:sp>
          <p:nvSpPr>
            <p:cNvPr id="654" name=""/>
            <p:cNvSpPr/>
            <p:nvPr/>
          </p:nvSpPr>
          <p:spPr>
            <a:xfrm>
              <a:off x="6042960" y="5715000"/>
              <a:ext cx="2213640" cy="640440"/>
            </a:xfrm>
            <a:prstGeom prst="rect">
              <a:avLst/>
            </a:prstGeom>
            <a:noFill/>
            <a:ln w="0">
              <a:noFill/>
            </a:ln>
            <a:effectLst>
              <a:outerShdw dist="76367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Program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4375800" y="8178840"/>
            <a:ext cx="1178640" cy="64044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e7e7e"/>
                </a:solidFill>
                <a:latin typeface="Gill Sans"/>
                <a:ea typeface="Gill Sans"/>
              </a:rPr>
              <a:t>Data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6" name=""/>
          <p:cNvSpPr/>
          <p:nvPr/>
        </p:nvSpPr>
        <p:spPr>
          <a:xfrm flipV="1">
            <a:off x="5054040" y="7505640"/>
            <a:ext cx="749160" cy="749520"/>
          </a:xfrm>
          <a:prstGeom prst="line">
            <a:avLst/>
          </a:prstGeom>
          <a:ln w="50760">
            <a:solidFill>
              <a:srgbClr val="7e7e7e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7" name=""/>
          <p:cNvSpPr/>
          <p:nvPr/>
        </p:nvSpPr>
        <p:spPr>
          <a:xfrm>
            <a:off x="385200" y="6527880"/>
            <a:ext cx="4066920" cy="64044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e7e7e"/>
                </a:solidFill>
                <a:latin typeface="Gill Sans"/>
                <a:ea typeface="Gill Sans"/>
              </a:rPr>
              <a:t>User Interaction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8" name=""/>
          <p:cNvSpPr/>
          <p:nvPr/>
        </p:nvSpPr>
        <p:spPr>
          <a:xfrm flipV="1">
            <a:off x="4355280" y="6667200"/>
            <a:ext cx="1042920" cy="298440"/>
          </a:xfrm>
          <a:prstGeom prst="line">
            <a:avLst/>
          </a:prstGeom>
          <a:ln w="50760">
            <a:solidFill>
              <a:srgbClr val="7e7e7e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9" name=""/>
          <p:cNvSpPr/>
          <p:nvPr/>
        </p:nvSpPr>
        <p:spPr>
          <a:xfrm>
            <a:off x="698400" y="4813200"/>
            <a:ext cx="3670560" cy="72396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3695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e7e7e"/>
                </a:solidFill>
                <a:latin typeface="Gill Sans"/>
                <a:ea typeface="Gill Sans"/>
              </a:rPr>
              <a:t>Communication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60" name=""/>
          <p:cNvSpPr/>
          <p:nvPr/>
        </p:nvSpPr>
        <p:spPr>
          <a:xfrm>
            <a:off x="4292640" y="5232240"/>
            <a:ext cx="1079640" cy="392400"/>
          </a:xfrm>
          <a:prstGeom prst="line">
            <a:avLst/>
          </a:prstGeom>
          <a:ln w="50760">
            <a:solidFill>
              <a:srgbClr val="7e7e7e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61" name=""/>
          <p:cNvSpPr/>
          <p:nvPr/>
        </p:nvSpPr>
        <p:spPr>
          <a:xfrm>
            <a:off x="3632040" y="3416400"/>
            <a:ext cx="2832120" cy="72396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e7e7e"/>
                </a:solidFill>
                <a:latin typeface="Gill Sans"/>
                <a:ea typeface="Gill Sans"/>
              </a:rPr>
              <a:t>Randomnes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62" name=""/>
          <p:cNvSpPr/>
          <p:nvPr/>
        </p:nvSpPr>
        <p:spPr>
          <a:xfrm>
            <a:off x="5092560" y="4152960"/>
            <a:ext cx="611280" cy="477720"/>
          </a:xfrm>
          <a:prstGeom prst="line">
            <a:avLst/>
          </a:prstGeom>
          <a:ln w="50760">
            <a:solidFill>
              <a:srgbClr val="7e7e7e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63" name=""/>
          <p:cNvSpPr/>
          <p:nvPr/>
        </p:nvSpPr>
        <p:spPr>
          <a:xfrm>
            <a:off x="7658280" y="3416400"/>
            <a:ext cx="4063680" cy="72396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40892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e7e7e"/>
                </a:solidFill>
                <a:latin typeface="Gill Sans"/>
                <a:ea typeface="Gill Sans"/>
              </a:rPr>
              <a:t>Operating System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8445600" y="4165560"/>
            <a:ext cx="769680" cy="601560"/>
          </a:xfrm>
          <a:prstGeom prst="line">
            <a:avLst/>
          </a:prstGeom>
          <a:ln w="50760">
            <a:solidFill>
              <a:srgbClr val="7e7e7e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65" name=""/>
          <p:cNvSpPr/>
          <p:nvPr/>
        </p:nvSpPr>
        <p:spPr>
          <a:xfrm>
            <a:off x="10274400" y="4800600"/>
            <a:ext cx="2286000" cy="72396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2311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e7e7e"/>
                </a:solidFill>
                <a:latin typeface="Gill Sans"/>
                <a:ea typeface="Gill Sans"/>
              </a:rPr>
              <a:t>Schedule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66" name=""/>
          <p:cNvSpPr/>
          <p:nvPr/>
        </p:nvSpPr>
        <p:spPr>
          <a:xfrm flipH="1">
            <a:off x="8953200" y="5168880"/>
            <a:ext cx="1306440" cy="160200"/>
          </a:xfrm>
          <a:prstGeom prst="line">
            <a:avLst/>
          </a:prstGeom>
          <a:ln w="50760">
            <a:solidFill>
              <a:srgbClr val="7e7e7e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67" name=""/>
          <p:cNvSpPr/>
          <p:nvPr/>
        </p:nvSpPr>
        <p:spPr>
          <a:xfrm>
            <a:off x="10617120" y="6515280"/>
            <a:ext cx="1650960" cy="72360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676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Physic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68" name=""/>
          <p:cNvSpPr/>
          <p:nvPr/>
        </p:nvSpPr>
        <p:spPr>
          <a:xfrm flipH="1" flipV="1">
            <a:off x="9042480" y="6629040"/>
            <a:ext cx="1573200" cy="30492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3EBCFF-4333-4712-8E29-DFA240950086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Physical Influences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83437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6000"/>
          </a:bodyPr>
          <a:p>
            <a:pPr marL="833400" indent="-528480">
              <a:lnSpc>
                <a:spcPct val="100000"/>
              </a:lnSpc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tatic electricity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33400" indent="-52848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Alpha particles (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not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 cosmic rays)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33400" indent="-52848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Quantum effect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33400" indent="-52848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Humidity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33400" indent="-52848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Mechanical failures + real bug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grpSp>
        <p:nvGrpSpPr>
          <p:cNvPr id="671" name=""/>
          <p:cNvGrpSpPr/>
          <p:nvPr/>
        </p:nvGrpSpPr>
        <p:grpSpPr>
          <a:xfrm>
            <a:off x="9651960" y="3467160"/>
            <a:ext cx="2748240" cy="4329000"/>
            <a:chOff x="9651960" y="3467160"/>
            <a:chExt cx="2748240" cy="4329000"/>
          </a:xfrm>
        </p:grpSpPr>
        <p:sp>
          <p:nvSpPr>
            <p:cNvPr id="672" name=""/>
            <p:cNvSpPr/>
            <p:nvPr/>
          </p:nvSpPr>
          <p:spPr>
            <a:xfrm>
              <a:off x="9793440" y="4533840"/>
              <a:ext cx="2606760" cy="19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Rare and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hard to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reproduce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9651960" y="3467160"/>
              <a:ext cx="0" cy="432900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BBD7B-25DA-4B3E-BA5B-F64241C5BAB0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Program Inputs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grpSp>
        <p:nvGrpSpPr>
          <p:cNvPr id="675" name=""/>
          <p:cNvGrpSpPr/>
          <p:nvPr/>
        </p:nvGrpSpPr>
        <p:grpSpPr>
          <a:xfrm>
            <a:off x="0" y="0"/>
            <a:ext cx="8256600" cy="6355440"/>
            <a:chOff x="0" y="0"/>
            <a:chExt cx="8256600" cy="6355440"/>
          </a:xfrm>
        </p:grpSpPr>
        <p:pic>
          <p:nvPicPr>
            <p:cNvPr id="67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195720" cy="2397240"/>
            </a:xfrm>
            <a:prstGeom prst="rect">
              <a:avLst/>
            </a:prstGeom>
            <a:ln w="76320">
              <a:solidFill>
                <a:srgbClr val="ffffff"/>
              </a:solidFill>
              <a:miter/>
            </a:ln>
            <a:effectLst>
              <a:outerShdw dist="76367" dir="2700000" blurRad="0" rotWithShape="0">
                <a:srgbClr val="000000">
                  <a:alpha val="75000"/>
                </a:srgbClr>
              </a:outerShdw>
            </a:effectLst>
          </p:spPr>
        </p:pic>
        <p:sp>
          <p:nvSpPr>
            <p:cNvPr id="677" name=""/>
            <p:cNvSpPr/>
            <p:nvPr/>
          </p:nvSpPr>
          <p:spPr>
            <a:xfrm>
              <a:off x="6042960" y="5715000"/>
              <a:ext cx="2213640" cy="640440"/>
            </a:xfrm>
            <a:prstGeom prst="rect">
              <a:avLst/>
            </a:prstGeom>
            <a:noFill/>
            <a:ln w="0">
              <a:noFill/>
            </a:ln>
            <a:effectLst>
              <a:outerShdw dist="76367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Program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sp>
        <p:nvSpPr>
          <p:cNvPr id="678" name=""/>
          <p:cNvSpPr/>
          <p:nvPr/>
        </p:nvSpPr>
        <p:spPr>
          <a:xfrm>
            <a:off x="4375800" y="8178840"/>
            <a:ext cx="1178640" cy="64044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e7e7e"/>
                </a:solidFill>
                <a:latin typeface="Gill Sans"/>
                <a:ea typeface="Gill Sans"/>
              </a:rPr>
              <a:t>Data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79" name=""/>
          <p:cNvSpPr/>
          <p:nvPr/>
        </p:nvSpPr>
        <p:spPr>
          <a:xfrm flipV="1">
            <a:off x="5054040" y="7505640"/>
            <a:ext cx="749160" cy="749520"/>
          </a:xfrm>
          <a:prstGeom prst="line">
            <a:avLst/>
          </a:prstGeom>
          <a:ln w="50760">
            <a:solidFill>
              <a:srgbClr val="7e7e7e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80" name=""/>
          <p:cNvSpPr/>
          <p:nvPr/>
        </p:nvSpPr>
        <p:spPr>
          <a:xfrm>
            <a:off x="385200" y="6527880"/>
            <a:ext cx="4066920" cy="64044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e7e7e"/>
                </a:solidFill>
                <a:latin typeface="Gill Sans"/>
                <a:ea typeface="Gill Sans"/>
              </a:rPr>
              <a:t>User Interaction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81" name=""/>
          <p:cNvSpPr/>
          <p:nvPr/>
        </p:nvSpPr>
        <p:spPr>
          <a:xfrm flipV="1">
            <a:off x="4355280" y="6667200"/>
            <a:ext cx="1042920" cy="298440"/>
          </a:xfrm>
          <a:prstGeom prst="line">
            <a:avLst/>
          </a:prstGeom>
          <a:ln w="50760">
            <a:solidFill>
              <a:srgbClr val="7e7e7e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82" name=""/>
          <p:cNvSpPr/>
          <p:nvPr/>
        </p:nvSpPr>
        <p:spPr>
          <a:xfrm>
            <a:off x="698400" y="4813200"/>
            <a:ext cx="3670560" cy="72396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3695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e7e7e"/>
                </a:solidFill>
                <a:latin typeface="Gill Sans"/>
                <a:ea typeface="Gill Sans"/>
              </a:rPr>
              <a:t>Communication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83" name=""/>
          <p:cNvSpPr/>
          <p:nvPr/>
        </p:nvSpPr>
        <p:spPr>
          <a:xfrm>
            <a:off x="4292640" y="5232240"/>
            <a:ext cx="1079640" cy="392400"/>
          </a:xfrm>
          <a:prstGeom prst="line">
            <a:avLst/>
          </a:prstGeom>
          <a:ln w="50760">
            <a:solidFill>
              <a:srgbClr val="7e7e7e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84" name=""/>
          <p:cNvSpPr/>
          <p:nvPr/>
        </p:nvSpPr>
        <p:spPr>
          <a:xfrm>
            <a:off x="3632040" y="3416400"/>
            <a:ext cx="2832120" cy="72396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e7e7e"/>
                </a:solidFill>
                <a:latin typeface="Gill Sans"/>
                <a:ea typeface="Gill Sans"/>
              </a:rPr>
              <a:t>Randomnes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85" name=""/>
          <p:cNvSpPr/>
          <p:nvPr/>
        </p:nvSpPr>
        <p:spPr>
          <a:xfrm>
            <a:off x="5092560" y="4152960"/>
            <a:ext cx="611280" cy="477720"/>
          </a:xfrm>
          <a:prstGeom prst="line">
            <a:avLst/>
          </a:prstGeom>
          <a:ln w="50760">
            <a:solidFill>
              <a:srgbClr val="7e7e7e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86" name=""/>
          <p:cNvSpPr/>
          <p:nvPr/>
        </p:nvSpPr>
        <p:spPr>
          <a:xfrm>
            <a:off x="7658280" y="3416400"/>
            <a:ext cx="4063680" cy="72396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40892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e7e7e"/>
                </a:solidFill>
                <a:latin typeface="Gill Sans"/>
                <a:ea typeface="Gill Sans"/>
              </a:rPr>
              <a:t>Operating System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87" name=""/>
          <p:cNvSpPr/>
          <p:nvPr/>
        </p:nvSpPr>
        <p:spPr>
          <a:xfrm flipH="1">
            <a:off x="8445600" y="4165560"/>
            <a:ext cx="769680" cy="601560"/>
          </a:xfrm>
          <a:prstGeom prst="line">
            <a:avLst/>
          </a:prstGeom>
          <a:ln w="50760">
            <a:solidFill>
              <a:srgbClr val="7e7e7e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88" name=""/>
          <p:cNvSpPr/>
          <p:nvPr/>
        </p:nvSpPr>
        <p:spPr>
          <a:xfrm>
            <a:off x="10274400" y="4800600"/>
            <a:ext cx="2286000" cy="72396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2311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e7e7e"/>
                </a:solidFill>
                <a:latin typeface="Gill Sans"/>
                <a:ea typeface="Gill Sans"/>
              </a:rPr>
              <a:t>Schedule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89" name=""/>
          <p:cNvSpPr/>
          <p:nvPr/>
        </p:nvSpPr>
        <p:spPr>
          <a:xfrm flipH="1">
            <a:off x="8953200" y="5168880"/>
            <a:ext cx="1306440" cy="160200"/>
          </a:xfrm>
          <a:prstGeom prst="line">
            <a:avLst/>
          </a:prstGeom>
          <a:ln w="50760">
            <a:solidFill>
              <a:srgbClr val="7e7e7e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90" name=""/>
          <p:cNvSpPr/>
          <p:nvPr/>
        </p:nvSpPr>
        <p:spPr>
          <a:xfrm>
            <a:off x="10617120" y="6515280"/>
            <a:ext cx="1650960" cy="72360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676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e7e7e"/>
                </a:solidFill>
                <a:latin typeface="Gill Sans"/>
                <a:ea typeface="Gill Sans"/>
              </a:rPr>
              <a:t>Physic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91" name=""/>
          <p:cNvSpPr/>
          <p:nvPr/>
        </p:nvSpPr>
        <p:spPr>
          <a:xfrm flipH="1" flipV="1">
            <a:off x="9042480" y="6629040"/>
            <a:ext cx="1573200" cy="304920"/>
          </a:xfrm>
          <a:prstGeom prst="line">
            <a:avLst/>
          </a:prstGeom>
          <a:ln w="50760">
            <a:solidFill>
              <a:srgbClr val="7e7e7e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7886880" y="7441920"/>
            <a:ext cx="3606480" cy="1422720"/>
            <a:chOff x="7886880" y="7441920"/>
            <a:chExt cx="3606480" cy="1422720"/>
          </a:xfrm>
        </p:grpSpPr>
        <p:sp>
          <p:nvSpPr>
            <p:cNvPr id="693" name=""/>
            <p:cNvSpPr/>
            <p:nvPr/>
          </p:nvSpPr>
          <p:spPr>
            <a:xfrm>
              <a:off x="7886880" y="8140680"/>
              <a:ext cx="3606480" cy="723960"/>
            </a:xfrm>
            <a:prstGeom prst="rect">
              <a:avLst/>
            </a:prstGeom>
            <a:noFill/>
            <a:ln w="0">
              <a:noFill/>
            </a:ln>
            <a:effectLst>
              <a:outerShdw dist="76367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66680"/>
                  <a:tab algn="l" pos="363204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Debugging Tools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694" name=""/>
            <p:cNvSpPr/>
            <p:nvPr/>
          </p:nvSpPr>
          <p:spPr>
            <a:xfrm flipH="1" flipV="1">
              <a:off x="8381520" y="7441920"/>
              <a:ext cx="799560" cy="80028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97C48A-F2B1-4E60-92D3-3F5605622F97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A Heisenbug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74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68320" indent="-550800">
              <a:lnSpc>
                <a:spcPct val="100000"/>
              </a:lnSpc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ode fails outside debugger only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97" name=""/>
          <p:cNvSpPr/>
          <p:nvPr/>
        </p:nvSpPr>
        <p:spPr>
          <a:xfrm>
            <a:off x="4660920" y="3784680"/>
            <a:ext cx="3683160" cy="25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3708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int f() {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3708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int i;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3708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return i;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3708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grpSp>
        <p:nvGrpSpPr>
          <p:cNvPr id="698" name=""/>
          <p:cNvGrpSpPr/>
          <p:nvPr/>
        </p:nvGrpSpPr>
        <p:grpSpPr>
          <a:xfrm>
            <a:off x="1282680" y="5956200"/>
            <a:ext cx="4917960" cy="2806560"/>
            <a:chOff x="1282680" y="5956200"/>
            <a:chExt cx="4917960" cy="2806560"/>
          </a:xfrm>
        </p:grpSpPr>
        <p:sp>
          <p:nvSpPr>
            <p:cNvPr id="699" name=""/>
            <p:cNvSpPr/>
            <p:nvPr/>
          </p:nvSpPr>
          <p:spPr>
            <a:xfrm>
              <a:off x="1282680" y="7416720"/>
              <a:ext cx="4800600" cy="134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66680"/>
                  <a:tab algn="l" pos="48261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In program: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66680"/>
                  <a:tab algn="l" pos="48261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returns random value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700" name=""/>
            <p:cNvSpPr/>
            <p:nvPr/>
          </p:nvSpPr>
          <p:spPr>
            <a:xfrm flipH="1">
              <a:off x="3695760" y="5956200"/>
              <a:ext cx="2504880" cy="15048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grpSp>
        <p:nvGrpSpPr>
          <p:cNvPr id="701" name=""/>
          <p:cNvGrpSpPr/>
          <p:nvPr/>
        </p:nvGrpSpPr>
        <p:grpSpPr>
          <a:xfrm>
            <a:off x="6502320" y="5956200"/>
            <a:ext cx="4254480" cy="2793960"/>
            <a:chOff x="6502320" y="5956200"/>
            <a:chExt cx="4254480" cy="2793960"/>
          </a:xfrm>
        </p:grpSpPr>
        <p:sp>
          <p:nvSpPr>
            <p:cNvPr id="702" name=""/>
            <p:cNvSpPr/>
            <p:nvPr/>
          </p:nvSpPr>
          <p:spPr>
            <a:xfrm>
              <a:off x="7861320" y="7404120"/>
              <a:ext cx="2895480" cy="134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66680"/>
                  <a:tab algn="l" pos="292104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In debugger: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66680"/>
                  <a:tab algn="l" pos="292104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returns 0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6502320" y="5956200"/>
              <a:ext cx="2554200" cy="14158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A1116-46DA-49E1-B48B-D875BF7C8A4B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More Bugs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graphicFrame>
        <p:nvGraphicFramePr>
          <p:cNvPr id="705" name=""/>
          <p:cNvGraphicFramePr/>
          <p:nvPr/>
        </p:nvGraphicFramePr>
        <p:xfrm>
          <a:off x="1282680" y="2781360"/>
          <a:ext cx="10439280" cy="5689440"/>
        </p:xfrm>
        <a:graphic>
          <a:graphicData uri="http://schemas.openxmlformats.org/drawingml/2006/table">
            <a:tbl>
              <a:tblPr/>
              <a:tblGrid>
                <a:gridCol w="5219640"/>
                <a:gridCol w="5219640"/>
              </a:tblGrid>
              <a:tr h="2835360">
                <a:tc>
                  <a:txBody>
                    <a:bodyPr lIns="38160" rIns="38160" tIns="38160" bIns="38160" anchor="ctr">
                      <a:noAutofit/>
                    </a:bodyPr>
                    <a:p>
                      <a:pPr marL="63360" algn="ctr">
                        <a:lnSpc>
                          <a:spcPct val="100000"/>
                        </a:lnSpc>
                        <a:tabLst>
                          <a:tab algn="l" pos="0"/>
                          <a:tab algn="l" pos="1130400"/>
                          <a:tab algn="l" pos="5219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2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Bohr Bug</a:t>
                      </a:r>
                      <a:endParaRPr b="0" lang="en-US" sz="7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marL="63360" algn="ctr">
                        <a:lnSpc>
                          <a:spcPct val="100000"/>
                        </a:lnSpc>
                        <a:tabLst>
                          <a:tab algn="l" pos="0"/>
                          <a:tab algn="l" pos="1130400"/>
                          <a:tab algn="l" pos="5219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2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Heisenbug</a:t>
                      </a:r>
                      <a:endParaRPr b="0" lang="en-US" sz="7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54080">
                <a:tc>
                  <a:txBody>
                    <a:bodyPr lIns="38160" rIns="38160" tIns="38160" bIns="38160" anchor="ctr">
                      <a:noAutofit/>
                    </a:bodyPr>
                    <a:p>
                      <a:pPr marL="63360" algn="ctr">
                        <a:lnSpc>
                          <a:spcPct val="100000"/>
                        </a:lnSpc>
                        <a:tabLst>
                          <a:tab algn="l" pos="0"/>
                          <a:tab algn="l" pos="1130400"/>
                          <a:tab algn="l" pos="5219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2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Mandelbug</a:t>
                      </a:r>
                      <a:endParaRPr b="0" lang="en-US" sz="7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marL="63360" algn="ctr">
                        <a:lnSpc>
                          <a:spcPct val="100000"/>
                        </a:lnSpc>
                        <a:tabLst>
                          <a:tab algn="l" pos="0"/>
                          <a:tab algn="l" pos="1130400"/>
                          <a:tab algn="l" pos="5219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2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Schrödinbug</a:t>
                      </a:r>
                      <a:endParaRPr b="0" lang="en-US" sz="7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EF4FC-FBA0-4723-89FB-DBB15D177EA1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Isolating Units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1244160" y="2768400"/>
            <a:ext cx="10464840" cy="218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4000"/>
          </a:bodyPr>
          <a:p>
            <a:pPr marL="729360" indent="-462600">
              <a:lnSpc>
                <a:spcPct val="100000"/>
              </a:lnSpc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apture + replay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unit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 instead of program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729360" indent="-4626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Needs an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unit control layer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 to monitor inpu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grpSp>
        <p:nvGrpSpPr>
          <p:cNvPr id="708" name=""/>
          <p:cNvGrpSpPr/>
          <p:nvPr/>
        </p:nvGrpSpPr>
        <p:grpSpPr>
          <a:xfrm>
            <a:off x="0" y="0"/>
            <a:ext cx="10845720" cy="6558480"/>
            <a:chOff x="0" y="0"/>
            <a:chExt cx="10845720" cy="6558480"/>
          </a:xfrm>
        </p:grpSpPr>
        <p:pic>
          <p:nvPicPr>
            <p:cNvPr id="709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845720" cy="292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0" name=""/>
            <p:cNvSpPr/>
            <p:nvPr/>
          </p:nvSpPr>
          <p:spPr>
            <a:xfrm>
              <a:off x="4320000" y="5918040"/>
              <a:ext cx="4338000" cy="640440"/>
            </a:xfrm>
            <a:prstGeom prst="rect">
              <a:avLst/>
            </a:prstGeom>
            <a:noFill/>
            <a:ln w="0">
              <a:noFill/>
            </a:ln>
            <a:effectLst>
              <a:outerShdw dist="76367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Unit control layer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4DEFD-3183-43F8-ABC6-0D3A88CC4811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Isolated Units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68320" indent="-550800">
              <a:lnSpc>
                <a:spcPct val="100000"/>
              </a:lnSpc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66ff"/>
                </a:solidFill>
                <a:latin typeface="Gill Sans"/>
              </a:rPr>
              <a:t>Databases.  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Replay only the interaction with the database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66ff"/>
                </a:solidFill>
                <a:latin typeface="Gill Sans"/>
              </a:rPr>
              <a:t>Compilers.  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Record + replay intermediate data structures rather than the entire front-end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66ff"/>
                </a:solidFill>
                <a:latin typeface="Gill Sans"/>
              </a:rPr>
              <a:t>Networking.  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Record + replay communication calls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CAF49-E871-47A0-98DB-BEE7CE01DE54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A Control Example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714" name=""/>
          <p:cNvSpPr/>
          <p:nvPr/>
        </p:nvSpPr>
        <p:spPr>
          <a:xfrm>
            <a:off x="1282680" y="3111480"/>
            <a:ext cx="111762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201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class </a:t>
            </a:r>
            <a:r>
              <a:rPr b="0" lang="en-US" sz="2400" spc="-1" strike="noStrike">
                <a:solidFill>
                  <a:srgbClr val="ffff00"/>
                </a:solidFill>
                <a:latin typeface="Monaco"/>
                <a:ea typeface="Monaco"/>
              </a:rPr>
              <a:t>Map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{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201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public: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201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virtual void </a:t>
            </a:r>
            <a:r>
              <a:rPr b="0" lang="en-US" sz="2400" spc="-1" strike="noStrike">
                <a:solidFill>
                  <a:srgbClr val="ffff00"/>
                </a:solidFill>
                <a:latin typeface="Monaco"/>
                <a:ea typeface="Monaco"/>
              </a:rPr>
              <a:t>add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(string key, int value)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201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virtual void </a:t>
            </a:r>
            <a:r>
              <a:rPr b="0" lang="en-US" sz="2400" spc="-1" strike="noStrike">
                <a:solidFill>
                  <a:srgbClr val="ffff00"/>
                </a:solidFill>
                <a:latin typeface="Monaco"/>
                <a:ea typeface="Monaco"/>
              </a:rPr>
              <a:t>del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(string key)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201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virtual int </a:t>
            </a:r>
            <a:r>
              <a:rPr b="0" lang="en-US" sz="2400" spc="-1" strike="noStrike">
                <a:solidFill>
                  <a:srgbClr val="ffff00"/>
                </a:solidFill>
                <a:latin typeface="Monaco"/>
                <a:ea typeface="Monaco"/>
              </a:rPr>
              <a:t>lookup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(string key)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201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}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1269720" y="5257440"/>
            <a:ext cx="10464840" cy="3225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68320" indent="-550800">
              <a:lnSpc>
                <a:spcPct val="100000"/>
              </a:lnSpc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How do we control this?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739E0-ED86-4819-936D-CB407756A4A2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A Tough Problem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68320" indent="-550800">
              <a:lnSpc>
                <a:spcPct val="100000"/>
              </a:lnSpc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Reproducing is one of the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toughest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 problems in debugging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One mus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3255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recreate the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environment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 in which the problem occurred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3255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recreate the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problem history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 – the steps that lead to the problem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E55B7-ADE0-4F2C-ADEA-D2EDE93A8F6C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A Log as a Program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717" name=""/>
          <p:cNvSpPr/>
          <p:nvPr/>
        </p:nvSpPr>
        <p:spPr>
          <a:xfrm>
            <a:off x="1282680" y="2336760"/>
            <a:ext cx="11176200" cy="41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201400"/>
              </a:tabLst>
            </a:pPr>
            <a:r>
              <a:rPr b="0" lang="en-US" sz="2400" spc="-1" strike="noStrike">
                <a:solidFill>
                  <a:srgbClr val="56db5b"/>
                </a:solidFill>
                <a:latin typeface="Monaco"/>
                <a:ea typeface="Monaco"/>
              </a:rPr>
              <a:t>#include "Map.h"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201400"/>
              </a:tabLst>
            </a:pPr>
            <a:r>
              <a:rPr b="0" lang="en-US" sz="2400" spc="-1" strike="noStrike">
                <a:solidFill>
                  <a:srgbClr val="56db5b"/>
                </a:solidFill>
                <a:latin typeface="Monaco"/>
                <a:ea typeface="Monaco"/>
              </a:rPr>
              <a:t>#include &lt;assert&gt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201400"/>
              </a:tabLst>
            </a:pP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201400"/>
              </a:tabLst>
            </a:pPr>
            <a:r>
              <a:rPr b="0" lang="en-US" sz="2400" spc="-1" strike="noStrike">
                <a:solidFill>
                  <a:srgbClr val="56db5b"/>
                </a:solidFill>
                <a:latin typeface="Monaco"/>
                <a:ea typeface="Monaco"/>
              </a:rPr>
              <a:t>int main() {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201400"/>
              </a:tabLst>
            </a:pPr>
            <a:r>
              <a:rPr b="0" lang="en-US" sz="2400" spc="-1" strike="noStrike">
                <a:solidFill>
                  <a:srgbClr val="56db5b"/>
                </a:solidFill>
                <a:latin typeface="Monaco"/>
                <a:ea typeface="Monaco"/>
              </a:rPr>
              <a:t>    </a:t>
            </a:r>
            <a:r>
              <a:rPr b="0" lang="en-US" sz="2400" spc="-1" strike="noStrike">
                <a:solidFill>
                  <a:srgbClr val="56db5b"/>
                </a:solidFill>
                <a:latin typeface="Monaco"/>
                <a:ea typeface="Monaco"/>
              </a:rPr>
              <a:t>Map map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201400"/>
              </a:tabLst>
            </a:pPr>
            <a:r>
              <a:rPr b="0" lang="en-US" sz="2400" spc="-1" strike="noStrike">
                <a:solidFill>
                  <a:srgbClr val="56db5b"/>
                </a:solidFill>
                <a:latin typeface="Monaco"/>
                <a:ea typeface="Monaco"/>
              </a:rPr>
              <a:t>    </a:t>
            </a:r>
            <a:r>
              <a:rPr b="0" lang="en-US" sz="2400" spc="-1" strike="noStrike">
                <a:solidFill>
                  <a:srgbClr val="56db5b"/>
                </a:solidFill>
                <a:latin typeface="Monaco"/>
                <a:ea typeface="Monaco"/>
              </a:rPr>
              <a:t>map.add("onions", 4)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201400"/>
              </a:tabLst>
            </a:pPr>
            <a:r>
              <a:rPr b="0" lang="en-US" sz="2400" spc="-1" strike="noStrike">
                <a:solidFill>
                  <a:srgbClr val="56db5b"/>
                </a:solidFill>
                <a:latin typeface="Monaco"/>
                <a:ea typeface="Monaco"/>
              </a:rPr>
              <a:t>    </a:t>
            </a:r>
            <a:r>
              <a:rPr b="0" lang="en-US" sz="2400" spc="-1" strike="noStrike">
                <a:solidFill>
                  <a:srgbClr val="56db5b"/>
                </a:solidFill>
                <a:latin typeface="Monaco"/>
                <a:ea typeface="Monaco"/>
              </a:rPr>
              <a:t>map.del("truffels")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201400"/>
              </a:tabLst>
            </a:pPr>
            <a:r>
              <a:rPr b="0" lang="en-US" sz="2400" spc="-1" strike="noStrike">
                <a:solidFill>
                  <a:srgbClr val="56db5b"/>
                </a:solidFill>
                <a:latin typeface="Monaco"/>
                <a:ea typeface="Monaco"/>
              </a:rPr>
              <a:t>    </a:t>
            </a:r>
            <a:r>
              <a:rPr b="0" lang="en-US" sz="2400" spc="-1" strike="noStrike">
                <a:solidFill>
                  <a:srgbClr val="56db5b"/>
                </a:solidFill>
                <a:latin typeface="Monaco"/>
                <a:ea typeface="Monaco"/>
              </a:rPr>
              <a:t>assert(map.lookup("onions") == 4)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201400"/>
              </a:tabLst>
            </a:pPr>
            <a:r>
              <a:rPr b="0" lang="en-US" sz="2400" spc="-1" strike="noStrike">
                <a:solidFill>
                  <a:srgbClr val="56db5b"/>
                </a:solidFill>
                <a:latin typeface="Monaco"/>
                <a:ea typeface="Monaco"/>
              </a:rPr>
              <a:t>    </a:t>
            </a:r>
            <a:r>
              <a:rPr b="0" lang="en-US" sz="2400" spc="-1" strike="noStrike">
                <a:solidFill>
                  <a:srgbClr val="56db5b"/>
                </a:solidFill>
                <a:latin typeface="Monaco"/>
                <a:ea typeface="Monaco"/>
              </a:rPr>
              <a:t>return 0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201400"/>
              </a:tabLst>
            </a:pPr>
            <a:r>
              <a:rPr b="0" lang="en-US" sz="2400" spc="-1" strike="noStrike">
                <a:solidFill>
                  <a:srgbClr val="56db5b"/>
                </a:solidFill>
                <a:latin typeface="Monaco"/>
                <a:ea typeface="Monaco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1269720" y="6603840"/>
            <a:ext cx="10464840" cy="1879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68320" indent="-550800">
              <a:lnSpc>
                <a:spcPct val="100000"/>
              </a:lnSpc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is is a log file (and also a program)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How do we get this?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D9C1F-3E29-4A85-B12F-ECE73592043C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Controlled Map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720" name=""/>
          <p:cNvSpPr/>
          <p:nvPr/>
        </p:nvSpPr>
        <p:spPr>
          <a:xfrm>
            <a:off x="1282680" y="3111480"/>
            <a:ext cx="11176200" cy="45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201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class </a:t>
            </a:r>
            <a:r>
              <a:rPr b="0" lang="en-US" sz="2400" spc="-1" strike="noStrike">
                <a:solidFill>
                  <a:srgbClr val="ffff00"/>
                </a:solidFill>
                <a:latin typeface="Monaco"/>
                <a:ea typeface="Monaco"/>
              </a:rPr>
              <a:t>ControlledMap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: public Map {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201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public: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201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typedef Map super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201400"/>
              </a:tabLst>
            </a:pP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201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virtual void </a:t>
            </a:r>
            <a:r>
              <a:rPr b="0" lang="en-US" sz="2400" spc="-1" strike="noStrike">
                <a:solidFill>
                  <a:srgbClr val="ffff00"/>
                </a:solidFill>
                <a:latin typeface="Monaco"/>
                <a:ea typeface="Monaco"/>
              </a:rPr>
              <a:t>add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(string key, int value)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201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virtual void </a:t>
            </a:r>
            <a:r>
              <a:rPr b="0" lang="en-US" sz="2400" spc="-1" strike="noStrike">
                <a:solidFill>
                  <a:srgbClr val="ffff00"/>
                </a:solidFill>
                <a:latin typeface="Monaco"/>
                <a:ea typeface="Monaco"/>
              </a:rPr>
              <a:t>del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(string key)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201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virtual int </a:t>
            </a:r>
            <a:r>
              <a:rPr b="0" lang="en-US" sz="2400" spc="-1" strike="noStrike">
                <a:solidFill>
                  <a:srgbClr val="ffff00"/>
                </a:solidFill>
                <a:latin typeface="Monaco"/>
                <a:ea typeface="Monaco"/>
              </a:rPr>
              <a:t>lookup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(string key)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201400"/>
              </a:tabLst>
            </a:pP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201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ControlledMap();            // Constructor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201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~ControlledMap();           // Destructor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201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}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84D94C-607B-4B46-8809-303B4CBF3FF2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1269720" y="2664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Logging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722" name=""/>
          <p:cNvSpPr/>
          <p:nvPr/>
        </p:nvSpPr>
        <p:spPr>
          <a:xfrm>
            <a:off x="1282680" y="2616120"/>
            <a:ext cx="11176200" cy="21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201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void ControlledMap::</a:t>
            </a:r>
            <a:r>
              <a:rPr b="0" lang="en-US" sz="2400" spc="-1" strike="noStrike">
                <a:solidFill>
                  <a:srgbClr val="ffff00"/>
                </a:solidFill>
                <a:latin typeface="Monaco"/>
                <a:ea typeface="Monaco"/>
              </a:rPr>
              <a:t>add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(string key, int value) {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201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clog &lt;&lt; "map.add(\"" &lt;&lt; key &lt;&lt; "\", " 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201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&lt;&lt; value &lt;&lt; ");" &lt;&lt; endl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201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Map::add(key, value)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201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23" name=""/>
          <p:cNvSpPr/>
          <p:nvPr/>
        </p:nvSpPr>
        <p:spPr>
          <a:xfrm>
            <a:off x="1282680" y="4788000"/>
            <a:ext cx="11176200" cy="17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201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void ControlledMap::</a:t>
            </a:r>
            <a:r>
              <a:rPr b="0" lang="en-US" sz="2400" spc="-1" strike="noStrike">
                <a:solidFill>
                  <a:srgbClr val="ffff00"/>
                </a:solidFill>
                <a:latin typeface="Monaco"/>
                <a:ea typeface="Monaco"/>
              </a:rPr>
              <a:t>del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(string key) {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201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clog &lt;&lt; "map.del(\"" &lt;&lt; key &lt;&lt; "\");" &lt;&lt; endl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201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Map::del(key)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201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24" name=""/>
          <p:cNvSpPr/>
          <p:nvPr/>
        </p:nvSpPr>
        <p:spPr>
          <a:xfrm>
            <a:off x="1282680" y="6603840"/>
            <a:ext cx="111762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201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virtual int ControlledMap::</a:t>
            </a:r>
            <a:r>
              <a:rPr b="0" lang="en-US" sz="2400" spc="-1" strike="noStrike">
                <a:solidFill>
                  <a:srgbClr val="ffff00"/>
                </a:solidFill>
                <a:latin typeface="Monaco"/>
                <a:ea typeface="Monaco"/>
              </a:rPr>
              <a:t>lookup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(string key) {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201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clog &lt;&lt; "assert(map.lookup(\"" &lt;&lt; key &lt;&lt; "\") == "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201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int ret = Map::lookup(key)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201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clog &lt;&lt; ret &lt;&lt; ");" &lt;&lt; endl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201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return ret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201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25" name=""/>
          <p:cNvSpPr/>
          <p:nvPr/>
        </p:nvSpPr>
        <p:spPr>
          <a:xfrm>
            <a:off x="8926200" y="4254480"/>
            <a:ext cx="3094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db5b"/>
                </a:solidFill>
                <a:latin typeface="Monaco"/>
                <a:ea typeface="Monaco"/>
              </a:rPr>
              <a:t>map.add("onions", 4)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26" name=""/>
          <p:cNvSpPr/>
          <p:nvPr/>
        </p:nvSpPr>
        <p:spPr>
          <a:xfrm>
            <a:off x="9203400" y="6019920"/>
            <a:ext cx="2713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db5b"/>
                </a:solidFill>
                <a:latin typeface="Monaco"/>
                <a:ea typeface="Monaco"/>
              </a:rPr>
              <a:t>map.del("truffels")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27" name=""/>
          <p:cNvSpPr/>
          <p:nvPr/>
        </p:nvSpPr>
        <p:spPr>
          <a:xfrm>
            <a:off x="6832440" y="8648640"/>
            <a:ext cx="4935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db5b"/>
                </a:solidFill>
                <a:latin typeface="Monaco"/>
                <a:ea typeface="Monaco"/>
              </a:rPr>
              <a:t>assert(map.lookup("onions") == 4)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0DA681-0E88-47BA-8D80-46E0488005E9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Logging Fixture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729" name=""/>
          <p:cNvSpPr/>
          <p:nvPr/>
        </p:nvSpPr>
        <p:spPr>
          <a:xfrm>
            <a:off x="1282680" y="2616120"/>
            <a:ext cx="11176200" cy="33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201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ControlledMap::</a:t>
            </a:r>
            <a:r>
              <a:rPr b="0" lang="en-US" sz="2400" spc="-1" strike="noStrike">
                <a:solidFill>
                  <a:srgbClr val="ffff00"/>
                </a:solidFill>
                <a:latin typeface="Monaco"/>
                <a:ea typeface="Monaco"/>
              </a:rPr>
              <a:t>ControlledMap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(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201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201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clog &lt;&lt; "#include \"Map.h\"" &lt;&lt; end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201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&lt;&lt; "#include &lt;assert&gt;" &lt;&lt; end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201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&lt;&lt; "" &lt;&lt; end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201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&lt;&lt; "int main() {" &lt;&lt; end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201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&lt;&lt; "    Map map;" &lt;&lt; endl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201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30" name=""/>
          <p:cNvSpPr/>
          <p:nvPr/>
        </p:nvSpPr>
        <p:spPr>
          <a:xfrm>
            <a:off x="1282680" y="6350040"/>
            <a:ext cx="11176200" cy="21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201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ControlledMap::</a:t>
            </a:r>
            <a:r>
              <a:rPr b="0" lang="en-US" sz="2400" spc="-1" strike="noStrike">
                <a:solidFill>
                  <a:srgbClr val="ffff00"/>
                </a:solidFill>
                <a:latin typeface="Monaco"/>
                <a:ea typeface="Monaco"/>
              </a:rPr>
              <a:t>~ControlledMap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(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201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201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clog &lt;&lt; "    return 0;" &lt;&lt; endl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201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&lt;&lt; "}" &lt;&lt; endl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201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8187DD-3DD0-45AA-88C4-A050F42309C0}" type="slidenum">
              <a:t>43</a:t>
            </a:fld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More Interaction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68320" indent="-550800">
              <a:lnSpc>
                <a:spcPct val="100000"/>
              </a:lnSpc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Variables (hard to detect)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Other units (break dependency if needed)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ime (record + replay, too)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6A69C-2225-4059-BB58-EADB1FA93BA7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Concepts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1000"/>
          </a:bodyPr>
          <a:p>
            <a:pPr marL="785880" indent="-496800">
              <a:lnSpc>
                <a:spcPct val="100000"/>
              </a:lnSpc>
              <a:buSzPct val="132639"/>
              <a:buBlip>
                <a:blip r:embed="rId2"/>
              </a:buBlip>
              <a:tabLst>
                <a:tab algn="l" pos="151128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Once a problem is tracked, one must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reproduce it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 in the own environmen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785880" indent="-496800">
              <a:lnSpc>
                <a:spcPct val="100000"/>
              </a:lnSpc>
              <a:spcBef>
                <a:spcPts val="2599"/>
              </a:spcBef>
              <a:buSzPct val="132639"/>
              <a:buBlip>
                <a:blip r:embed="rId3"/>
              </a:buBlip>
              <a:tabLst>
                <a:tab algn="l" pos="151128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o reproduce a problem…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206000" indent="-50112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128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reproduce the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environment 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(by adopting one circumstance after the other)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206000" indent="-50112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128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reproduce the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execution 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(by controlling the input of the program or a unit)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ACC47-4E21-4181-8DDB-780B395F3FBD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Program Inputs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grpSp>
        <p:nvGrpSpPr>
          <p:cNvPr id="736" name=""/>
          <p:cNvGrpSpPr/>
          <p:nvPr/>
        </p:nvGrpSpPr>
        <p:grpSpPr>
          <a:xfrm>
            <a:off x="0" y="0"/>
            <a:ext cx="8256600" cy="6355440"/>
            <a:chOff x="0" y="0"/>
            <a:chExt cx="8256600" cy="6355440"/>
          </a:xfrm>
        </p:grpSpPr>
        <p:pic>
          <p:nvPicPr>
            <p:cNvPr id="737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195720" cy="2397240"/>
            </a:xfrm>
            <a:prstGeom prst="rect">
              <a:avLst/>
            </a:prstGeom>
            <a:ln w="76320">
              <a:solidFill>
                <a:srgbClr val="ffffff"/>
              </a:solidFill>
              <a:miter/>
            </a:ln>
            <a:effectLst>
              <a:outerShdw dist="76367" dir="2700000" blurRad="0" rotWithShape="0">
                <a:srgbClr val="000000">
                  <a:alpha val="75000"/>
                </a:srgbClr>
              </a:outerShdw>
            </a:effectLst>
          </p:spPr>
        </p:pic>
        <p:sp>
          <p:nvSpPr>
            <p:cNvPr id="738" name=""/>
            <p:cNvSpPr/>
            <p:nvPr/>
          </p:nvSpPr>
          <p:spPr>
            <a:xfrm>
              <a:off x="6042960" y="5715000"/>
              <a:ext cx="2213640" cy="640440"/>
            </a:xfrm>
            <a:prstGeom prst="rect">
              <a:avLst/>
            </a:prstGeom>
            <a:noFill/>
            <a:ln w="0">
              <a:noFill/>
            </a:ln>
            <a:effectLst>
              <a:outerShdw dist="76367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Program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grpSp>
        <p:nvGrpSpPr>
          <p:cNvPr id="739" name=""/>
          <p:cNvGrpSpPr/>
          <p:nvPr/>
        </p:nvGrpSpPr>
        <p:grpSpPr>
          <a:xfrm>
            <a:off x="4375440" y="7505280"/>
            <a:ext cx="1427400" cy="1314000"/>
            <a:chOff x="4375440" y="7505280"/>
            <a:chExt cx="1427400" cy="1314000"/>
          </a:xfrm>
        </p:grpSpPr>
        <p:sp>
          <p:nvSpPr>
            <p:cNvPr id="740" name=""/>
            <p:cNvSpPr/>
            <p:nvPr/>
          </p:nvSpPr>
          <p:spPr>
            <a:xfrm>
              <a:off x="4375440" y="8178840"/>
              <a:ext cx="1178640" cy="640440"/>
            </a:xfrm>
            <a:prstGeom prst="rect">
              <a:avLst/>
            </a:prstGeom>
            <a:noFill/>
            <a:ln w="0">
              <a:noFill/>
            </a:ln>
            <a:effectLst>
              <a:outerShdw dist="76367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Data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052960" y="7505280"/>
              <a:ext cx="749880" cy="74916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grpSp>
        <p:nvGrpSpPr>
          <p:cNvPr id="742" name=""/>
          <p:cNvGrpSpPr/>
          <p:nvPr/>
        </p:nvGrpSpPr>
        <p:grpSpPr>
          <a:xfrm>
            <a:off x="385560" y="6527880"/>
            <a:ext cx="5012280" cy="640440"/>
            <a:chOff x="385560" y="6527880"/>
            <a:chExt cx="5012280" cy="640440"/>
          </a:xfrm>
        </p:grpSpPr>
        <p:sp>
          <p:nvSpPr>
            <p:cNvPr id="743" name=""/>
            <p:cNvSpPr/>
            <p:nvPr/>
          </p:nvSpPr>
          <p:spPr>
            <a:xfrm>
              <a:off x="385560" y="6527880"/>
              <a:ext cx="4066920" cy="640440"/>
            </a:xfrm>
            <a:prstGeom prst="rect">
              <a:avLst/>
            </a:prstGeom>
            <a:noFill/>
            <a:ln w="0">
              <a:noFill/>
            </a:ln>
            <a:effectLst>
              <a:outerShdw dist="76367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User Interaction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744" name=""/>
            <p:cNvSpPr/>
            <p:nvPr/>
          </p:nvSpPr>
          <p:spPr>
            <a:xfrm flipV="1">
              <a:off x="4354920" y="6667200"/>
              <a:ext cx="1042920" cy="29844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grpSp>
        <p:nvGrpSpPr>
          <p:cNvPr id="745" name=""/>
          <p:cNvGrpSpPr/>
          <p:nvPr/>
        </p:nvGrpSpPr>
        <p:grpSpPr>
          <a:xfrm>
            <a:off x="698400" y="4813200"/>
            <a:ext cx="4673520" cy="811080"/>
            <a:chOff x="698400" y="4813200"/>
            <a:chExt cx="4673520" cy="811080"/>
          </a:xfrm>
        </p:grpSpPr>
        <p:sp>
          <p:nvSpPr>
            <p:cNvPr id="746" name=""/>
            <p:cNvSpPr/>
            <p:nvPr/>
          </p:nvSpPr>
          <p:spPr>
            <a:xfrm>
              <a:off x="698400" y="4813200"/>
              <a:ext cx="3670200" cy="723960"/>
            </a:xfrm>
            <a:prstGeom prst="rect">
              <a:avLst/>
            </a:prstGeom>
            <a:noFill/>
            <a:ln w="0">
              <a:noFill/>
            </a:ln>
            <a:effectLst>
              <a:outerShdw dist="76367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66680"/>
                  <a:tab algn="l" pos="369576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Communication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4292640" y="5232240"/>
              <a:ext cx="1079280" cy="39204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grpSp>
        <p:nvGrpSpPr>
          <p:cNvPr id="748" name=""/>
          <p:cNvGrpSpPr/>
          <p:nvPr/>
        </p:nvGrpSpPr>
        <p:grpSpPr>
          <a:xfrm>
            <a:off x="3632040" y="3416400"/>
            <a:ext cx="2832120" cy="1214280"/>
            <a:chOff x="3632040" y="3416400"/>
            <a:chExt cx="2832120" cy="1214280"/>
          </a:xfrm>
        </p:grpSpPr>
        <p:sp>
          <p:nvSpPr>
            <p:cNvPr id="749" name=""/>
            <p:cNvSpPr/>
            <p:nvPr/>
          </p:nvSpPr>
          <p:spPr>
            <a:xfrm>
              <a:off x="3632040" y="3416400"/>
              <a:ext cx="2832120" cy="723960"/>
            </a:xfrm>
            <a:prstGeom prst="rect">
              <a:avLst/>
            </a:prstGeom>
            <a:noFill/>
            <a:ln w="0">
              <a:noFill/>
            </a:ln>
            <a:effectLst>
              <a:outerShdw dist="76367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66680"/>
                  <a:tab algn="l" pos="285768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Randomness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5092560" y="4152960"/>
              <a:ext cx="611280" cy="47772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grpSp>
        <p:nvGrpSpPr>
          <p:cNvPr id="751" name=""/>
          <p:cNvGrpSpPr/>
          <p:nvPr/>
        </p:nvGrpSpPr>
        <p:grpSpPr>
          <a:xfrm>
            <a:off x="7658280" y="3416400"/>
            <a:ext cx="4063680" cy="1350360"/>
            <a:chOff x="7658280" y="3416400"/>
            <a:chExt cx="4063680" cy="1350360"/>
          </a:xfrm>
        </p:grpSpPr>
        <p:sp>
          <p:nvSpPr>
            <p:cNvPr id="752" name=""/>
            <p:cNvSpPr/>
            <p:nvPr/>
          </p:nvSpPr>
          <p:spPr>
            <a:xfrm>
              <a:off x="7658280" y="3416400"/>
              <a:ext cx="4063680" cy="723600"/>
            </a:xfrm>
            <a:prstGeom prst="rect">
              <a:avLst/>
            </a:prstGeom>
            <a:noFill/>
            <a:ln w="0">
              <a:noFill/>
            </a:ln>
            <a:effectLst>
              <a:outerShdw dist="76367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66680"/>
                  <a:tab algn="l" pos="40892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Operating System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753" name=""/>
            <p:cNvSpPr/>
            <p:nvPr/>
          </p:nvSpPr>
          <p:spPr>
            <a:xfrm flipH="1">
              <a:off x="8445240" y="4165200"/>
              <a:ext cx="769680" cy="60156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grpSp>
        <p:nvGrpSpPr>
          <p:cNvPr id="754" name=""/>
          <p:cNvGrpSpPr/>
          <p:nvPr/>
        </p:nvGrpSpPr>
        <p:grpSpPr>
          <a:xfrm>
            <a:off x="8953200" y="4800600"/>
            <a:ext cx="3607200" cy="723960"/>
            <a:chOff x="8953200" y="4800600"/>
            <a:chExt cx="3607200" cy="723960"/>
          </a:xfrm>
        </p:grpSpPr>
        <p:sp>
          <p:nvSpPr>
            <p:cNvPr id="755" name=""/>
            <p:cNvSpPr/>
            <p:nvPr/>
          </p:nvSpPr>
          <p:spPr>
            <a:xfrm>
              <a:off x="10274400" y="4800600"/>
              <a:ext cx="2286000" cy="723960"/>
            </a:xfrm>
            <a:prstGeom prst="rect">
              <a:avLst/>
            </a:prstGeom>
            <a:noFill/>
            <a:ln w="0">
              <a:noFill/>
            </a:ln>
            <a:effectLst>
              <a:outerShdw dist="76367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66680"/>
                  <a:tab algn="l" pos="23115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Schedules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756" name=""/>
            <p:cNvSpPr/>
            <p:nvPr/>
          </p:nvSpPr>
          <p:spPr>
            <a:xfrm flipH="1">
              <a:off x="8953200" y="5168880"/>
              <a:ext cx="1306440" cy="16020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grpSp>
        <p:nvGrpSpPr>
          <p:cNvPr id="757" name=""/>
          <p:cNvGrpSpPr/>
          <p:nvPr/>
        </p:nvGrpSpPr>
        <p:grpSpPr>
          <a:xfrm>
            <a:off x="9042120" y="6515280"/>
            <a:ext cx="3225600" cy="723600"/>
            <a:chOff x="9042120" y="6515280"/>
            <a:chExt cx="3225600" cy="723600"/>
          </a:xfrm>
        </p:grpSpPr>
        <p:sp>
          <p:nvSpPr>
            <p:cNvPr id="758" name=""/>
            <p:cNvSpPr/>
            <p:nvPr/>
          </p:nvSpPr>
          <p:spPr>
            <a:xfrm>
              <a:off x="10616760" y="6515280"/>
              <a:ext cx="1650960" cy="723600"/>
            </a:xfrm>
            <a:prstGeom prst="rect">
              <a:avLst/>
            </a:prstGeom>
            <a:noFill/>
            <a:ln w="0">
              <a:noFill/>
            </a:ln>
            <a:effectLst>
              <a:outerShdw dist="76367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66680"/>
                  <a:tab algn="l" pos="16765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Physics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759" name=""/>
            <p:cNvSpPr/>
            <p:nvPr/>
          </p:nvSpPr>
          <p:spPr>
            <a:xfrm flipH="1" flipV="1">
              <a:off x="9042120" y="6629040"/>
              <a:ext cx="1572840" cy="30420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grpSp>
        <p:nvGrpSpPr>
          <p:cNvPr id="760" name=""/>
          <p:cNvGrpSpPr/>
          <p:nvPr/>
        </p:nvGrpSpPr>
        <p:grpSpPr>
          <a:xfrm>
            <a:off x="7886880" y="7441920"/>
            <a:ext cx="3606480" cy="1422720"/>
            <a:chOff x="7886880" y="7441920"/>
            <a:chExt cx="3606480" cy="1422720"/>
          </a:xfrm>
        </p:grpSpPr>
        <p:sp>
          <p:nvSpPr>
            <p:cNvPr id="761" name=""/>
            <p:cNvSpPr/>
            <p:nvPr/>
          </p:nvSpPr>
          <p:spPr>
            <a:xfrm>
              <a:off x="7886880" y="8140680"/>
              <a:ext cx="3606480" cy="723960"/>
            </a:xfrm>
            <a:prstGeom prst="rect">
              <a:avLst/>
            </a:prstGeom>
            <a:noFill/>
            <a:ln w="0">
              <a:noFill/>
            </a:ln>
            <a:effectLst>
              <a:outerShdw dist="76367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66680"/>
                  <a:tab algn="l" pos="363204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Debugging Tools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762" name=""/>
            <p:cNvSpPr/>
            <p:nvPr/>
          </p:nvSpPr>
          <p:spPr>
            <a:xfrm flipH="1" flipV="1">
              <a:off x="8381520" y="7441920"/>
              <a:ext cx="799560" cy="80028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7AD921-9B3A-4E38-B25C-874DB35E5342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"/>
          <p:cNvSpPr/>
          <p:nvPr/>
        </p:nvSpPr>
        <p:spPr>
          <a:xfrm>
            <a:off x="1816200" y="7772400"/>
            <a:ext cx="1002024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0045800"/>
                <a:tab algn="l" pos="10058400"/>
              </a:tabLst>
            </a:pPr>
            <a:r>
              <a:rPr b="0" lang="en-US" sz="1800" spc="-1" strike="noStrike">
                <a:solidFill>
                  <a:srgbClr val="4b4b4b"/>
                </a:solidFill>
                <a:latin typeface="Gill Sans"/>
                <a:ea typeface="Gill Sans"/>
              </a:rPr>
              <a:t>This work is licensed under the Creative Commons Attribution License.  To view a copy of this license, visit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00458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0045800"/>
                <a:tab algn="l" pos="10058400"/>
              </a:tabLst>
            </a:pPr>
            <a:r>
              <a:rPr b="0" lang="en-US" sz="1800" spc="-1" strike="noStrike">
                <a:solidFill>
                  <a:srgbClr val="4b4b4b"/>
                </a:solidFill>
                <a:latin typeface="Gill Sans"/>
                <a:ea typeface="Gill Sans"/>
              </a:rPr>
              <a:t>http://creativecommons.org/licenses/by/1.0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00458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0045800"/>
                <a:tab algn="l" pos="10058400"/>
              </a:tabLst>
            </a:pPr>
            <a:r>
              <a:rPr b="0" lang="en-US" sz="1800" spc="-1" strike="noStrike">
                <a:solidFill>
                  <a:srgbClr val="4b4b4b"/>
                </a:solidFill>
                <a:latin typeface="Gill Sans"/>
                <a:ea typeface="Gill Sans"/>
              </a:rPr>
              <a:t>or send a letter to Creative Commons, 559 Abbott Way, Stanford, California 94305, USA. 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A2EC-7843-4F13-94E1-6C6A462155CF}" type="slidenum">
              <a:t>47</a:t>
            </a:fld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/>
          <p:nvPr/>
        </p:nvSpPr>
        <p:spPr>
          <a:xfrm>
            <a:off x="1587600" y="6972480"/>
            <a:ext cx="9829800" cy="190476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graphicFrame>
        <p:nvGraphicFramePr>
          <p:cNvPr id="441" name=""/>
          <p:cNvGraphicFramePr/>
          <p:nvPr/>
        </p:nvGraphicFramePr>
        <p:xfrm>
          <a:off x="1600200" y="3174840"/>
          <a:ext cx="9804240" cy="5689800"/>
        </p:xfrm>
        <a:graphic>
          <a:graphicData uri="http://schemas.openxmlformats.org/drawingml/2006/table">
            <a:tbl>
              <a:tblPr/>
              <a:tblGrid>
                <a:gridCol w="3268080"/>
                <a:gridCol w="3267720"/>
                <a:gridCol w="3268440"/>
              </a:tblGrid>
              <a:tr h="1896480">
                <a:tc>
                  <a:txBody>
                    <a:bodyPr lIns="38160" rIns="38160" tIns="38160" bIns="38160" anchor="ctr">
                      <a:noAutofit/>
                    </a:bodyPr>
                    <a:p>
                      <a:pPr marL="63360" algn="ctr">
                        <a:lnSpc>
                          <a:spcPct val="100000"/>
                        </a:lnSpc>
                        <a:tabLst>
                          <a:tab algn="l" pos="0"/>
                          <a:tab algn="l" pos="1130400"/>
                          <a:tab algn="l" pos="32670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Where to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  <a:p>
                      <a:pPr marL="63360" algn="ctr">
                        <a:lnSpc>
                          <a:spcPct val="100000"/>
                        </a:lnSpc>
                        <a:tabLst>
                          <a:tab algn="l" pos="0"/>
                          <a:tab algn="l" pos="1130400"/>
                          <a:tab algn="l" pos="32670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reproduce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2520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marL="63360" algn="ctr">
                        <a:lnSpc>
                          <a:spcPct val="100000"/>
                        </a:lnSpc>
                        <a:tabLst>
                          <a:tab algn="l" pos="0"/>
                          <a:tab algn="l" pos="1130400"/>
                          <a:tab algn="l" pos="32670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Chances of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  <a:p>
                      <a:pPr marL="63360" algn="ctr">
                        <a:lnSpc>
                          <a:spcPct val="100000"/>
                        </a:lnSpc>
                        <a:tabLst>
                          <a:tab algn="l" pos="0"/>
                          <a:tab algn="l" pos="1130400"/>
                          <a:tab algn="l" pos="32670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Succes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2520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marL="63360" algn="ctr">
                        <a:lnSpc>
                          <a:spcPct val="100000"/>
                        </a:lnSpc>
                        <a:tabLst>
                          <a:tab algn="l" pos="0"/>
                          <a:tab algn="l" pos="1130400"/>
                          <a:tab algn="l" pos="32670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Cost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2520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96480">
                <a:tc>
                  <a:txBody>
                    <a:bodyPr lIns="38160" rIns="38160" tIns="38160" bIns="38160" anchor="ctr">
                      <a:noAutofit/>
                    </a:bodyPr>
                    <a:p>
                      <a:pPr marL="63360" algn="ctr">
                        <a:lnSpc>
                          <a:spcPct val="100000"/>
                        </a:lnSpc>
                        <a:tabLst>
                          <a:tab algn="l" pos="0"/>
                          <a:tab algn="l" pos="1130400"/>
                          <a:tab algn="l" pos="32670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Us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2520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marL="63360" algn="ctr">
                        <a:lnSpc>
                          <a:spcPct val="100000"/>
                        </a:lnSpc>
                        <a:tabLst>
                          <a:tab algn="l" pos="0"/>
                          <a:tab algn="l" pos="1130400"/>
                          <a:tab algn="l" pos="32670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2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+</a:t>
                      </a:r>
                      <a:endParaRPr b="0" lang="en-US" sz="7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2520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marL="63360" algn="ctr">
                        <a:lnSpc>
                          <a:spcPct val="100000"/>
                        </a:lnSpc>
                        <a:tabLst>
                          <a:tab algn="l" pos="0"/>
                          <a:tab algn="l" pos="1130400"/>
                          <a:tab algn="l" pos="32670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2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--</a:t>
                      </a:r>
                      <a:endParaRPr b="0" lang="en-US" sz="7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2520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96840">
                <a:tc>
                  <a:txBody>
                    <a:bodyPr lIns="38160" rIns="38160" tIns="38160" bIns="38160" anchor="ctr">
                      <a:noAutofit/>
                    </a:bodyPr>
                    <a:p>
                      <a:pPr marL="63360" algn="ctr">
                        <a:lnSpc>
                          <a:spcPct val="100000"/>
                        </a:lnSpc>
                        <a:tabLst>
                          <a:tab algn="l" pos="0"/>
                          <a:tab algn="l" pos="1130400"/>
                          <a:tab algn="l" pos="32670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Develop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marL="63360" algn="ctr">
                        <a:lnSpc>
                          <a:spcPct val="100000"/>
                        </a:lnSpc>
                        <a:tabLst>
                          <a:tab algn="l" pos="0"/>
                          <a:tab algn="l" pos="1130400"/>
                          <a:tab algn="l" pos="32670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2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o</a:t>
                      </a:r>
                      <a:endParaRPr b="0" lang="en-US" sz="7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marL="63360" algn="ctr">
                        <a:lnSpc>
                          <a:spcPct val="100000"/>
                        </a:lnSpc>
                        <a:tabLst>
                          <a:tab algn="l" pos="0"/>
                          <a:tab algn="l" pos="1130400"/>
                          <a:tab algn="l" pos="32670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2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+</a:t>
                      </a:r>
                      <a:endParaRPr b="0" lang="en-US" sz="7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Reproducing the Environment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472EC-C2D9-47DC-8C62-B18103D42EA4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990360" y="253800"/>
            <a:ext cx="1102356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Iterative Reproduction 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117440" y="2768400"/>
            <a:ext cx="10769760" cy="6019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0000"/>
          </a:bodyPr>
          <a:p>
            <a:pPr marL="781200" indent="-495720">
              <a:lnSpc>
                <a:spcPct val="100000"/>
              </a:lnSpc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tart with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your 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environmen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781200" indent="-49572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While the problem is not reproduced,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781200" indent="-495720">
              <a:lnSpc>
                <a:spcPct val="100000"/>
              </a:lnSpc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adapt more and more circumstances from the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user’s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 environmen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781200" indent="-49572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Iteration ends when problem is reproduced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781200" indent="-495720">
              <a:lnSpc>
                <a:spcPct val="100000"/>
              </a:lnSpc>
              <a:buClr>
                <a:srgbClr val="7e7e7e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e7e7e"/>
                </a:solidFill>
                <a:latin typeface="Gill Sans"/>
              </a:rPr>
              <a:t>(or when environments are “identical”)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781200" indent="-49572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ide effect: Learn about failure-inducing circumstance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C7D7F-C47A-4C8A-9508-75AC9D2BB3A9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Setting up the Environment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txBody>
          <a:bodyPr lIns="50760" rIns="50760" tIns="50760" bIns="50760" anchor="ctr">
            <a:normAutofit/>
          </a:bodyPr>
          <a:p>
            <a:pPr marL="868320" indent="-550800">
              <a:lnSpc>
                <a:spcPct val="100000"/>
              </a:lnSpc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Millions of configuration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esting on dozens of different machine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All needed to find &amp; reproduce problem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6F2F1-18C2-40D3-84F7-6D7A7F94E0BB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" descr=""/>
          <p:cNvPicPr/>
          <p:nvPr/>
        </p:nvPicPr>
        <p:blipFill>
          <a:blip r:embed="rId2"/>
          <a:stretch/>
        </p:blipFill>
        <p:spPr>
          <a:xfrm>
            <a:off x="1600200" y="368280"/>
            <a:ext cx="9804240" cy="9004320"/>
          </a:xfrm>
          <a:prstGeom prst="rect">
            <a:avLst/>
          </a:prstGeom>
          <a:ln w="0">
            <a:noFill/>
          </a:ln>
        </p:spPr>
      </p:pic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Virtual Machines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F8B8DD-501F-45E6-B9A8-C02FBEA240FF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Reproducing Execution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130040" y="2768400"/>
            <a:ext cx="107312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68320" indent="-550800">
              <a:lnSpc>
                <a:spcPct val="100000"/>
              </a:lnSpc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After reproducing the environment, we must reproduce the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execution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Basic idea: Any execution is determined by the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input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 (in a general sense)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Reproducing input </a:t>
            </a:r>
            <a:r>
              <a:rPr b="0" lang="en-US" sz="42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→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reproducing execution!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D97F3-F325-49E9-8812-756D960C8A48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