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Click to move the slide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he core idea of LOGFORJ is to assign each class in an application an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individual or common logger.  A logger is a component which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akes a request for logging and logs it.  Each logger has a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level, from DEBUG over INFO, WARN, and ERROR to FATAL (very important messages).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he core idea of LOGFORJ is to assign each class in an application an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individual or common logger.  A logger is a component which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akes a request for logging and logs it.  Each logger has a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level, from DEBUG over INFO, WARN, and ERROR to FATAL (very important messages).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Show this interactively with GDB.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Demonstrate watchpoints and conditionals interactively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Again, demonstrate DDD interactively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Demonstrate technique, using sample program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Again, demonstrate the use of LOG() interactively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C4BF58-5ABF-474F-8F02-DC5B1E7235B8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A0B0BA-50B5-4F67-B5F1-DD10D9D334FF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B6D709-3704-4D8C-870E-01AF41BBDF71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DA5CFA-BB89-461D-B6AD-ED3DAE5F25CB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1D5D7B-5AF2-43D7-B851-7AAB1EBC1FA2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23B8CB-3BC8-4D06-9034-79E02570584D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A8FE11-6EF3-47A7-9321-661F1AF963FE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41D1E9-56F9-4E43-9F17-928540AB9E82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624F23-D9E5-4464-9CD1-9DA4EC30B7DC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A175E2-23F3-4F72-988E-C38F8C646D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2D6D8C-FF40-4637-A2AB-11900182A586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9D71AB-E4C5-4C29-8276-70F5B31D15AB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6FE6F4-712E-44DC-A6A1-5D8879DD6828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F8824D-C6F8-4645-B112-D7AF6247AE81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EE51AD-3AE9-4EC6-9AFF-8FBD69949C69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3FC387-1233-4D02-B6F8-7335369CA805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28ABB5-4320-43EB-80A0-0B702F4B7E7B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8EBBFE-9842-4BC2-AA4B-94D93C94302D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37988D-8FBA-4F17-98AD-1FC26F74A70E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71D2DD-FA97-4C14-A252-1B26F86049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1F7663-73E2-4DBC-A02F-0E7D50333649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7EA3F56-DBFB-4BFD-8598-5244908F0FED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FB6A49E-6A4A-451B-A178-92D899087DA9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F769CBF-F664-454C-88D6-24BA74907571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FDDFD4D-CE29-497F-BE30-FFE60BCDF8F6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64539DC-8111-44A3-BA9C-2AF1EA1F323E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3A703C4-A666-4ED0-9C6C-3118AD946930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0C529B2-363B-4917-BB69-C7F78FBF13C6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B6C7FC7-BB30-44FD-85D6-B6949213638E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2B2D709-8AFB-4815-B9B0-16D22D40B1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42738-5239-41A8-80DD-3555C5221CF1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2CF71A9-8D5C-4306-8DDD-97146B69B22B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6BFF42F-F36F-4754-9820-7FA79FA2699C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77FD2BC-8574-4F02-9D32-66531B69560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25FBF-F7D1-42A8-B710-A8E303B9EA4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8A5EA-6645-4C2F-BF9B-8661BED32BB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3F34A-99EC-4B35-93E9-D7FC4BA0096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2CD37-25C4-4510-BA84-C46874505D7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212EB-BE99-4DA1-A18D-586330484D5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2F63B-2BA3-4966-B026-B3A32C23C65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57F95-0A55-4B29-AF14-8966A652414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9BC00-B410-4B87-B0FA-0143F3CE014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26B68-775F-44BA-9C13-D8A1DCAC7BA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BF138-10C1-422C-988B-1CC38984C7B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3E0A8-843B-45CA-B00D-81C0A1E6973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C6C246-F576-475A-8B2A-773998F1D2B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EC682F-BC41-4F19-8AD2-5381F9F09A2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4D0DFB-2EC5-4B88-99F7-F00E580829C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3BB441-A046-4668-BD01-0E737DD28EB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8740C6-523D-45E0-8466-8849B34E157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C2F284-49E8-4DEF-B8F8-7C3913E6961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25612C-0526-4620-9F26-989A9C4BC9A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31A8E1-90C8-4D83-8A3E-5A4910E99FB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FFD0AA-4B5F-46A1-907C-9604BB79316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183F4A-BF5B-434C-ABE9-BDC09A91B11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D6E1CB-0D7C-4667-B66F-0CE630667E1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A4BEBB-D795-4FFF-B8E4-83B7D86897D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9F83-C477-457E-9511-3B7CA57641D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3153-9D22-44D3-8784-C5B46EBE6D6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049A-40DB-4E7C-98E3-F8FB9F2349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760C-DC7D-4BF9-9827-F0146686B7F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676A-1C74-4814-AEE3-726A8E5233E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3D4C-B664-4104-B54B-9A9595E8B34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1C2F-D781-4690-8704-470CF9C4CFD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A3C6-8466-4AE5-9E3F-30EE57B3D58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8A1B-7DF5-4D42-812D-377A289078A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119F-9D3A-499D-9514-1505F40B40C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86D5-9937-4D31-A42B-EBBD4D93E49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222D-147B-48EB-8B98-497E7C550A66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8C85CB-C1FC-4AC8-AC25-C57C9CB5ED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B662BA-C589-4291-AE75-768AE848655A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AE56FE-0679-4FB6-BBFA-D7DB1C296E91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463EF4-BFEB-4E16-AE73-EBA0343E32D5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517B7B-06FF-47FA-A661-D89FF4F1C7A7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5F1B22-42B0-410F-99F3-BBB6538848CA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55F174-DCB0-484C-9224-CCA66866CBE5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410786-A3B0-4A3B-BA77-34ED65AC5AC4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9651CD-05FB-4079-9E8F-5A0540E928D3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A47EC2-F3EA-43D4-88F2-016AB26E1FB4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E53632-C775-4399-B477-3554B6AF2C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1F1B96-309A-4B1C-A566-B960738DA345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2BD4DB-C024-4BA4-B926-B50CD3C831B9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D4DA91-BF26-47BB-A831-05F3127CA5BE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81FFB5-EA77-4E0D-8AF5-8725111CF756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B3B333-0FCD-4270-9FB7-BAE47AAC2148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F44619-EE51-4CF8-BC85-677E9EF798FA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F8BE35-6FD2-4BB2-81B6-FC2DE37A5EE1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DEC45D-3F44-4434-891A-0D5C3D646982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923B95-74EC-4D0B-B0ED-9642CA7C250D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6B4A9F-710D-4F98-BFAB-10693A762A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93299A-9B24-4C0C-A3B6-EC90141802F2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C7F3CB-2926-4B79-9D84-47B059D44EC8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20AC18-9696-4E66-B3FC-EDF1F2EB6A9E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E6DF0-B3CE-46F1-A096-5D48559F627B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9772B-BA0D-4715-BE14-6B631C556E85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6EEFA-ED52-47B9-BF62-D32436B6934D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56068-9DEF-4FAF-B20E-C16FBEC77097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D947F-CE79-4BEE-AE01-DB70005EC0D4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82C45-B2EE-4381-90FF-01617A6093F3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66931-14C3-4360-8F4C-3A82299FAC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31849-457C-4055-9719-BE5568C525A7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CF085-B3BB-4532-B219-7B7202A3CFFC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2466A-DA96-4CE0-B774-7AE8EC3B0339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17B4E-A017-43A4-B75C-122729C2C6DB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65489-2BC9-4551-978A-19FBA61423EE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15E26D4-258A-4BEA-AF54-4CCD6A9EAAF0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FE0B4D2-8AFF-491D-BEAB-CA4760CBBC0F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D29C50B-616D-4489-B7E0-2ECDE60EFCC5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C6CCF6A-399E-47EC-B800-1B14CA771422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041EFB4-1607-4EF9-9FD1-D7D341B473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A00169B-43AD-4F6E-B830-15CC9CB34444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0E00E8B-0F8C-4237-B9AA-F6D4E1325342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53908D9-277E-4B5F-997D-35725E8217A1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2A714CB-0A7F-4CA3-B1AD-CB4FB8A340D1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4F635F9-D73B-4EBA-829A-C1533AF7FA5D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39C90D2-2A41-46FA-8EFB-FB86FB8EDEC1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D5CAA38-C9D9-4859-8A9E-22E4E0C997A3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B3F918-4B26-4B73-A2A4-54781B9198CE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9ACD81-CF0A-4FA0-AD76-567FCB11D017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D62F91-AE7F-4C7C-8E46-330D7EC5E7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5000"/>
          </a:bodyPr>
          <a:p>
            <a:pPr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1" algn="ctr">
              <a:spcBef>
                <a:spcPts val="201"/>
              </a:spcBef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2" algn="ctr">
              <a:spcBef>
                <a:spcPts val="201"/>
              </a:spcBef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3" algn="ctr">
              <a:spcBef>
                <a:spcPts val="201"/>
              </a:spcBef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4" algn="ctr">
              <a:spcBef>
                <a:spcPts val="201"/>
              </a:spcBef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5" algn="ctr">
              <a:spcBef>
                <a:spcPts val="201"/>
              </a:spcBef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6" algn="ctr">
              <a:spcBef>
                <a:spcPts val="201"/>
              </a:spcBef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Click to edit the title text format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Click to edit the title text format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1000"/>
          </a:bodyPr>
          <a:p>
            <a:pPr marL="600120" indent="-38412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970560" indent="-38412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330560" indent="-38412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690920" indent="-38448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2061000" indent="-38448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2061000" indent="-38448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2061000" indent="-38448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sldNum" idx="9"/>
          </p:nvPr>
        </p:nvSpPr>
        <p:spPr>
          <a:xfrm>
            <a:off x="6343560" y="9271080"/>
            <a:ext cx="317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181818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E4F85-1C1A-4238-9886-31F3B532AAA4}" type="slidenum">
              <a:rPr b="0" lang="en-US" sz="1800" spc="-1" strike="noStrike">
                <a:solidFill>
                  <a:srgbClr val="181818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Click to edit the title text format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040" y="2768400"/>
            <a:ext cx="39625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3000"/>
          </a:bodyPr>
          <a:p>
            <a:pPr marL="541080" indent="-34632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874800" indent="-34632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199160" indent="-34632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523880" indent="-34632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1857600" indent="-34632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1857600" indent="-34632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1857600" indent="-34632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sldNum" idx="10"/>
          </p:nvPr>
        </p:nvSpPr>
        <p:spPr>
          <a:xfrm>
            <a:off x="6343560" y="9271080"/>
            <a:ext cx="317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AD0A8-C864-4682-B860-306F900E8A0B}" type="slidenum">
              <a:rPr b="0" lang="en-US" sz="1800" spc="-1" strike="noStrike">
                <a:solidFill>
                  <a:srgbClr val="ffffff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Click to edit the title text format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ldNum" idx="1"/>
          </p:nvPr>
        </p:nvSpPr>
        <p:spPr>
          <a:xfrm>
            <a:off x="6343560" y="9271080"/>
            <a:ext cx="317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181818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1FDE8-3D0E-4D84-A055-30E9FD03373A}" type="slidenum">
              <a:rPr b="0" lang="en-US" sz="1800" spc="-1" strike="noStrike">
                <a:solidFill>
                  <a:srgbClr val="181818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807480" indent="-51192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232640" indent="-51192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645920" indent="-51192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3" marL="2059560" indent="-51228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4" marL="2484720" indent="-51228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5" marL="2484720" indent="-512280">
              <a:spcBef>
                <a:spcPts val="104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6" marL="2484720" indent="-512280">
              <a:spcBef>
                <a:spcPts val="104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Click to edit the title text format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6000"/>
          </a:bodyPr>
          <a:p>
            <a:pPr marL="703080" indent="-47340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096200" indent="-47340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478520" indent="-47340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3" marL="1860480" indent="-47340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4" marL="2253600" indent="-47340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5" marL="2253600" indent="-47340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6" marL="2253600" indent="-47340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Num" idx="2"/>
          </p:nvPr>
        </p:nvSpPr>
        <p:spPr>
          <a:xfrm>
            <a:off x="6343560" y="9271080"/>
            <a:ext cx="317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181818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752AA-04BE-40AD-AF28-7DDFC6FB7DBF}" type="slidenum">
              <a:rPr b="0" lang="en-US" sz="1800" spc="-1" strike="noStrike">
                <a:solidFill>
                  <a:srgbClr val="181818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Num" idx="3"/>
          </p:nvPr>
        </p:nvSpPr>
        <p:spPr>
          <a:xfrm>
            <a:off x="6343560" y="9271080"/>
            <a:ext cx="317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181818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F8438-5662-475E-BC74-58EAD3E042DB}" type="slidenum">
              <a:rPr b="0" lang="en-US" sz="1800" spc="-1" strike="noStrike">
                <a:solidFill>
                  <a:srgbClr val="181818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807480" indent="-51192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232640" indent="-51192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645920" indent="-51192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3" marL="2059560" indent="-51228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4" marL="2484720" indent="-51228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5" marL="2484720" indent="-512280">
              <a:spcBef>
                <a:spcPts val="104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6" marL="2484720" indent="-512280">
              <a:spcBef>
                <a:spcPts val="104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5000"/>
          </a:bodyPr>
          <a:p>
            <a:pPr marL="694800" indent="-468000">
              <a:spcBef>
                <a:spcPts val="50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083240" indent="-468000">
              <a:spcBef>
                <a:spcPts val="50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461240" indent="-468000">
              <a:spcBef>
                <a:spcPts val="50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3" marL="1838880" indent="-468000">
              <a:spcBef>
                <a:spcPts val="50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4" marL="2227680" indent="-468000">
              <a:spcBef>
                <a:spcPts val="50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5" marL="2227680" indent="-468000">
              <a:spcBef>
                <a:spcPts val="50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6" marL="2227680" indent="-468000">
              <a:spcBef>
                <a:spcPts val="50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ldNum" idx="4"/>
          </p:nvPr>
        </p:nvSpPr>
        <p:spPr>
          <a:xfrm>
            <a:off x="6343560" y="9271080"/>
            <a:ext cx="317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181818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B8DC2-288F-4BA1-9201-D851E2B050FD}" type="slidenum">
              <a:rPr b="0" lang="en-US" sz="1800" spc="-1" strike="noStrike">
                <a:solidFill>
                  <a:srgbClr val="181818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Click to edit the title text format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ldNum" idx="5"/>
          </p:nvPr>
        </p:nvSpPr>
        <p:spPr>
          <a:xfrm>
            <a:off x="6343560" y="9271080"/>
            <a:ext cx="317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181818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95663-6ACE-4AF8-8B12-0722BD71AD90}" type="slidenum">
              <a:rPr b="0" lang="en-US" sz="1800" spc="-1" strike="noStrike">
                <a:solidFill>
                  <a:srgbClr val="181818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400" spc="-1" strike="noStrike">
                <a:solidFill>
                  <a:srgbClr val="ffffff"/>
                </a:solidFill>
                <a:latin typeface="Lucida Grande"/>
              </a:rPr>
              <a:t>Click to edit the title text format</a:t>
            </a:r>
            <a:endParaRPr b="1" lang="en-US" sz="8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ldNum" idx="6"/>
          </p:nvPr>
        </p:nvSpPr>
        <p:spPr>
          <a:xfrm>
            <a:off x="6343560" y="9271080"/>
            <a:ext cx="317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181818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F9B99-913F-4A71-97F8-F70F1676BD20}" type="slidenum">
              <a:rPr b="0" lang="en-US" sz="1800" spc="-1" strike="noStrike">
                <a:solidFill>
                  <a:srgbClr val="181818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35040" y="1523520"/>
            <a:ext cx="5867280" cy="330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Click to edit the title text format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35040" y="490212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1" algn="ctr">
              <a:spcBef>
                <a:spcPts val="201"/>
              </a:spcBef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2" algn="ctr">
              <a:spcBef>
                <a:spcPts val="201"/>
              </a:spcBef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3" algn="ctr">
              <a:spcBef>
                <a:spcPts val="201"/>
              </a:spcBef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4" algn="ctr">
              <a:spcBef>
                <a:spcPts val="201"/>
              </a:spcBef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5" algn="ctr">
              <a:spcBef>
                <a:spcPts val="201"/>
              </a:spcBef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6" algn="ctr">
              <a:spcBef>
                <a:spcPts val="201"/>
              </a:spcBef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sldNum" idx="7"/>
          </p:nvPr>
        </p:nvSpPr>
        <p:spPr>
          <a:xfrm>
            <a:off x="6343560" y="9271080"/>
            <a:ext cx="317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181818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2FE1A-EB9E-4864-8323-E48FBC3DEC55}" type="slidenum">
              <a:rPr b="0" lang="en-US" sz="1800" spc="-1" strike="noStrike">
                <a:solidFill>
                  <a:srgbClr val="181818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Click to edit the title text format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1000"/>
          </a:bodyPr>
          <a:p>
            <a:pPr marL="600120" indent="-38412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970560" indent="-38412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330560" indent="-38412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690920" indent="-38448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2061000" indent="-38448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2061000" indent="-38448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2061000" indent="-38448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sldNum" idx="8"/>
          </p:nvPr>
        </p:nvSpPr>
        <p:spPr>
          <a:xfrm>
            <a:off x="6343560" y="9271080"/>
            <a:ext cx="317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181818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73B80-EDF0-4960-A80B-B6B67FE1D047}" type="slidenum">
              <a:rPr b="0" lang="en-US" sz="1800" spc="-1" strike="noStrike">
                <a:solidFill>
                  <a:srgbClr val="181818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5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Andreas Zeller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title"/>
          </p:nvPr>
        </p:nvSpPr>
        <p:spPr>
          <a:xfrm>
            <a:off x="482400" y="1638360"/>
            <a:ext cx="12179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Observing Facts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pic>
        <p:nvPicPr>
          <p:cNvPr id="433" name="" descr=""/>
          <p:cNvPicPr/>
          <p:nvPr/>
        </p:nvPicPr>
        <p:blipFill>
          <a:blip r:embed="rId2"/>
          <a:stretch/>
        </p:blipFill>
        <p:spPr>
          <a:xfrm>
            <a:off x="-101520" y="3670200"/>
            <a:ext cx="4543200" cy="762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LOGFORJ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75" name=""/>
          <p:cNvSpPr/>
          <p:nvPr/>
        </p:nvSpPr>
        <p:spPr>
          <a:xfrm>
            <a:off x="152280" y="2514600"/>
            <a:ext cx="12992400" cy="629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600" spc="-1" strike="noStrike">
                <a:solidFill>
                  <a:srgbClr val="ffffff"/>
                </a:solidFill>
                <a:latin typeface="Monaco"/>
                <a:ea typeface="Monaco"/>
              </a:rPr>
              <a:t>// Initialize a logger.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600" spc="-1" strike="noStrike">
                <a:solidFill>
                  <a:srgbClr val="ffffff"/>
                </a:solidFill>
                <a:latin typeface="Monaco"/>
                <a:ea typeface="Monaco"/>
              </a:rPr>
              <a:t>final ULogger </a:t>
            </a:r>
            <a:r>
              <a:rPr b="0" lang="en-US" sz="2600" spc="-1" strike="noStrike">
                <a:solidFill>
                  <a:srgbClr val="ffff00"/>
                </a:solidFill>
                <a:latin typeface="Monaco"/>
                <a:ea typeface="Monaco"/>
              </a:rPr>
              <a:t>logger</a:t>
            </a:r>
            <a:r>
              <a:rPr b="0" lang="en-US" sz="2600" spc="-1" strike="noStrike">
                <a:solidFill>
                  <a:srgbClr val="ffffff"/>
                </a:solidFill>
                <a:latin typeface="Monaco"/>
                <a:ea typeface="Monaco"/>
              </a:rPr>
              <a:t> = 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Monaco"/>
                <a:ea typeface="Monaco"/>
              </a:rPr>
              <a:t>        </a:t>
            </a:r>
            <a:r>
              <a:rPr b="0" lang="en-US" sz="2600" spc="-1" strike="noStrike">
                <a:solidFill>
                  <a:srgbClr val="ffffff"/>
                </a:solidFill>
                <a:latin typeface="Monaco"/>
                <a:ea typeface="Monaco"/>
              </a:rPr>
              <a:t>LoggerFactory.getLogger(TestLogging.class);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600" spc="-1" strike="noStrike">
                <a:solidFill>
                  <a:srgbClr val="ffffff"/>
                </a:solidFill>
                <a:latin typeface="Monaco"/>
                <a:ea typeface="Monaco"/>
              </a:rPr>
              <a:t>// Try a few logging methods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600" spc="-1" strike="noStrike">
                <a:solidFill>
                  <a:srgbClr val="ffffff"/>
                </a:solidFill>
                <a:latin typeface="Monaco"/>
                <a:ea typeface="Monaco"/>
              </a:rPr>
              <a:t>public static void </a:t>
            </a:r>
            <a:r>
              <a:rPr b="0" lang="en-US" sz="2600" spc="-1" strike="noStrike">
                <a:solidFill>
                  <a:srgbClr val="ffff00"/>
                </a:solidFill>
                <a:latin typeface="Monaco"/>
                <a:ea typeface="Monaco"/>
              </a:rPr>
              <a:t>main</a:t>
            </a:r>
            <a:r>
              <a:rPr b="0" lang="en-US" sz="2600" spc="-1" strike="noStrike">
                <a:solidFill>
                  <a:srgbClr val="ffffff"/>
                </a:solidFill>
                <a:latin typeface="Monaco"/>
                <a:ea typeface="Monaco"/>
              </a:rPr>
              <a:t>(String args[]) {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Monaco"/>
                <a:ea typeface="Monaco"/>
              </a:rPr>
              <a:t>        </a:t>
            </a:r>
            <a:r>
              <a:rPr b="0" lang="en-US" sz="2600" spc="-1" strike="noStrike">
                <a:solidFill>
                  <a:srgbClr val="ffffff"/>
                </a:solidFill>
                <a:latin typeface="Monaco"/>
                <a:ea typeface="Monaco"/>
              </a:rPr>
              <a:t>logger.debug("Start of main()");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Monaco"/>
                <a:ea typeface="Monaco"/>
              </a:rPr>
              <a:t>        </a:t>
            </a:r>
            <a:r>
              <a:rPr b="0" lang="en-US" sz="2600" spc="-1" strike="noStrike">
                <a:solidFill>
                  <a:srgbClr val="ffffff"/>
                </a:solidFill>
                <a:latin typeface="Monaco"/>
                <a:ea typeface="Monaco"/>
              </a:rPr>
              <a:t>logger.info ("A log message with level set to INFO");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Monaco"/>
                <a:ea typeface="Monaco"/>
              </a:rPr>
              <a:t>        </a:t>
            </a:r>
            <a:r>
              <a:rPr b="0" lang="en-US" sz="2600" spc="-1" strike="noStrike">
                <a:solidFill>
                  <a:srgbClr val="ffffff"/>
                </a:solidFill>
                <a:latin typeface="Monaco"/>
                <a:ea typeface="Monaco"/>
              </a:rPr>
              <a:t>logger.warn ("A log message with level set to WARN");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Monaco"/>
                <a:ea typeface="Monaco"/>
              </a:rPr>
              <a:t>        </a:t>
            </a:r>
            <a:r>
              <a:rPr b="0" lang="en-US" sz="2600" spc="-1" strike="noStrike">
                <a:solidFill>
                  <a:srgbClr val="ffffff"/>
                </a:solidFill>
                <a:latin typeface="Monaco"/>
                <a:ea typeface="Monaco"/>
              </a:rPr>
              <a:t>logger.error("A log message with level set to ERROR");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Monaco"/>
                <a:ea typeface="Monaco"/>
              </a:rPr>
              <a:t>        </a:t>
            </a:r>
            <a:r>
              <a:rPr b="0" lang="en-US" sz="2600" spc="-1" strike="noStrike">
                <a:solidFill>
                  <a:srgbClr val="ffffff"/>
                </a:solidFill>
                <a:latin typeface="Monaco"/>
                <a:ea typeface="Monaco"/>
              </a:rPr>
              <a:t>logger.fatal("A log message with level set to FATAL");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Monaco"/>
                <a:ea typeface="Monaco"/>
              </a:rPr>
              <a:t>        </a:t>
            </a:r>
            <a:r>
              <a:rPr b="0" lang="en-US" sz="2600" spc="-1" strike="noStrike">
                <a:solidFill>
                  <a:srgbClr val="ffffff"/>
                </a:solidFill>
                <a:latin typeface="Monaco"/>
                <a:ea typeface="Monaco"/>
              </a:rPr>
              <a:t>new TestLogging().init();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600" spc="-1" strike="noStrike">
                <a:solidFill>
                  <a:srgbClr val="ffffff"/>
                </a:solidFill>
                <a:latin typeface="Monaco"/>
                <a:ea typeface="Monaco"/>
              </a:rPr>
              <a:t>}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C2457-EC11-4726-A6FA-8CDF9E4F111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Customizing Logs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77" name=""/>
          <p:cNvSpPr/>
          <p:nvPr/>
        </p:nvSpPr>
        <p:spPr>
          <a:xfrm>
            <a:off x="368280" y="2616120"/>
            <a:ext cx="12268080" cy="45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Monaco"/>
                <a:ea typeface="Monaco"/>
              </a:rPr>
              <a:t># Set root logger level to DEBUG and its only appender to A1.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Monaco"/>
                <a:ea typeface="Monaco"/>
              </a:rPr>
              <a:t>log4j.rootLogger=DEBUG, A1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Monaco"/>
                <a:ea typeface="Monaco"/>
              </a:rPr>
              <a:t># A1 is set to be a ConsoleAppender.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Monaco"/>
                <a:ea typeface="Monaco"/>
              </a:rPr>
              <a:t>log4j.appender.A1=org.apache.log4j.ConsoleAppender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Monaco"/>
                <a:ea typeface="Monaco"/>
              </a:rPr>
              <a:t># A1 uses PatternLayout.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Monaco"/>
                <a:ea typeface="Monaco"/>
              </a:rPr>
              <a:t>log4j.appender.A1.layout=org.apache.log4j.PatternLayout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Monaco"/>
                <a:ea typeface="Monaco"/>
              </a:rPr>
              <a:t>log4j.appender.A1.layout.ConversionPattern=\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Monaco"/>
                <a:ea typeface="Monaco"/>
              </a:rPr>
              <a:t>%d [%t] %-5p %c %x - %m%n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grpSp>
        <p:nvGrpSpPr>
          <p:cNvPr id="478" name=""/>
          <p:cNvGrpSpPr/>
          <p:nvPr/>
        </p:nvGrpSpPr>
        <p:grpSpPr>
          <a:xfrm>
            <a:off x="114480" y="7518240"/>
            <a:ext cx="12661560" cy="1892160"/>
            <a:chOff x="114480" y="7518240"/>
            <a:chExt cx="12661560" cy="1892160"/>
          </a:xfrm>
        </p:grpSpPr>
        <p:sp>
          <p:nvSpPr>
            <p:cNvPr id="479" name=""/>
            <p:cNvSpPr/>
            <p:nvPr/>
          </p:nvSpPr>
          <p:spPr>
            <a:xfrm>
              <a:off x="114480" y="7518240"/>
              <a:ext cx="12661560" cy="1879560"/>
            </a:xfrm>
            <a:prstGeom prst="roundRect">
              <a:avLst>
                <a:gd name="adj" fmla="val 18352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342720" y="7556400"/>
              <a:ext cx="12331440" cy="185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Monaco"/>
                  <a:ea typeface="Monaco"/>
                </a:rPr>
                <a:t>2005-02-06 20:47:31,508 [main] DEBUG  TestLogging - Start of main()</a:t>
              </a:r>
              <a:endParaRPr b="0" lang="en-US" sz="2600" spc="-1" strike="noStrike">
                <a:solidFill>
                  <a:srgbClr val="ffffff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Monaco"/>
                  <a:ea typeface="Monaco"/>
                </a:rPr>
                <a:t>2005-02-06 20:47:31,529 [main] INFO   TestLogging - A log message with level set to INFO</a:t>
              </a:r>
              <a:endParaRPr b="0" lang="en-US" sz="26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387BD-6EDE-4521-8B1E-3774ACBDAE87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Chainsaw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6343560" y="9271080"/>
            <a:ext cx="317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48EFC-07FD-4DE6-A1D3-311AED99FE00}" type="slidenum">
              <a:rPr b="0" lang="en-US" sz="1800" spc="-1" strike="noStrike">
                <a:solidFill>
                  <a:srgbClr val="181818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BB430-3F53-44A1-9F33-7ECD33DC1E87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168200" y="253800"/>
            <a:ext cx="1066788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Logging with Aspects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68320" indent="-550800">
              <a:lnSpc>
                <a:spcPct val="100000"/>
              </a:lnSpc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Basic idea: Separate concerns into individual syntactic entities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(aspects)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Aspect code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(advice)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 is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woven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 into the program code at specific places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(join points)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e same aspect code can be woven into multiple places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(pointcuts)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DC922E-9FE2-411B-8D8B-1DAF3A230B73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A Logging Aspect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87" name=""/>
          <p:cNvSpPr/>
          <p:nvPr/>
        </p:nvSpPr>
        <p:spPr>
          <a:xfrm>
            <a:off x="635040" y="2908440"/>
            <a:ext cx="11709360" cy="527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410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Monaco"/>
                <a:ea typeface="Monaco"/>
              </a:rPr>
              <a:t>public aspect LogBuy {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410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3000" spc="-1" strike="noStrike">
                <a:solidFill>
                  <a:srgbClr val="ffffff"/>
                </a:solidFill>
                <a:latin typeface="Monaco"/>
                <a:ea typeface="Monaco"/>
              </a:rPr>
              <a:t>pointcut buyMethod():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410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Monaco"/>
                <a:ea typeface="Monaco"/>
              </a:rPr>
              <a:t>        </a:t>
            </a:r>
            <a:r>
              <a:rPr b="0" lang="en-US" sz="3000" spc="-1" strike="noStrike">
                <a:solidFill>
                  <a:srgbClr val="ffffff"/>
                </a:solidFill>
                <a:latin typeface="Monaco"/>
                <a:ea typeface="Monaco"/>
              </a:rPr>
              <a:t>call(public void Article.buy());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410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3000" spc="-1" strike="noStrike">
                <a:solidFill>
                  <a:srgbClr val="ffffff"/>
                </a:solidFill>
                <a:latin typeface="Monaco"/>
                <a:ea typeface="Monaco"/>
              </a:rPr>
              <a:t>before(): buyMethod() {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410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Monaco"/>
                <a:ea typeface="Monaco"/>
              </a:rPr>
              <a:t>      </a:t>
            </a:r>
            <a:r>
              <a:rPr b="0" lang="en-US" sz="3000" spc="-1" strike="noStrike">
                <a:solidFill>
                  <a:srgbClr val="ffffff"/>
                </a:solidFill>
                <a:latin typeface="Monaco"/>
                <a:ea typeface="Monaco"/>
              </a:rPr>
              <a:t>System.out.println("Entering Article.buy()")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410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3000" spc="-1" strike="noStrike">
                <a:solidFill>
                  <a:srgbClr val="ffffff"/>
                </a:solidFill>
                <a:latin typeface="Monaco"/>
                <a:ea typeface="Monaco"/>
              </a:rPr>
              <a:t>}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410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3000" spc="-1" strike="noStrike">
                <a:solidFill>
                  <a:srgbClr val="ffffff"/>
                </a:solidFill>
                <a:latin typeface="Monaco"/>
                <a:ea typeface="Monaco"/>
              </a:rPr>
              <a:t>after(): buyMethod() {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410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Monaco"/>
                <a:ea typeface="Monaco"/>
              </a:rPr>
              <a:t>      </a:t>
            </a:r>
            <a:r>
              <a:rPr b="0" lang="en-US" sz="3000" spc="-1" strike="noStrike">
                <a:solidFill>
                  <a:srgbClr val="ffffff"/>
                </a:solidFill>
                <a:latin typeface="Monaco"/>
                <a:ea typeface="Monaco"/>
              </a:rPr>
              <a:t>System.out.println("Leaving Article.buy()")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410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3000" spc="-1" strike="noStrike">
                <a:solidFill>
                  <a:srgbClr val="ffffff"/>
                </a:solidFill>
                <a:latin typeface="Monaco"/>
                <a:ea typeface="Monaco"/>
              </a:rPr>
              <a:t>}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410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Monaco"/>
                <a:ea typeface="Monaco"/>
              </a:rPr>
              <a:t>}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8" name=""/>
          <p:cNvSpPr/>
          <p:nvPr/>
        </p:nvSpPr>
        <p:spPr>
          <a:xfrm>
            <a:off x="3645000" y="7531200"/>
            <a:ext cx="9118440" cy="14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913752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Monaco"/>
                <a:ea typeface="Monaco"/>
              </a:rPr>
              <a:t>$ ajc logBuy.aj Article.java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913752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Monaco"/>
                <a:ea typeface="Monaco"/>
              </a:rPr>
              <a:t>$ java Article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3ECD9-FBF6-4257-BA66-1FD2711712FE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 </a:t>
            </a: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Using Pointcuts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90" name=""/>
          <p:cNvSpPr/>
          <p:nvPr/>
        </p:nvSpPr>
        <p:spPr>
          <a:xfrm>
            <a:off x="635040" y="2908440"/>
            <a:ext cx="11887200" cy="527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918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Monaco"/>
                <a:ea typeface="Monaco"/>
              </a:rPr>
              <a:t>public aspect LogArticle {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918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Monaco"/>
                <a:ea typeface="Monaco"/>
              </a:rPr>
              <a:t>  </a:t>
            </a:r>
            <a:r>
              <a:rPr b="0" lang="en-US" sz="3000" spc="-1" strike="noStrike">
                <a:solidFill>
                  <a:srgbClr val="ffffff"/>
                </a:solidFill>
                <a:latin typeface="Monaco"/>
                <a:ea typeface="Monaco"/>
              </a:rPr>
              <a:t>pointcut allMethods():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918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3000" spc="-1" strike="noStrike">
                <a:solidFill>
                  <a:srgbClr val="ffffff"/>
                </a:solidFill>
                <a:latin typeface="Monaco"/>
                <a:ea typeface="Monaco"/>
              </a:rPr>
              <a:t>call(public </a:t>
            </a:r>
            <a:r>
              <a:rPr b="0" lang="en-US" sz="3000" spc="-1" strike="noStrike">
                <a:solidFill>
                  <a:srgbClr val="ffff00"/>
                </a:solidFill>
                <a:latin typeface="Monaco"/>
                <a:ea typeface="Monaco"/>
              </a:rPr>
              <a:t>* Article.*(..)</a:t>
            </a:r>
            <a:r>
              <a:rPr b="0" lang="en-US" sz="3000" spc="-1" strike="noStrike">
                <a:solidFill>
                  <a:srgbClr val="ffffff"/>
                </a:solidFill>
                <a:latin typeface="Monaco"/>
                <a:ea typeface="Monaco"/>
              </a:rPr>
              <a:t>);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918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Monaco"/>
                <a:ea typeface="Monaco"/>
              </a:rPr>
              <a:t>  </a:t>
            </a:r>
            <a:r>
              <a:rPr b="0" lang="en-US" sz="3000" spc="-1" strike="noStrike">
                <a:solidFill>
                  <a:srgbClr val="ffffff"/>
                </a:solidFill>
                <a:latin typeface="Monaco"/>
                <a:ea typeface="Monaco"/>
              </a:rPr>
              <a:t>before(): allMethods() {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918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3000" spc="-1" strike="noStrike">
                <a:solidFill>
                  <a:srgbClr val="ffffff"/>
                </a:solidFill>
                <a:latin typeface="Monaco"/>
                <a:ea typeface="Monaco"/>
              </a:rPr>
              <a:t>System.out.println("Entering " + </a:t>
            </a:r>
            <a:r>
              <a:rPr b="0" lang="en-US" sz="3000" spc="-1" strike="noStrike">
                <a:solidFill>
                  <a:srgbClr val="ffff00"/>
                </a:solidFill>
                <a:latin typeface="Monaco"/>
                <a:ea typeface="Monaco"/>
              </a:rPr>
              <a:t>thisJoinPoint</a:t>
            </a:r>
            <a:r>
              <a:rPr b="0" lang="en-US" sz="3000" spc="-1" strike="noStrike">
                <a:solidFill>
                  <a:srgbClr val="ffffff"/>
                </a:solidFill>
                <a:latin typeface="Monaco"/>
                <a:ea typeface="Monaco"/>
              </a:rPr>
              <a:t>)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918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Monaco"/>
                <a:ea typeface="Monaco"/>
              </a:rPr>
              <a:t>  </a:t>
            </a:r>
            <a:r>
              <a:rPr b="0" lang="en-US" sz="3000" spc="-1" strike="noStrike">
                <a:solidFill>
                  <a:srgbClr val="ffffff"/>
                </a:solidFill>
                <a:latin typeface="Monaco"/>
                <a:ea typeface="Monaco"/>
              </a:rPr>
              <a:t>}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918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Monaco"/>
                <a:ea typeface="Monaco"/>
              </a:rPr>
              <a:t>  </a:t>
            </a:r>
            <a:r>
              <a:rPr b="0" lang="en-US" sz="3000" spc="-1" strike="noStrike">
                <a:solidFill>
                  <a:srgbClr val="ffffff"/>
                </a:solidFill>
                <a:latin typeface="Monaco"/>
                <a:ea typeface="Monaco"/>
              </a:rPr>
              <a:t>after(): allMethods() {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918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3000" spc="-1" strike="noStrike">
                <a:solidFill>
                  <a:srgbClr val="ffffff"/>
                </a:solidFill>
                <a:latin typeface="Monaco"/>
                <a:ea typeface="Monaco"/>
              </a:rPr>
              <a:t>System.out.println("Leaving " + </a:t>
            </a:r>
            <a:r>
              <a:rPr b="0" lang="en-US" sz="3000" spc="-1" strike="noStrike">
                <a:solidFill>
                  <a:srgbClr val="ffff00"/>
                </a:solidFill>
                <a:latin typeface="Monaco"/>
                <a:ea typeface="Monaco"/>
              </a:rPr>
              <a:t>thisJoinPoint</a:t>
            </a:r>
            <a:r>
              <a:rPr b="0" lang="en-US" sz="3000" spc="-1" strike="noStrike">
                <a:solidFill>
                  <a:srgbClr val="ffffff"/>
                </a:solidFill>
                <a:latin typeface="Monaco"/>
                <a:ea typeface="Monaco"/>
              </a:rPr>
              <a:t>)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918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Monaco"/>
                <a:ea typeface="Monaco"/>
              </a:rPr>
              <a:t>  </a:t>
            </a:r>
            <a:r>
              <a:rPr b="0" lang="en-US" sz="3000" spc="-1" strike="noStrike">
                <a:solidFill>
                  <a:srgbClr val="ffffff"/>
                </a:solidFill>
                <a:latin typeface="Monaco"/>
                <a:ea typeface="Monaco"/>
              </a:rPr>
              <a:t>}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918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Monaco"/>
                <a:ea typeface="Monaco"/>
              </a:rPr>
              <a:t>}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759A7-1D0B-40A0-80A2-E131A1B389DE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Aspect Arguments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92" name=""/>
          <p:cNvSpPr/>
          <p:nvPr/>
        </p:nvSpPr>
        <p:spPr>
          <a:xfrm>
            <a:off x="546120" y="3162240"/>
            <a:ext cx="11887200" cy="47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918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Monaco"/>
                <a:ea typeface="Monaco"/>
              </a:rPr>
              <a:t>public aspect LogMoves {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918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3000" spc="-1" strike="noStrike">
                <a:solidFill>
                  <a:srgbClr val="ffffff"/>
                </a:solidFill>
                <a:latin typeface="Monaco"/>
                <a:ea typeface="Monaco"/>
              </a:rPr>
              <a:t>pointcut setP(</a:t>
            </a:r>
            <a:r>
              <a:rPr b="0" lang="en-US" sz="3000" spc="-1" strike="noStrike">
                <a:solidFill>
                  <a:srgbClr val="ffff00"/>
                </a:solidFill>
                <a:latin typeface="Monaco"/>
                <a:ea typeface="Monaco"/>
              </a:rPr>
              <a:t>Line a_line, Point p</a:t>
            </a:r>
            <a:r>
              <a:rPr b="0" lang="en-US" sz="3000" spc="-1" strike="noStrike">
                <a:solidFill>
                  <a:srgbClr val="ffffff"/>
                </a:solidFill>
                <a:latin typeface="Monaco"/>
                <a:ea typeface="Monaco"/>
              </a:rPr>
              <a:t>): 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918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Monaco"/>
                <a:ea typeface="Monaco"/>
              </a:rPr>
              <a:t>        </a:t>
            </a:r>
            <a:r>
              <a:rPr b="0" lang="en-US" sz="3000" spc="-1" strike="noStrike">
                <a:solidFill>
                  <a:srgbClr val="ffffff"/>
                </a:solidFill>
                <a:latin typeface="Monaco"/>
                <a:ea typeface="Monaco"/>
              </a:rPr>
              <a:t>call(</a:t>
            </a:r>
            <a:r>
              <a:rPr b="0" lang="en-US" sz="3000" spc="-1" strike="noStrike">
                <a:solidFill>
                  <a:srgbClr val="ffff00"/>
                </a:solidFill>
                <a:latin typeface="Monaco"/>
                <a:ea typeface="Monaco"/>
              </a:rPr>
              <a:t>void a_line.setP*(p)</a:t>
            </a:r>
            <a:r>
              <a:rPr b="0" lang="en-US" sz="3000" spc="-1" strike="noStrike">
                <a:solidFill>
                  <a:srgbClr val="ffffff"/>
                </a:solidFill>
                <a:latin typeface="Monaco"/>
                <a:ea typeface="Monaco"/>
              </a:rPr>
              <a:t>);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918880"/>
              </a:tabLst>
            </a:pP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918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3000" spc="-1" strike="noStrike">
                <a:solidFill>
                  <a:srgbClr val="ffffff"/>
                </a:solidFill>
                <a:latin typeface="Monaco"/>
                <a:ea typeface="Monaco"/>
              </a:rPr>
              <a:t>after(</a:t>
            </a:r>
            <a:r>
              <a:rPr b="0" lang="en-US" sz="3000" spc="-1" strike="noStrike">
                <a:solidFill>
                  <a:srgbClr val="ffff00"/>
                </a:solidFill>
                <a:latin typeface="Monaco"/>
                <a:ea typeface="Monaco"/>
              </a:rPr>
              <a:t>Line a_line, Point p</a:t>
            </a:r>
            <a:r>
              <a:rPr b="0" lang="en-US" sz="3000" spc="-1" strike="noStrike">
                <a:solidFill>
                  <a:srgbClr val="ffffff"/>
                </a:solidFill>
                <a:latin typeface="Monaco"/>
                <a:ea typeface="Monaco"/>
              </a:rPr>
              <a:t>): setP(</a:t>
            </a:r>
            <a:r>
              <a:rPr b="0" lang="en-US" sz="3000" spc="-1" strike="noStrike">
                <a:solidFill>
                  <a:srgbClr val="ffff00"/>
                </a:solidFill>
                <a:latin typeface="Monaco"/>
                <a:ea typeface="Monaco"/>
              </a:rPr>
              <a:t>a_line, p</a:t>
            </a:r>
            <a:r>
              <a:rPr b="0" lang="en-US" sz="3000" spc="-1" strike="noStrike">
                <a:solidFill>
                  <a:srgbClr val="ffffff"/>
                </a:solidFill>
                <a:latin typeface="Monaco"/>
                <a:ea typeface="Monaco"/>
              </a:rPr>
              <a:t>) {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918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Monaco"/>
                <a:ea typeface="Monaco"/>
              </a:rPr>
              <a:t>        </a:t>
            </a:r>
            <a:r>
              <a:rPr b="0" lang="en-US" sz="3000" spc="-1" strike="noStrike">
                <a:solidFill>
                  <a:srgbClr val="ffffff"/>
                </a:solidFill>
                <a:latin typeface="Monaco"/>
                <a:ea typeface="Monaco"/>
              </a:rPr>
              <a:t>System.out.println(a_line + 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918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Monaco"/>
                <a:ea typeface="Monaco"/>
              </a:rPr>
              <a:t>                           </a:t>
            </a:r>
            <a:r>
              <a:rPr b="0" lang="en-US" sz="3000" spc="-1" strike="noStrike">
                <a:solidFill>
                  <a:srgbClr val="ffffff"/>
                </a:solidFill>
                <a:latin typeface="Monaco"/>
                <a:ea typeface="Monaco"/>
              </a:rPr>
              <a:t>" moved to " + p + ".");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918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3000" spc="-1" strike="noStrike">
                <a:solidFill>
                  <a:srgbClr val="ffffff"/>
                </a:solidFill>
                <a:latin typeface="Monaco"/>
                <a:ea typeface="Monaco"/>
              </a:rPr>
              <a:t>}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918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Monaco"/>
                <a:ea typeface="Monaco"/>
              </a:rPr>
              <a:t>}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A126E-03FA-4A03-886B-5D975D083D5B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Logging at the binary level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e PIN framework provides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dynamic instrumentation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 of x86 executable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362E01-5BC8-45D9-BDD5-DCABB6DB99A0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12600" y="838080"/>
            <a:ext cx="12992040" cy="80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Monaco"/>
                <a:ea typeface="Monaco"/>
              </a:rPr>
              <a:t>int </a:t>
            </a:r>
            <a:r>
              <a:rPr b="0" lang="en-US" sz="2600" spc="-1" strike="noStrike">
                <a:solidFill>
                  <a:srgbClr val="ffff00"/>
                </a:solidFill>
                <a:latin typeface="Monaco"/>
                <a:ea typeface="Monaco"/>
              </a:rPr>
              <a:t>main</a:t>
            </a:r>
            <a:r>
              <a:rPr b="0" lang="en-US" sz="2600" spc="-1" strike="noStrike">
                <a:solidFill>
                  <a:srgbClr val="ffffff"/>
                </a:solidFill>
                <a:latin typeface="Monaco"/>
                <a:ea typeface="Monaco"/>
              </a:rPr>
              <a:t>(int argc, char * argv[])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Monaco"/>
                <a:ea typeface="Monaco"/>
              </a:rPr>
              <a:t>{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600" spc="-1" strike="noStrike">
                <a:solidFill>
                  <a:srgbClr val="ffffff"/>
                </a:solidFill>
                <a:latin typeface="Monaco"/>
                <a:ea typeface="Monaco"/>
              </a:rPr>
              <a:t>trace = fopen("itrace.out", "w");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600" spc="-1" strike="noStrike">
                <a:solidFill>
                  <a:srgbClr val="ffffff"/>
                </a:solidFill>
                <a:latin typeface="Monaco"/>
                <a:ea typeface="Monaco"/>
              </a:rPr>
              <a:t>// Initialize pin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600" spc="-1" strike="noStrike">
                <a:solidFill>
                  <a:srgbClr val="ffffff"/>
                </a:solidFill>
                <a:latin typeface="Monaco"/>
                <a:ea typeface="Monaco"/>
              </a:rPr>
              <a:t>PIN_Init(argc, argv);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600" spc="-1" strike="noStrike">
                <a:solidFill>
                  <a:srgbClr val="ffffff"/>
                </a:solidFill>
                <a:latin typeface="Monaco"/>
                <a:ea typeface="Monaco"/>
              </a:rPr>
              <a:t>// Register Instruction to be called to instrument insns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600" spc="-1" strike="noStrike">
                <a:solidFill>
                  <a:srgbClr val="ffffff"/>
                </a:solidFill>
                <a:latin typeface="Monaco"/>
                <a:ea typeface="Monaco"/>
              </a:rPr>
              <a:t>INS_AddInstrumentFunction(Instruction, 0);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600" spc="-1" strike="noStrike">
                <a:solidFill>
                  <a:srgbClr val="ffffff"/>
                </a:solidFill>
                <a:latin typeface="Monaco"/>
                <a:ea typeface="Monaco"/>
              </a:rPr>
              <a:t>// Register Fini to be called when the application exits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600" spc="-1" strike="noStrike">
                <a:solidFill>
                  <a:srgbClr val="ffffff"/>
                </a:solidFill>
                <a:latin typeface="Monaco"/>
                <a:ea typeface="Monaco"/>
              </a:rPr>
              <a:t>PIN_AddFiniFunction(Fini, 0);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600" spc="-1" strike="noStrike">
                <a:solidFill>
                  <a:srgbClr val="ffffff"/>
                </a:solidFill>
                <a:latin typeface="Monaco"/>
                <a:ea typeface="Monaco"/>
              </a:rPr>
              <a:t>// Start the program, never returns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600" spc="-1" strike="noStrike">
                <a:solidFill>
                  <a:srgbClr val="ffffff"/>
                </a:solidFill>
                <a:latin typeface="Monaco"/>
                <a:ea typeface="Monaco"/>
              </a:rPr>
              <a:t>PIN_StartProgram();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600" spc="-1" strike="noStrike">
                <a:solidFill>
                  <a:srgbClr val="ffffff"/>
                </a:solidFill>
                <a:latin typeface="Monaco"/>
                <a:ea typeface="Monaco"/>
              </a:rPr>
              <a:t>return 0;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Monaco"/>
                <a:ea typeface="Monaco"/>
              </a:rPr>
              <a:t>}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DBEE-D40A-46EF-9738-B65BF3760E9B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/>
          <p:nvPr/>
        </p:nvSpPr>
        <p:spPr>
          <a:xfrm>
            <a:off x="0" y="1727280"/>
            <a:ext cx="12992040" cy="629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Monaco"/>
                <a:ea typeface="Monaco"/>
              </a:rPr>
              <a:t>// This function is called before every instruction is executed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Monaco"/>
                <a:ea typeface="Monaco"/>
              </a:rPr>
              <a:t>// and prints the IP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Monaco"/>
                <a:ea typeface="Monaco"/>
              </a:rPr>
              <a:t>VOID </a:t>
            </a:r>
            <a:r>
              <a:rPr b="0" lang="en-US" sz="2600" spc="-1" strike="noStrike">
                <a:solidFill>
                  <a:srgbClr val="ffff00"/>
                </a:solidFill>
                <a:latin typeface="Monaco"/>
                <a:ea typeface="Monaco"/>
              </a:rPr>
              <a:t>printip</a:t>
            </a:r>
            <a:r>
              <a:rPr b="0" lang="en-US" sz="2600" spc="-1" strike="noStrike">
                <a:solidFill>
                  <a:srgbClr val="ffffff"/>
                </a:solidFill>
                <a:latin typeface="Monaco"/>
                <a:ea typeface="Monaco"/>
              </a:rPr>
              <a:t>(VOID *ip) { fprintf(trace, "%p\n", ip); }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Monaco"/>
                <a:ea typeface="Monaco"/>
              </a:rPr>
              <a:t>// Pin calls this function every time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Monaco"/>
                <a:ea typeface="Monaco"/>
              </a:rPr>
              <a:t>// a new instruction is encountered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Monaco"/>
                <a:ea typeface="Monaco"/>
              </a:rPr>
              <a:t>VOID </a:t>
            </a:r>
            <a:r>
              <a:rPr b="0" lang="en-US" sz="2600" spc="-1" strike="noStrike">
                <a:solidFill>
                  <a:srgbClr val="ffff00"/>
                </a:solidFill>
                <a:latin typeface="Monaco"/>
                <a:ea typeface="Monaco"/>
              </a:rPr>
              <a:t>Instruction</a:t>
            </a:r>
            <a:r>
              <a:rPr b="0" lang="en-US" sz="2600" spc="-1" strike="noStrike">
                <a:solidFill>
                  <a:srgbClr val="ffffff"/>
                </a:solidFill>
                <a:latin typeface="Monaco"/>
                <a:ea typeface="Monaco"/>
              </a:rPr>
              <a:t>(INS ins, VOID *v)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Monaco"/>
                <a:ea typeface="Monaco"/>
              </a:rPr>
              <a:t>{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600" spc="-1" strike="noStrike">
                <a:solidFill>
                  <a:srgbClr val="ffffff"/>
                </a:solidFill>
                <a:latin typeface="Monaco"/>
                <a:ea typeface="Monaco"/>
              </a:rPr>
              <a:t>// Insert a call to printip before every instruction,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600" spc="-1" strike="noStrike">
                <a:solidFill>
                  <a:srgbClr val="ffffff"/>
                </a:solidFill>
                <a:latin typeface="Monaco"/>
                <a:ea typeface="Monaco"/>
              </a:rPr>
              <a:t>// and pass it the IP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600" spc="-1" strike="noStrike">
                <a:solidFill>
                  <a:srgbClr val="ffffff"/>
                </a:solidFill>
                <a:latin typeface="Monaco"/>
                <a:ea typeface="Monaco"/>
              </a:rPr>
              <a:t>INS_InsertCall(ins, IPOINT_BEFORE, (AFUNPTR)</a:t>
            </a:r>
            <a:r>
              <a:rPr b="0" lang="en-US" sz="2600" spc="-1" strike="noStrike">
                <a:solidFill>
                  <a:srgbClr val="ffff00"/>
                </a:solidFill>
                <a:latin typeface="Monaco"/>
                <a:ea typeface="Monaco"/>
              </a:rPr>
              <a:t>printip</a:t>
            </a:r>
            <a:r>
              <a:rPr b="0" lang="en-US" sz="2600" spc="-1" strike="noStrike">
                <a:solidFill>
                  <a:srgbClr val="ffffff"/>
                </a:solidFill>
                <a:latin typeface="Monaco"/>
                <a:ea typeface="Monaco"/>
              </a:rPr>
              <a:t>,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Monaco"/>
                <a:ea typeface="Monaco"/>
              </a:rPr>
              <a:t>         </a:t>
            </a:r>
            <a:r>
              <a:rPr b="0" lang="en-US" sz="2600" spc="-1" strike="noStrike">
                <a:solidFill>
                  <a:srgbClr val="ffffff"/>
                </a:solidFill>
                <a:latin typeface="Monaco"/>
                <a:ea typeface="Monaco"/>
              </a:rPr>
              <a:t>IARG_INST_PTR, IARG_END);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Monaco"/>
                <a:ea typeface="Monaco"/>
              </a:rPr>
              <a:t>}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8E71-290E-4791-A5AF-AB774BFB0C49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4" name=""/>
          <p:cNvGrpSpPr/>
          <p:nvPr/>
        </p:nvGrpSpPr>
        <p:grpSpPr>
          <a:xfrm>
            <a:off x="1892160" y="3111480"/>
            <a:ext cx="9207360" cy="5880240"/>
            <a:chOff x="1892160" y="3111480"/>
            <a:chExt cx="9207360" cy="5880240"/>
          </a:xfrm>
        </p:grpSpPr>
        <p:sp>
          <p:nvSpPr>
            <p:cNvPr id="435" name=""/>
            <p:cNvSpPr/>
            <p:nvPr/>
          </p:nvSpPr>
          <p:spPr>
            <a:xfrm>
              <a:off x="1892160" y="3111480"/>
              <a:ext cx="9207360" cy="5880240"/>
            </a:xfrm>
            <a:prstGeom prst="pi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418640" y="3441600"/>
              <a:ext cx="416592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Experimentation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3048120" y="4330800"/>
            <a:ext cx="6883200" cy="4546440"/>
            <a:chOff x="3048120" y="4330800"/>
            <a:chExt cx="6883200" cy="4546440"/>
          </a:xfrm>
        </p:grpSpPr>
        <p:sp>
          <p:nvSpPr>
            <p:cNvPr id="438" name=""/>
            <p:cNvSpPr/>
            <p:nvPr/>
          </p:nvSpPr>
          <p:spPr>
            <a:xfrm>
              <a:off x="3048120" y="4330800"/>
              <a:ext cx="6883200" cy="4546440"/>
            </a:xfrm>
            <a:prstGeom prst="pi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298480" y="4699080"/>
              <a:ext cx="240552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Induction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grpSp>
        <p:nvGrpSpPr>
          <p:cNvPr id="440" name=""/>
          <p:cNvGrpSpPr/>
          <p:nvPr/>
        </p:nvGrpSpPr>
        <p:grpSpPr>
          <a:xfrm>
            <a:off x="3733920" y="5626080"/>
            <a:ext cx="5537160" cy="3098880"/>
            <a:chOff x="3733920" y="5626080"/>
            <a:chExt cx="5537160" cy="3098880"/>
          </a:xfrm>
        </p:grpSpPr>
        <p:sp>
          <p:nvSpPr>
            <p:cNvPr id="441" name=""/>
            <p:cNvSpPr/>
            <p:nvPr/>
          </p:nvSpPr>
          <p:spPr>
            <a:xfrm>
              <a:off x="3733920" y="5626080"/>
              <a:ext cx="5537160" cy="3098880"/>
            </a:xfrm>
            <a:prstGeom prst="pi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965480" y="6045120"/>
              <a:ext cx="307296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Observation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4838760" y="7035840"/>
            <a:ext cx="3251160" cy="1536840"/>
            <a:chOff x="4838760" y="7035840"/>
            <a:chExt cx="3251160" cy="1536840"/>
          </a:xfrm>
        </p:grpSpPr>
        <p:sp>
          <p:nvSpPr>
            <p:cNvPr id="444" name=""/>
            <p:cNvSpPr/>
            <p:nvPr/>
          </p:nvSpPr>
          <p:spPr>
            <a:xfrm>
              <a:off x="4838760" y="7035840"/>
              <a:ext cx="3251160" cy="1536840"/>
            </a:xfrm>
            <a:prstGeom prst="pi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209920" y="7429680"/>
              <a:ext cx="258408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Deduction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015560" y="253800"/>
            <a:ext cx="109602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Reasoning about Runs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5253840" y="3924360"/>
            <a:ext cx="2457360" cy="4442760"/>
            <a:chOff x="5253840" y="3924360"/>
            <a:chExt cx="2457360" cy="4442760"/>
          </a:xfrm>
        </p:grpSpPr>
        <p:sp>
          <p:nvSpPr>
            <p:cNvPr id="448" name=""/>
            <p:cNvSpPr/>
            <p:nvPr/>
          </p:nvSpPr>
          <p:spPr>
            <a:xfrm>
              <a:off x="6049080" y="8001000"/>
              <a:ext cx="904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0 runs</a:t>
              </a:r>
              <a:endParaRPr b="0" lang="en-US" sz="24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077520" y="6553440"/>
              <a:ext cx="7581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1 run</a:t>
              </a:r>
              <a:endParaRPr b="0" lang="en-US" sz="24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041520" y="5168880"/>
              <a:ext cx="9198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n runs</a:t>
              </a:r>
              <a:endParaRPr b="0" lang="en-US" sz="24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253840" y="3924360"/>
              <a:ext cx="24573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n controlled runs</a:t>
              </a:r>
              <a:endParaRPr b="0" lang="en-US" sz="24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61E7C-DBFA-40DB-A327-1DBB2F28E7C6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/>
          <p:nvPr/>
        </p:nvSpPr>
        <p:spPr>
          <a:xfrm>
            <a:off x="1143000" y="1015920"/>
            <a:ext cx="10706040" cy="7709040"/>
          </a:xfrm>
          <a:prstGeom prst="roundRect">
            <a:avLst>
              <a:gd name="adj" fmla="val 2468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$ cd pin-2.0/ManualExample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$ make itrace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$ ../Bin/pin -t itrace -- /bin/l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atrace.C     inscount0.C  _insprofiler.C  itrace.o     staticcount.C…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$ head itrace.out    # output first 10 line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0x40000c20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0x40000c22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0x40000c70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0x40000c71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0x40000c73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0x40000c74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0x40000c75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0x40000c76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0x40000c79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0x40011d9b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$ wc -l itrace.out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501585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6975-128A-4A1D-9379-0ED173BAC369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Observation Tools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30788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68320" indent="-550800">
              <a:lnSpc>
                <a:spcPct val="100000"/>
              </a:lnSpc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Getting started fast – without altering the program code at hand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lexible observation of arbitrary event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ransient sessions – no code is written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3F0397-1C3C-4BCB-965B-79697A97D849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Debuggers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68320" indent="-550800">
              <a:lnSpc>
                <a:spcPct val="100000"/>
              </a:lnSpc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Execute the program and make it stop under specific condition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Observe the state of the stopped program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hange the state of the program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3059AA-BEAB-4701-8222-DDC514CFE712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/>
          <p:nvPr/>
        </p:nvSpPr>
        <p:spPr>
          <a:xfrm>
            <a:off x="977760" y="927000"/>
            <a:ext cx="11023920" cy="77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05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static void </a:t>
            </a:r>
            <a:r>
              <a:rPr b="0" lang="en-US" sz="2400" spc="-1" strike="noStrike">
                <a:solidFill>
                  <a:srgbClr val="ffff00"/>
                </a:solidFill>
                <a:latin typeface="Monaco"/>
                <a:ea typeface="Monaco"/>
              </a:rPr>
              <a:t>shell_sort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(int a[], int size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05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05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int i, j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05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int h = 1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05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do {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05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h = h * 3 + 1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05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} while (h &lt;= size)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05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do {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05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h /= 3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05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for (i = h; i &lt; size; i++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05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05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    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int v = a[i]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05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    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for (j = i; j &gt;= h &amp;&amp; a[j - h] &gt; v; j -= h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05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        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a[j] = a[j - h]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05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    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if (i != j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05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        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a[j] = v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05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05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} while (h != 1)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05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A Debugging Session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C4FA6-3658-4A24-BB23-8B2BBA7F42AE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More Features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68320" indent="-550800">
              <a:lnSpc>
                <a:spcPct val="100000"/>
              </a:lnSpc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ontrol environmen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Post mortem debugging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Logging data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ix and continue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BF6E56-4B1A-4760-AA77-8CE553C53BD0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Debugger Caveats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68320" indent="-550800">
              <a:lnSpc>
                <a:spcPct val="100000"/>
              </a:lnSpc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A debugger is a tool, not a toy!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204487-400C-4129-BC74-60F4675F99DF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More on Breakpoints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68320" indent="-550800">
              <a:lnSpc>
                <a:spcPct val="100000"/>
              </a:lnSpc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Data breakpoints (watchpoints)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onditional breakpoint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A325DC-D32A-4D87-BC6B-E1CAAC8FC6B3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Querying in COCA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graphicFrame>
        <p:nvGraphicFramePr>
          <p:cNvPr id="511" name=""/>
          <p:cNvGraphicFramePr/>
          <p:nvPr/>
        </p:nvGraphicFramePr>
        <p:xfrm>
          <a:off x="1282680" y="3619440"/>
          <a:ext cx="10439280" cy="5560920"/>
        </p:xfrm>
        <a:graphic>
          <a:graphicData uri="http://schemas.openxmlformats.org/drawingml/2006/table">
            <a:tbl>
              <a:tblPr/>
              <a:tblGrid>
                <a:gridCol w="5219640"/>
                <a:gridCol w="5219640"/>
              </a:tblGrid>
              <a:tr h="807840">
                <a:tc>
                  <a:txBody>
                    <a:bodyPr lIns="38160" rIns="38160" tIns="38160" bIns="38160" anchor="ctr">
                      <a:noAutofit/>
                    </a:bodyPr>
                    <a:p>
                      <a:pPr marL="63360" algn="ctr">
                        <a:lnSpc>
                          <a:spcPct val="100000"/>
                        </a:lnSpc>
                        <a:tabLst>
                          <a:tab algn="l" pos="0"/>
                          <a:tab algn="l" pos="1130400"/>
                          <a:tab algn="l" pos="5219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type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marL="63360" algn="ctr">
                        <a:lnSpc>
                          <a:spcPct val="100000"/>
                        </a:lnSpc>
                        <a:tabLst>
                          <a:tab algn="l" pos="0"/>
                          <a:tab algn="l" pos="1130400"/>
                          <a:tab algn="l" pos="5219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name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07840">
                <a:tc>
                  <a:txBody>
                    <a:bodyPr lIns="38160" rIns="38160" tIns="38160" bIns="38160" anchor="ctr">
                      <a:noAutofit/>
                    </a:bodyPr>
                    <a:p>
                      <a:pPr marL="63360" algn="ctr">
                        <a:lnSpc>
                          <a:spcPct val="100000"/>
                        </a:lnSpc>
                        <a:tabLst>
                          <a:tab algn="l" pos="0"/>
                          <a:tab algn="l" pos="1130400"/>
                          <a:tab algn="l" pos="5219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port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marL="63360" algn="ctr">
                        <a:lnSpc>
                          <a:spcPct val="100000"/>
                        </a:lnSpc>
                        <a:tabLst>
                          <a:tab algn="l" pos="0"/>
                          <a:tab algn="l" pos="1130400"/>
                          <a:tab algn="l" pos="5219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type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07840">
                <a:tc>
                  <a:txBody>
                    <a:bodyPr lIns="38160" rIns="38160" tIns="38160" bIns="38160" anchor="ctr">
                      <a:noAutofit/>
                    </a:bodyPr>
                    <a:p>
                      <a:pPr marL="63360" algn="ctr">
                        <a:lnSpc>
                          <a:spcPct val="100000"/>
                        </a:lnSpc>
                        <a:tabLst>
                          <a:tab algn="l" pos="0"/>
                          <a:tab algn="l" pos="1130400"/>
                          <a:tab algn="l" pos="5219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func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marL="63360" algn="ctr">
                        <a:lnSpc>
                          <a:spcPct val="100000"/>
                        </a:lnSpc>
                        <a:tabLst>
                          <a:tab algn="l" pos="0"/>
                          <a:tab algn="l" pos="1130400"/>
                          <a:tab algn="l" pos="5219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val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07840">
                <a:tc>
                  <a:txBody>
                    <a:bodyPr lIns="38160" rIns="38160" tIns="38160" bIns="38160" anchor="ctr">
                      <a:noAutofit/>
                    </a:bodyPr>
                    <a:p>
                      <a:pPr marL="63360" algn="ctr">
                        <a:lnSpc>
                          <a:spcPct val="100000"/>
                        </a:lnSpc>
                        <a:tabLst>
                          <a:tab algn="l" pos="0"/>
                          <a:tab algn="l" pos="1130400"/>
                          <a:tab algn="l" pos="5219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chrono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marL="63360" algn="ctr">
                        <a:lnSpc>
                          <a:spcPct val="100000"/>
                        </a:lnSpc>
                        <a:tabLst>
                          <a:tab algn="l" pos="0"/>
                          <a:tab algn="l" pos="1130400"/>
                          <a:tab algn="l" pos="5219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addr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07840">
                <a:tc>
                  <a:txBody>
                    <a:bodyPr lIns="38160" rIns="38160" tIns="38160" bIns="38160" anchor="ctr">
                      <a:noAutofit/>
                    </a:bodyPr>
                    <a:p>
                      <a:pPr marL="63360" algn="ctr">
                        <a:lnSpc>
                          <a:spcPct val="100000"/>
                        </a:lnSpc>
                        <a:tabLst>
                          <a:tab algn="l" pos="0"/>
                          <a:tab algn="l" pos="1130400"/>
                          <a:tab algn="l" pos="5219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depth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marL="63360" algn="ctr">
                        <a:lnSpc>
                          <a:spcPct val="100000"/>
                        </a:lnSpc>
                        <a:tabLst>
                          <a:tab algn="l" pos="0"/>
                          <a:tab algn="l" pos="1130400"/>
                          <a:tab algn="l" pos="5219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size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07840">
                <a:tc>
                  <a:txBody>
                    <a:bodyPr lIns="38160" rIns="38160" tIns="38160" bIns="38160" anchor="ctr">
                      <a:noAutofit/>
                    </a:bodyPr>
                    <a:p>
                      <a:pPr marL="63360" algn="ctr">
                        <a:lnSpc>
                          <a:spcPct val="100000"/>
                        </a:lnSpc>
                        <a:tabLst>
                          <a:tab algn="l" pos="0"/>
                          <a:tab algn="l" pos="1130400"/>
                          <a:tab algn="l" pos="5219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line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marL="63360" algn="ctr">
                        <a:lnSpc>
                          <a:spcPct val="100000"/>
                        </a:lnSpc>
                        <a:tabLst>
                          <a:tab algn="l" pos="0"/>
                          <a:tab algn="l" pos="1130400"/>
                          <a:tab algn="l" pos="5219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linedecl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07840">
                <a:tc>
                  <a:txBody>
                    <a:bodyPr lIns="38160" rIns="38160" tIns="38160" bIns="38160" anchor="ctr">
                      <a:noAutofit/>
                    </a:bodyPr>
                    <a:p>
                      <a:pPr marL="63360" algn="ctr">
                        <a:lnSpc>
                          <a:spcPct val="100000"/>
                        </a:lnSpc>
                        <a:tabLst>
                          <a:tab algn="l" pos="0"/>
                          <a:tab algn="l" pos="1130400"/>
                          <a:tab algn="l" pos="5219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file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marL="63360" algn="ctr">
                        <a:lnSpc>
                          <a:spcPct val="100000"/>
                        </a:lnSpc>
                        <a:tabLst>
                          <a:tab algn="l" pos="0"/>
                          <a:tab algn="l" pos="1130400"/>
                          <a:tab algn="l" pos="5219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filedecl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2" name=""/>
          <p:cNvGraphicFramePr/>
          <p:nvPr/>
        </p:nvGraphicFramePr>
        <p:xfrm>
          <a:off x="1282680" y="2692440"/>
          <a:ext cx="10439280" cy="812880"/>
        </p:xfrm>
        <a:graphic>
          <a:graphicData uri="http://schemas.openxmlformats.org/drawingml/2006/table">
            <a:tbl>
              <a:tblPr/>
              <a:tblGrid>
                <a:gridCol w="5219640"/>
                <a:gridCol w="5219640"/>
              </a:tblGrid>
              <a:tr h="812880">
                <a:tc>
                  <a:txBody>
                    <a:bodyPr lIns="38160" rIns="38160" tIns="38160" bIns="38160" anchor="ctr">
                      <a:noAutofit/>
                    </a:bodyPr>
                    <a:p>
                      <a:pPr marL="63360" algn="ctr">
                        <a:lnSpc>
                          <a:spcPct val="100000"/>
                        </a:lnSpc>
                        <a:tabLst>
                          <a:tab algn="l" pos="0"/>
                          <a:tab algn="l" pos="1130400"/>
                          <a:tab algn="l" pos="5219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Events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marL="63360" algn="ctr">
                        <a:lnSpc>
                          <a:spcPct val="100000"/>
                        </a:lnSpc>
                        <a:tabLst>
                          <a:tab algn="l" pos="0"/>
                          <a:tab algn="l" pos="1130400"/>
                          <a:tab algn="l" pos="5219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Data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4AAE2-7665-47C2-B09F-BFB4815612E2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Example Queries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14" name=""/>
          <p:cNvSpPr/>
          <p:nvPr/>
        </p:nvSpPr>
        <p:spPr>
          <a:xfrm>
            <a:off x="977760" y="3086280"/>
            <a:ext cx="11023920" cy="17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05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[coca] </a:t>
            </a:r>
            <a:r>
              <a:rPr b="0" lang="en-US" sz="2400" spc="-1" strike="noStrike">
                <a:solidFill>
                  <a:srgbClr val="ffff00"/>
                </a:solidFill>
                <a:latin typeface="Monaco"/>
                <a:ea typeface="Monaco"/>
              </a:rPr>
              <a:t>current_var(Name, val=42).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05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Name = x0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05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Name = x1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05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[coca] 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5" name=""/>
          <p:cNvSpPr/>
          <p:nvPr/>
        </p:nvSpPr>
        <p:spPr>
          <a:xfrm>
            <a:off x="977760" y="6362640"/>
            <a:ext cx="110239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05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   </a:t>
            </a:r>
            <a:r>
              <a:rPr b="0" lang="en-US" sz="2400" spc="-1" strike="noStrike">
                <a:solidFill>
                  <a:srgbClr val="ffff00"/>
                </a:solidFill>
                <a:latin typeface="Monaco"/>
                <a:ea typeface="Monaco"/>
              </a:rPr>
              <a:t>fget(line=Ln), current_var(a, val=array(-,-,0,...)).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05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Ln = &lt;a = malloc(...)&gt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05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[coca] 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6" name=""/>
          <p:cNvSpPr/>
          <p:nvPr/>
        </p:nvSpPr>
        <p:spPr>
          <a:xfrm>
            <a:off x="977760" y="4317840"/>
            <a:ext cx="1102392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05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   </a:t>
            </a:r>
            <a:r>
              <a:rPr b="0" lang="en-US" sz="2400" spc="-1" strike="noStrike">
                <a:solidFill>
                  <a:srgbClr val="ffff00"/>
                </a:solidFill>
                <a:latin typeface="Monaco"/>
                <a:ea typeface="Monaco"/>
              </a:rPr>
              <a:t>fget(func=shell_sort and line=Ln), \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05524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Monaco"/>
                <a:ea typeface="Monaco"/>
              </a:rPr>
              <a:t>       </a:t>
            </a:r>
            <a:r>
              <a:rPr b="0" lang="en-US" sz="2400" spc="-1" strike="noStrike">
                <a:solidFill>
                  <a:srgbClr val="ffff00"/>
                </a:solidFill>
                <a:latin typeface="Monaco"/>
                <a:ea typeface="Monaco"/>
              </a:rPr>
              <a:t>current_var(Name, val=0).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05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Name = a[2]  Ln = &lt;int i, j;&gt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05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Name = v     Ln = &lt;int v = a[i]&gt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05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Name = a[0]  Ln = &lt;a[j] = v&gt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05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[coca] 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7" name=""/>
          <p:cNvSpPr/>
          <p:nvPr/>
        </p:nvSpPr>
        <p:spPr>
          <a:xfrm>
            <a:off x="309240" y="8026560"/>
            <a:ext cx="123465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fget() sets breakpoints, current_var() queries data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1731E-CAD1-4230-AF70-4E968E677966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8" name="" descr=""/>
          <p:cNvPicPr/>
          <p:nvPr/>
        </p:nvPicPr>
        <p:blipFill>
          <a:blip r:embed="rId2"/>
          <a:stretch/>
        </p:blipFill>
        <p:spPr>
          <a:xfrm>
            <a:off x="2171880" y="355680"/>
            <a:ext cx="8646840" cy="903276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Visualizing Data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7DC8D-C5B8-4B07-BF8D-D57F91696ED4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2" name=""/>
          <p:cNvGrpSpPr/>
          <p:nvPr/>
        </p:nvGrpSpPr>
        <p:grpSpPr>
          <a:xfrm>
            <a:off x="3733920" y="5626080"/>
            <a:ext cx="5537160" cy="3098880"/>
            <a:chOff x="3733920" y="5626080"/>
            <a:chExt cx="5537160" cy="3098880"/>
          </a:xfrm>
        </p:grpSpPr>
        <p:sp>
          <p:nvSpPr>
            <p:cNvPr id="453" name=""/>
            <p:cNvSpPr/>
            <p:nvPr/>
          </p:nvSpPr>
          <p:spPr>
            <a:xfrm>
              <a:off x="3733920" y="5626080"/>
              <a:ext cx="5537160" cy="3098880"/>
            </a:xfrm>
            <a:prstGeom prst="pi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965480" y="6045120"/>
              <a:ext cx="307296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Observation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015560" y="253800"/>
            <a:ext cx="109602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Reasoning about Runs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4838760" y="7035840"/>
            <a:ext cx="3251160" cy="1536840"/>
            <a:chOff x="4838760" y="7035840"/>
            <a:chExt cx="3251160" cy="1536840"/>
          </a:xfrm>
        </p:grpSpPr>
        <p:grpSp>
          <p:nvGrpSpPr>
            <p:cNvPr id="457" name=""/>
            <p:cNvGrpSpPr/>
            <p:nvPr/>
          </p:nvGrpSpPr>
          <p:grpSpPr>
            <a:xfrm>
              <a:off x="4838760" y="7035840"/>
              <a:ext cx="3251160" cy="1536840"/>
              <a:chOff x="4838760" y="7035840"/>
              <a:chExt cx="3251160" cy="1536840"/>
            </a:xfrm>
          </p:grpSpPr>
          <p:sp>
            <p:nvSpPr>
              <p:cNvPr id="458" name=""/>
              <p:cNvSpPr/>
              <p:nvPr/>
            </p:nvSpPr>
            <p:spPr>
              <a:xfrm>
                <a:off x="4838760" y="7035840"/>
                <a:ext cx="3251160" cy="1536840"/>
              </a:xfrm>
              <a:prstGeom prst="pi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5209920" y="7429680"/>
                <a:ext cx="2584080" cy="64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06668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200" spc="-1" strike="noStrike">
                    <a:solidFill>
                      <a:srgbClr val="ffffff"/>
                    </a:solidFill>
                    <a:latin typeface="Gill Sans"/>
                    <a:ea typeface="Gill Sans"/>
                  </a:rPr>
                  <a:t>Deduction</a:t>
                </a:r>
                <a:endParaRPr b="0" lang="en-US" sz="42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</p:grpSp>
        <p:sp>
          <p:nvSpPr>
            <p:cNvPr id="460" name=""/>
            <p:cNvSpPr/>
            <p:nvPr/>
          </p:nvSpPr>
          <p:spPr>
            <a:xfrm>
              <a:off x="6049800" y="8001000"/>
              <a:ext cx="904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0 runs</a:t>
              </a:r>
              <a:endParaRPr b="0" lang="en-US" sz="24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sp>
        <p:nvSpPr>
          <p:cNvPr id="461" name=""/>
          <p:cNvSpPr/>
          <p:nvPr/>
        </p:nvSpPr>
        <p:spPr>
          <a:xfrm>
            <a:off x="6077880" y="6553080"/>
            <a:ext cx="7581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  <a:ea typeface="Gill Sans"/>
              </a:rPr>
              <a:t>1 run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4B751-C6BC-4660-A3FB-7FE4BAC76276}" type="slidenum">
              <a:t>3</a:t>
            </a:fld>
          </a:p>
        </p:txBody>
      </p:sp>
    </p:spTree>
  </p:cSld>
  <p:transition spd="med">
    <p:dissolv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eDOBS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6343560" y="9271080"/>
            <a:ext cx="317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EB059-5D74-42F9-884B-212294DE52E2}" type="slidenum">
              <a:rPr b="0" lang="en-US" sz="1800" spc="-1" strike="noStrike">
                <a:solidFill>
                  <a:srgbClr val="181818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DF01D-4249-4292-B381-A23CBDDC974F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Concepts (2)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63640" indent="-546120">
              <a:lnSpc>
                <a:spcPct val="100000"/>
              </a:lnSpc>
              <a:buSzPct val="132639"/>
              <a:buBlip>
                <a:blip r:embed="rId2"/>
              </a:buBlip>
              <a:tabLst>
                <a:tab algn="l" pos="1511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Logging functions can be turned on or off (and may even remain in the source code)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3640" indent="-546120">
              <a:lnSpc>
                <a:spcPct val="100000"/>
              </a:lnSpc>
              <a:spcBef>
                <a:spcPts val="2599"/>
              </a:spcBef>
              <a:buSzPct val="132639"/>
              <a:buBlip>
                <a:blip r:embed="rId3"/>
              </a:buBlip>
              <a:tabLst>
                <a:tab algn="l" pos="1511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Aspects elegantly keep all logging code in one place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3640" indent="-546120">
              <a:lnSpc>
                <a:spcPct val="100000"/>
              </a:lnSpc>
              <a:spcBef>
                <a:spcPts val="2599"/>
              </a:spcBef>
              <a:buSzPct val="132639"/>
              <a:buBlip>
                <a:blip r:embed="rId4"/>
              </a:buBlip>
              <a:tabLst>
                <a:tab algn="l" pos="1511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Debuggers allow flexible + quick observation of arbitrary event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A2ED14-93B1-47B0-ACB0-A22F736763CC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Concepts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1270080" y="2768400"/>
            <a:ext cx="10718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63640" indent="-546120">
              <a:lnSpc>
                <a:spcPct val="100000"/>
              </a:lnSpc>
              <a:buSzPct val="132639"/>
              <a:buBlip>
                <a:blip r:embed="rId2"/>
              </a:buBlip>
              <a:tabLst>
                <a:tab algn="l" pos="1511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Logging functions (”printf debugging”) are easy to use, but clobber code and outpu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3640" indent="-546120">
              <a:lnSpc>
                <a:spcPct val="100000"/>
              </a:lnSpc>
              <a:spcBef>
                <a:spcPts val="2599"/>
              </a:spcBef>
              <a:buSzPct val="132639"/>
              <a:buBlip>
                <a:blip r:embed="rId3"/>
              </a:buBlip>
              <a:tabLst>
                <a:tab algn="l" pos="1511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o encapsulate and reuse debugging code, use dedicated logging functions or aspects 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74D04A-EFE5-47F6-BDDB-55AD7BC5E44A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Concepts (3)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63640" indent="-546120">
              <a:lnSpc>
                <a:spcPct val="100000"/>
              </a:lnSpc>
              <a:buSzPct val="132639"/>
              <a:buBlip>
                <a:blip r:embed="rId2"/>
              </a:buBlip>
              <a:tabLst>
                <a:tab algn="l" pos="1511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o observe the final state of a crashing program, use a debugger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3640" indent="-546120">
              <a:lnSpc>
                <a:spcPct val="100000"/>
              </a:lnSpc>
              <a:spcBef>
                <a:spcPts val="2599"/>
              </a:spcBef>
              <a:buSzPct val="132639"/>
              <a:buBlip>
                <a:blip r:embed="rId3"/>
              </a:buBlip>
              <a:tabLst>
                <a:tab algn="l" pos="1511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Advanced debuggers allow to query events in a declarative fashion…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3640" indent="-546120">
              <a:lnSpc>
                <a:spcPct val="100000"/>
              </a:lnSpc>
              <a:spcBef>
                <a:spcPts val="2599"/>
              </a:spcBef>
              <a:buSzPct val="132639"/>
              <a:buBlip>
                <a:blip r:embed="rId4"/>
              </a:buBlip>
              <a:tabLst>
                <a:tab algn="l" pos="1511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…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as well as visualizing events and data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CED145-84B8-4604-A5B9-30508FD4DBED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/>
          <p:nvPr/>
        </p:nvSpPr>
        <p:spPr>
          <a:xfrm>
            <a:off x="1816200" y="7772400"/>
            <a:ext cx="1002024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0045800"/>
                <a:tab algn="l" pos="10058400"/>
              </a:tabLst>
            </a:pPr>
            <a:r>
              <a:rPr b="0" lang="en-US" sz="1800" spc="-1" strike="noStrike">
                <a:solidFill>
                  <a:srgbClr val="4b4b4b"/>
                </a:solidFill>
                <a:latin typeface="Gill Sans"/>
                <a:ea typeface="Gill Sans"/>
              </a:rPr>
              <a:t>This work is licensed under the Creative Commons Attribution License.  To view a copy of this license, visit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00458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0045800"/>
                <a:tab algn="l" pos="10058400"/>
              </a:tabLst>
            </a:pPr>
            <a:r>
              <a:rPr b="0" lang="en-US" sz="1800" spc="-1" strike="noStrike">
                <a:solidFill>
                  <a:srgbClr val="4b4b4b"/>
                </a:solidFill>
                <a:latin typeface="Gill Sans"/>
                <a:ea typeface="Gill Sans"/>
              </a:rPr>
              <a:t>http://creativecommons.org/licenses/by/1.0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00458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0045800"/>
                <a:tab algn="l" pos="10058400"/>
              </a:tabLst>
            </a:pPr>
            <a:r>
              <a:rPr b="0" lang="en-US" sz="1800" spc="-1" strike="noStrike">
                <a:solidFill>
                  <a:srgbClr val="4b4b4b"/>
                </a:solidFill>
                <a:latin typeface="Gill Sans"/>
                <a:ea typeface="Gill Sans"/>
              </a:rPr>
              <a:t>or send a letter to Creative Commons, 559 Abbott Way, Stanford, California 94305, USA. 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4B84-338F-4090-9149-C511D62278DF}" type="slidenum">
              <a:t>34</a:t>
            </a:fld>
          </a:p>
        </p:txBody>
      </p:sp>
    </p:spTree>
  </p:cSld>
  <p:transition spd="med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Principles of Observation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68320" indent="-550800">
              <a:lnSpc>
                <a:spcPct val="100000"/>
              </a:lnSpc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Don’t interfere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Know what and when to observe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Proceed systematically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E8AFCE-C39C-4DA8-95A6-1D2B00C1FCF3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Logging execution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68320" indent="-550800">
              <a:lnSpc>
                <a:spcPct val="100000"/>
              </a:lnSpc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General idea: Insert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output statements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 at specific places in the program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Also known as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printf debugging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F25E3D-5A09-43D6-AB07-961D54595076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Printf Problems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68320" indent="-550800">
              <a:lnSpc>
                <a:spcPct val="100000"/>
              </a:lnSpc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lobbered code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lobbered outpu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low down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Possible loss of data (due to buffering)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F73F89-95E0-41E8-9B79-1D2EACF33E8E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Better Logging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68320" indent="-550800">
              <a:lnSpc>
                <a:spcPct val="100000"/>
              </a:lnSpc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Use standard format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Make logging optiona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Allow for variable granularity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Be persisten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818637-4C5D-46AD-AD03-8BBBFA2A1984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Logging Functions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68320" indent="-550800">
              <a:lnSpc>
                <a:spcPct val="100000"/>
              </a:lnSpc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Have specific functions for logging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8320" indent="-550800">
              <a:lnSpc>
                <a:spcPct val="100000"/>
              </a:lnSpc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(e.g. dprintf() to print to a specific logging channel)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Have specific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macros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 that can be turned on or off–for focusing as well as for production code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57329C-85A4-4E61-AB3D-D6B0D395C549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Logging Frameworks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Past: home-grown logging facilitie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uture: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standard libraries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 for logging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Example: The LOGFORJ framework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E69845-BE64-460B-96B3-063AFCDFA25D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