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ct" ContentType="image/x-pict"/>
  <Override PartName="/ppt/media/image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1F1A1-7CEC-4D8E-A150-7A67AB4CE7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31A53-879F-4501-BBF9-7885B1673E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75376-69B7-44F2-B7E5-46F7159A290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F8AE5-F5CF-46F8-9BF1-B341A22EA74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5BB31-B6E3-4E16-ABFD-CDF9F11D8CA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6B08C-3BFD-4B3B-A9F5-1269749AB97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6B5A5-EA9E-4AA0-AAB6-DA76AA968B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12A72-0A6D-426A-B247-D334D7EFDC2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F211F-AB7D-4165-97AD-DC90B8D671E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895E2-D821-43AE-B2E9-733F95C23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4B6B-1B75-44C4-B866-7476EE632C1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B3203-28A8-44D4-9E24-F4520298CAB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87CF3-238E-43A8-8839-7DBB850571B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98E3A-1F53-4D22-8D77-3953427BBE9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0C05-D475-41F4-892C-D98C68A6FEE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5BEE-B72A-4C2A-8E94-9DA08668C4D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53FE7-5EF1-4C36-BFB6-37BF2821C84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89D02-055F-4B38-AF03-B50D2E7EEF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63C8-82D6-41B5-95B6-D60983BB608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44551-A2B3-49B8-A54A-0E67F5D610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026E-94D6-4110-A36E-1F4D86AF525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BF39AC-B269-4AE8-92DF-FCC80E2F436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53C41-56B3-4825-ABD2-A9C3BAF5BB8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2AA642-CD92-4864-85F1-D3B996E29D3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B82F1-7BE1-4A8A-BE0D-B755E6366DC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DF4DA-D8CD-4BCE-9131-051C5A906ED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193DB3-B0AE-49E0-B3FE-169AAA8FAFD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366F3-B709-43B2-A861-6159558EFA3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09B83-56EE-4330-8497-BD375F6853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6DE37A-D95E-4400-9DD9-5CB914E6D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CD91-B931-4CB5-959D-5F1B145F552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0A57B5-AFE4-45D5-9BAF-AB1E4F308C6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43DA9-9992-4AFF-8C32-4558C29A6D9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22BD7B-B99D-46F1-AA7C-A19490369E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7C6FB-6ED1-4E38-87C8-64F86A7BE7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E0E4-BAA5-4EE4-AF22-2267D44B2B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A841F-B6B7-4F55-9BB8-1BEF7924C3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4E1D-AF2A-494F-8226-A189C3C440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BF65-61C2-442C-A885-CDA30D8333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E3090-DC74-4A31-A638-330CA135CF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E223-9970-4589-8272-711B19B418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7E38-370F-47D9-ACD8-ECB4D0DAF0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271F-0DBB-4C5C-B89F-BC75EB6ED4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D2C2A-6A66-49FC-B170-B742B82E6A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3054-891C-45CD-9F5A-7A6DE6109F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D571C-E3EF-46C4-8D6C-58BD4B67E1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176A-9FE3-4EEC-9642-B1A9D92E83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7264-EF94-495F-A5F5-641258E319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52DE6-339E-4BAE-9630-61D9CB2AB5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11050-3162-4671-A8AB-961F21B479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6F7F-DC47-4E27-881E-8491D579EA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9E9D-0425-45C8-BF37-76AED91C47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C08E-05E2-4F6E-9086-FF5DADAB04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0EC1-62B1-43D0-9B2B-4FE07B0EB8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2D9A7-9E31-4DF5-88FA-8ECCCD7738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477E5-7746-42D3-85DC-7D250266FC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3C49-D76F-42A4-BE57-A3D50859629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2D0-62FC-4311-B23A-858C42638C3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836-E2F8-461D-A267-4C859DE1182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253-2AEE-4676-898E-B3101650F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342-7CC9-4586-8F3D-4A24AA20A71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82A-18A1-4ACD-801C-B4A6E1D63D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09E-3B4F-4A2C-8BA9-4D65700CC3E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16C5-028C-4D20-9402-41E3713D2E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D9DF-36C8-4C21-AAD6-A77B1C22A74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1D54-D800-44C9-A9F3-69DA25BCB49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F77B-6049-4545-B088-D3B6C0996F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8278-C49E-4CCE-876C-A9C4D67C07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9F41-54C1-42EF-9675-019BBBD2E9B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A3265-51D6-47D7-B272-D2C75F7DA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3DF5B-0EC6-4C4B-AC99-90ECBC187C2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4672D-35EF-48B9-B2D7-801F257D1C3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7A7D1-26F4-4D36-A158-A8ED66B29D6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5D0B4-3FD0-45D4-AD9E-78B0BEF1A69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75844-CE94-4731-9E0B-BEDC8FBF561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BD10C-3171-48E6-9EA8-83D25A27477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E4880-F9AC-4EF5-B6AC-C5D85612D63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6A86D-C793-4D6E-A1C5-6EE929196A3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5EED7-C431-4020-A016-E79A443D702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B84BC-3EB9-4C38-9AF3-6CFC72FAD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4A42D-4D52-458C-8429-128CD74F914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EE4F-92A4-4EDA-8F0C-94E558A46BE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14C67-7A12-4BC5-94D8-06C70ED4F49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C62CE-D3DC-4F65-A7BE-15A8EB16C8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621D3-64B0-48A3-B6AA-86CBB6E7C91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4E755-486D-4D36-9397-7FB001626C1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9830A-D9D2-4A0F-B241-A13BE12D3AD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63575-961F-4F75-B078-3794FB156EB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B3A80-9605-4937-B803-D0FDDFFD55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5A409-D5B7-4BD3-9FA9-FD1DD7229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58301-B672-401C-8857-AE92C79B26B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F0C0B-EC61-4787-B558-7C4BD10BFF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1DDFA-525E-4DAA-B0BD-DCDFE09774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A1C0-D483-4718-8632-5701AA09873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B385-A0EC-44CA-89A2-75FE201837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D04F-CDDF-4045-A9B5-4803DCBDCFD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5E7D-52C5-4D09-8689-F3D3CB94DB0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5AF0-8CBD-4D82-9809-061C7D2A85A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CB29-0970-4B9C-89FD-894FA36006F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A4D1-A28F-41A6-85CC-0487A900D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EE68-8B8C-464B-A4DE-EA6B13C8AA1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62B6-D287-4AF5-B7C6-0787CAC598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B592-2E15-46CA-80B5-75CD796537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3EE5-F4C9-4DB5-AA6A-8CEAD42107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D704-F09F-447C-81D1-27132DFD77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740ED3-ABCC-4D20-9B0E-F7C602135BE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85BB08-8CB0-4EA2-B2D8-5E378032696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E9CD66-0A38-4541-98D2-B9796538EA7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4EC112-CDDB-429A-956C-6F02A31D2BD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632CB1-52A7-4628-8D3E-6E2375863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9ACDAB-019C-418F-8873-9679582A33E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78F49-7ECC-48B5-95B0-3CC8827079E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E62D66-35E7-4CA2-A7AD-C7D53173C05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304F9-75E8-4AF8-B25B-71952EA8A4D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DE94E-5F2A-4892-83B4-68431197F1C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D54A2-8646-43B1-BD1C-8BBC3117E38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F2D92-367D-4D28-BDB2-5EC71F065D2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D3EB9-F5E0-417E-8385-DD6F51B86D3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8FD9D-D84F-449B-ACF5-50B87AF80D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E867E-97A3-4700-907A-EBFE0A118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7FB2-7A78-4EFE-BA8E-28228C901703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42A1-FB6A-4C36-8CEC-118C932FBAF2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1ACE-37D5-4B3F-95C5-B907355A6CE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1CC7-5D4C-4964-8466-533046B5F5D3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CAB7-C855-4251-85E6-44E2DC4CBFF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09C0-0BEE-4807-828B-37CFEC5D7925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3B69-142B-401C-BD3A-F8927460319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3BAC-2D08-407B-AFCC-360E850068B3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752E-F6F8-4E9F-9B85-AB582D0448D0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BB52-9841-4A2A-AE46-E8D775BDC8BB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2.pct"/><Relationship Id="rId6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aking Programs Fail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9588600" y="5029200"/>
            <a:ext cx="3071880" cy="753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trol Lay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0" y="0"/>
            <a:ext cx="7074000" cy="8514360"/>
            <a:chOff x="0" y="0"/>
            <a:chExt cx="7074000" cy="8514360"/>
          </a:xfrm>
        </p:grpSpPr>
        <p:pic>
          <p:nvPicPr>
            <p:cNvPr id="46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61" name="" descr=""/>
            <p:cNvPicPr/>
            <p:nvPr/>
          </p:nvPicPr>
          <p:blipFill>
            <a:blip r:embed="rId3"/>
            <a:stretch/>
          </p:blipFill>
          <p:spPr>
            <a:xfrm>
              <a:off x="252720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502920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63" name=""/>
            <p:cNvSpPr/>
            <p:nvPr/>
          </p:nvSpPr>
          <p:spPr>
            <a:xfrm>
              <a:off x="5310000" y="7873920"/>
              <a:ext cx="130536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nit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487600" y="5943600"/>
            <a:ext cx="6440040" cy="1511280"/>
            <a:chOff x="2487600" y="5943600"/>
            <a:chExt cx="6440040" cy="1511280"/>
          </a:xfrm>
        </p:grpSpPr>
        <p:sp>
          <p:nvSpPr>
            <p:cNvPr id="465" name=""/>
            <p:cNvSpPr/>
            <p:nvPr/>
          </p:nvSpPr>
          <p:spPr>
            <a:xfrm>
              <a:off x="2487600" y="5943600"/>
              <a:ext cx="644004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5428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8256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58456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11760" y="5969160"/>
              <a:ext cx="3211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Functionalit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489040" y="4394160"/>
            <a:ext cx="5613480" cy="1612800"/>
            <a:chOff x="2489040" y="4394160"/>
            <a:chExt cx="5613480" cy="1612800"/>
          </a:xfrm>
        </p:grpSpPr>
        <p:sp>
          <p:nvSpPr>
            <p:cNvPr id="471" name=""/>
            <p:cNvSpPr/>
            <p:nvPr/>
          </p:nvSpPr>
          <p:spPr>
            <a:xfrm>
              <a:off x="2489040" y="4394160"/>
              <a:ext cx="561348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38680" y="5232240"/>
              <a:ext cx="0" cy="774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17600" y="4419720"/>
              <a:ext cx="32025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esent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74" name=""/>
          <p:cNvSpPr/>
          <p:nvPr/>
        </p:nvSpPr>
        <p:spPr>
          <a:xfrm flipH="1">
            <a:off x="7810200" y="3822840"/>
            <a:ext cx="1832040" cy="5587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8597880" y="3873600"/>
            <a:ext cx="1184400" cy="21366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9372600" y="3936960"/>
            <a:ext cx="503280" cy="35845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0"/>
            <a:ext cx="5625720" cy="4444920"/>
            <a:chOff x="0" y="0"/>
            <a:chExt cx="5625720" cy="4444920"/>
          </a:xfrm>
        </p:grpSpPr>
        <p:pic>
          <p:nvPicPr>
            <p:cNvPr id="478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241632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625720" y="373392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480" name="" descr=""/>
          <p:cNvPicPr/>
          <p:nvPr/>
        </p:nvPicPr>
        <p:blipFill>
          <a:blip r:embed="rId6"/>
          <a:stretch/>
        </p:blipFill>
        <p:spPr>
          <a:xfrm>
            <a:off x="9766440" y="2362320"/>
            <a:ext cx="1209600" cy="142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BAA9-E32B-4ECB-BF23-EE3B115A0E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ssessing Lay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472760" y="2768400"/>
            <a:ext cx="10464840" cy="603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07480" indent="-5119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Ease of execution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How easy is it to get control over program execution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Ease of interaction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How easy is it to interact with the program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Ease of result assessment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How can we check results against expectation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Lifetime of test case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How robust is my test when it comes to program change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3F3D-925F-42E6-A145-6548106DD39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esentation Lay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0" y="0"/>
            <a:ext cx="7074000" cy="8514360"/>
            <a:chOff x="0" y="0"/>
            <a:chExt cx="7074000" cy="8514360"/>
          </a:xfrm>
        </p:grpSpPr>
        <p:pic>
          <p:nvPicPr>
            <p:cNvPr id="48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86" name="" descr=""/>
            <p:cNvPicPr/>
            <p:nvPr/>
          </p:nvPicPr>
          <p:blipFill>
            <a:blip r:embed="rId3"/>
            <a:stretch/>
          </p:blipFill>
          <p:spPr>
            <a:xfrm>
              <a:off x="252720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>
              <a:off x="502920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488" name=""/>
            <p:cNvSpPr/>
            <p:nvPr/>
          </p:nvSpPr>
          <p:spPr>
            <a:xfrm>
              <a:off x="5310000" y="7873920"/>
              <a:ext cx="130536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nit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2487600" y="5943600"/>
            <a:ext cx="6440040" cy="1511280"/>
            <a:chOff x="2487600" y="5943600"/>
            <a:chExt cx="6440040" cy="1511280"/>
          </a:xfrm>
        </p:grpSpPr>
        <p:sp>
          <p:nvSpPr>
            <p:cNvPr id="490" name=""/>
            <p:cNvSpPr/>
            <p:nvPr/>
          </p:nvSpPr>
          <p:spPr>
            <a:xfrm>
              <a:off x="2487600" y="5943600"/>
              <a:ext cx="644004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5428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8256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58456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11760" y="5969160"/>
              <a:ext cx="3211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Functionalit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489040" y="4394160"/>
            <a:ext cx="5613480" cy="1612800"/>
            <a:chOff x="2489040" y="4394160"/>
            <a:chExt cx="5613480" cy="1612800"/>
          </a:xfrm>
        </p:grpSpPr>
        <p:sp>
          <p:nvSpPr>
            <p:cNvPr id="496" name=""/>
            <p:cNvSpPr/>
            <p:nvPr/>
          </p:nvSpPr>
          <p:spPr>
            <a:xfrm>
              <a:off x="2489040" y="4394160"/>
              <a:ext cx="561348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638680" y="5232240"/>
              <a:ext cx="0" cy="774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017600" y="4419720"/>
              <a:ext cx="32025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esent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99" name=""/>
          <p:cNvSpPr/>
          <p:nvPr/>
        </p:nvSpPr>
        <p:spPr>
          <a:xfrm flipH="1">
            <a:off x="7810200" y="3822840"/>
            <a:ext cx="1832040" cy="5587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9766440" y="2362320"/>
            <a:ext cx="1209600" cy="142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17EBC-FCC7-4985-BC40-2B7B9B18D59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esentation Lay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Low-leve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expressing interaction by means of mouse and keyboard even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so applicable at the </a:t>
            </a: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system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High-leve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expressing interaction using graphical control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BB17-E96E-4E2A-962C-C4405CA6C9F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w Level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4" name=""/>
          <p:cNvSpPr/>
          <p:nvPr/>
        </p:nvSpPr>
        <p:spPr>
          <a:xfrm>
            <a:off x="1574640" y="2197080"/>
            <a:ext cx="984276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# 1. Launch mozilla and wait for 2 secon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xec mozilla &amp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200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574640" y="3797280"/>
            <a:ext cx="984276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# 2. Open URL dialog (Shift+Control+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dn Control_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dn Shift_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 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up Shift_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up Control_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50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1574640" y="7035840"/>
            <a:ext cx="984276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# 3. Load bugzilla.mozilla.org and wait for 5 secon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@400,10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type {http://bugzilla.mozilla.org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key Retur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6796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nd_xevents wait 500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0B49D-6C17-4EEA-BD70-26A4FFEA71E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17440" y="253800"/>
            <a:ext cx="10769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w Level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cripts can easily b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cord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cripts ar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write-on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= impossible to maintai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cripts ar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ragi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= must be remade after trivial change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ACE96-CBFE-460C-974C-FEDC09896D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9760" y="253800"/>
            <a:ext cx="12331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ystem Level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0" name=""/>
          <p:cNvSpPr/>
          <p:nvPr/>
        </p:nvSpPr>
        <p:spPr>
          <a:xfrm>
            <a:off x="2044800" y="3924360"/>
            <a:ext cx="8902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8928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# Power on the machine and wait for 5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8928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ower &lt;= true; wait for 500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8928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2044800" y="5130720"/>
            <a:ext cx="8902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8928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# Click mouse button 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8928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_b1 &lt;= true; wait for 300; m_b1 &lt;= false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8928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2044800" y="6324480"/>
            <a:ext cx="89154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89409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# Click the CDROM change butt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89409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dctrl'shortcut_out_add("/cdrom%change/...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E10D-C842-4139-BA02-816236E7002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160" y="253800"/>
            <a:ext cx="119379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ystem Level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plete control over machin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Good for testing and debugging system propert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fficult to use for application program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B218C-21E7-4C6F-B772-04AF0C5E7A8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1320" y="253800"/>
            <a:ext cx="11861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igher Level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6" name=""/>
          <p:cNvSpPr/>
          <p:nvPr/>
        </p:nvSpPr>
        <p:spPr>
          <a:xfrm>
            <a:off x="660240" y="2133720"/>
            <a:ext cx="11671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-- 1. Activate mozill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ell application "mozilla" to activa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660240" y="3327480"/>
            <a:ext cx="1167156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-- 2. Open URL dialog via menu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ell application "System Events" to ¬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ell process "mozilla" to ¬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ell menu bar 1 to ¬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ell menu bar item "File" to ¬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ick menu item "Open Web Location"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660240" y="6159600"/>
            <a:ext cx="1167156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-- 3. Load bugzilla.mozilla.org and wait for 5 secon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ell window "Open Web Location"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ell sheet 1 to ¬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t value of text field 1 to "http://bugzilla.mozilla.org/"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lick button 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nd tel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967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elay 5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BCD3-CAEB-4956-B0D5-108F53687C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1320" y="253800"/>
            <a:ext cx="118616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igher Level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cripts reference GUI elements by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nam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number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(rather than coordinate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uch more robust against size and position chang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t still fragile against layout changes and renaming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37B23-E30A-46A3-8209-0190CC4CF02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80800" y="253800"/>
            <a:ext cx="106426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wo Views of Test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sting means to execute a program with the intent to make it fail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sting for validatio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nding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unknow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ailures (classical view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esting for debugging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nding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pecific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failure (our focu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D1D33-16CE-4359-891A-428897AA819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aling with Outpu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89840" indent="-5011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e must be able to detec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out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ynchronization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“is the dialog there?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ssessment of resul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06000" indent="-5011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(“was the test successful?”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789840" indent="-5011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ssue at entire presentation layer (low level, system level, and high level interfac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FDE3-FA10-4DEF-B4E6-DF98729DDB9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esentation Lay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omation i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lways feasi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cripts are more or less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ragi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ealing with output is greatest weaknes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5B00-1EF9-45AA-AB33-FC7971097DE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unctionality Lay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0" y="0"/>
            <a:ext cx="7074000" cy="8514360"/>
            <a:chOff x="0" y="0"/>
            <a:chExt cx="7074000" cy="8514360"/>
          </a:xfrm>
        </p:grpSpPr>
        <p:pic>
          <p:nvPicPr>
            <p:cNvPr id="52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528" name="" descr=""/>
            <p:cNvPicPr/>
            <p:nvPr/>
          </p:nvPicPr>
          <p:blipFill>
            <a:blip r:embed="rId3"/>
            <a:stretch/>
          </p:blipFill>
          <p:spPr>
            <a:xfrm>
              <a:off x="252720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529" name="" descr=""/>
            <p:cNvPicPr/>
            <p:nvPr/>
          </p:nvPicPr>
          <p:blipFill>
            <a:blip r:embed="rId4"/>
            <a:stretch/>
          </p:blipFill>
          <p:spPr>
            <a:xfrm>
              <a:off x="502920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30" name=""/>
            <p:cNvSpPr/>
            <p:nvPr/>
          </p:nvSpPr>
          <p:spPr>
            <a:xfrm>
              <a:off x="5310000" y="7873920"/>
              <a:ext cx="130536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nit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487600" y="5943600"/>
            <a:ext cx="6440040" cy="1511280"/>
            <a:chOff x="2487600" y="5943600"/>
            <a:chExt cx="6440040" cy="1511280"/>
          </a:xfrm>
        </p:grpSpPr>
        <p:sp>
          <p:nvSpPr>
            <p:cNvPr id="532" name=""/>
            <p:cNvSpPr/>
            <p:nvPr/>
          </p:nvSpPr>
          <p:spPr>
            <a:xfrm>
              <a:off x="2487600" y="5943600"/>
              <a:ext cx="644004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5428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8256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58456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11760" y="5969160"/>
              <a:ext cx="3211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Functionalit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2489040" y="4394160"/>
            <a:ext cx="5613480" cy="1612800"/>
            <a:chOff x="2489040" y="4394160"/>
            <a:chExt cx="5613480" cy="1612800"/>
          </a:xfrm>
        </p:grpSpPr>
        <p:sp>
          <p:nvSpPr>
            <p:cNvPr id="538" name=""/>
            <p:cNvSpPr/>
            <p:nvPr/>
          </p:nvSpPr>
          <p:spPr>
            <a:xfrm>
              <a:off x="2489040" y="4394160"/>
              <a:ext cx="561348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638680" y="5232240"/>
              <a:ext cx="0" cy="774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17600" y="4419720"/>
              <a:ext cx="32025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esent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H="1">
            <a:off x="7810200" y="3822840"/>
            <a:ext cx="1832040" cy="55872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5"/>
          <a:stretch/>
        </p:blipFill>
        <p:spPr>
          <a:xfrm>
            <a:off x="9766440" y="2362320"/>
            <a:ext cx="1209600" cy="1427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 flipH="1">
            <a:off x="8597880" y="3873600"/>
            <a:ext cx="1184400" cy="213660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81330-D7BA-4DAA-8E40-E85FC066685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9760" y="253800"/>
            <a:ext cx="12331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sign for Automa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45" name=""/>
          <p:cNvSpPr/>
          <p:nvPr/>
        </p:nvSpPr>
        <p:spPr>
          <a:xfrm>
            <a:off x="1562040" y="5029200"/>
            <a:ext cx="95252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55044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ell application "Safari"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55044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ctiva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55044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not (exists document 1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55044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make new document at the beginning of docu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55044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nd i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55044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t the URL of the front document ¬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55044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o "http://bugzilla.mozilla.org/"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55044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delay 5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55044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end tel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794640" y="3924360"/>
            <a:ext cx="4847040" cy="2135160"/>
            <a:chOff x="6794640" y="3924360"/>
            <a:chExt cx="4847040" cy="2135160"/>
          </a:xfrm>
        </p:grpSpPr>
        <p:sp>
          <p:nvSpPr>
            <p:cNvPr id="547" name=""/>
            <p:cNvSpPr/>
            <p:nvPr/>
          </p:nvSpPr>
          <p:spPr>
            <a:xfrm>
              <a:off x="8231760" y="3924360"/>
              <a:ext cx="340992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heck state 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of applic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794640" y="5207040"/>
              <a:ext cx="2111040" cy="852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50300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ch application comes with an API for a scripting langua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4C95-9272-4EF5-A3AB-3A216400FB6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9760" y="253800"/>
            <a:ext cx="123318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indows Script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51" name=""/>
          <p:cNvSpPr/>
          <p:nvPr/>
        </p:nvSpPr>
        <p:spPr>
          <a:xfrm>
            <a:off x="1587600" y="4813200"/>
            <a:ext cx="9816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424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' Load docu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424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et IE = CreateObject("InternetExplorer.Application"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424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E.navigate "http://bugzilla.mozilla.org/"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424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E.visible=1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424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424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' Wait until the page is load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424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hile IE.Bus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424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Script.Sleep 100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98424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Wen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163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st operating systems provide their own scripting languag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5CB6-91D5-4D15-918E-9FC9B37853F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Emacs Script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64268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ome applications are built around a script interpreter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5" name=""/>
          <p:cNvSpPr/>
          <p:nvPr/>
        </p:nvSpPr>
        <p:spPr>
          <a:xfrm>
            <a:off x="1574640" y="4343400"/>
            <a:ext cx="10350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defun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ispell-toggle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(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"Toggle ispell dictionary between english and germa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eractiv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cond ((equal ispell-local-dictionary nil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spell-change-dictionary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"american"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(equal ispell-local-dictionary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"deutsch8"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spell-change-dictionary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"american"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spell-change-dictionary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"deutsch8"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)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spell-init-process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message (concat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"Using "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ispell-local-dictiona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3759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6666ff"/>
                </a:solidFill>
                <a:latin typeface="Monaco"/>
                <a:ea typeface="Monaco"/>
              </a:rPr>
              <a:t>"ispell dictionary"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)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95AF-FA8D-46A6-8454-7D6A795293A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cripting Languag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807480" indent="-5119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S-specific languages (MacOS, Windows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Perl, Python, Tc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Lisp, Scheme, Gui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mand-line languages (Unix shell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ponent languages (.NET, Corba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07480" indent="-5119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…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or roll your own (but beware!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173C-1E26-4150-8A76-D3E19E6DFF3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unctionality Lay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sults can be easily assess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cripts are robust against changes (as long as automation interface remains stable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quires clear separation between presentation and functional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12E2-7EE7-4902-9E24-93A51B9F347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nit Lay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0" y="0"/>
            <a:ext cx="7074000" cy="8514360"/>
            <a:chOff x="0" y="0"/>
            <a:chExt cx="7074000" cy="8514360"/>
          </a:xfrm>
        </p:grpSpPr>
        <p:pic>
          <p:nvPicPr>
            <p:cNvPr id="56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563" name="" descr=""/>
            <p:cNvPicPr/>
            <p:nvPr/>
          </p:nvPicPr>
          <p:blipFill>
            <a:blip r:embed="rId3"/>
            <a:stretch/>
          </p:blipFill>
          <p:spPr>
            <a:xfrm>
              <a:off x="252720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564" name="" descr=""/>
            <p:cNvPicPr/>
            <p:nvPr/>
          </p:nvPicPr>
          <p:blipFill>
            <a:blip r:embed="rId4"/>
            <a:stretch/>
          </p:blipFill>
          <p:spPr>
            <a:xfrm>
              <a:off x="5029200" y="0"/>
              <a:ext cx="2044800" cy="1533600"/>
            </a:xfrm>
            <a:prstGeom prst="rect">
              <a:avLst/>
            </a:prstGeom>
            <a:ln w="76320">
              <a:solidFill>
                <a:srgbClr val="ffffff"/>
              </a:solidFill>
              <a:miter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</p:pic>
        <p:sp>
          <p:nvSpPr>
            <p:cNvPr id="565" name=""/>
            <p:cNvSpPr/>
            <p:nvPr/>
          </p:nvSpPr>
          <p:spPr>
            <a:xfrm>
              <a:off x="5310000" y="7873920"/>
              <a:ext cx="130536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Units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487600" y="5943600"/>
            <a:ext cx="6440040" cy="1511280"/>
            <a:chOff x="2487600" y="5943600"/>
            <a:chExt cx="6440040" cy="1511280"/>
          </a:xfrm>
        </p:grpSpPr>
        <p:sp>
          <p:nvSpPr>
            <p:cNvPr id="567" name=""/>
            <p:cNvSpPr/>
            <p:nvPr/>
          </p:nvSpPr>
          <p:spPr>
            <a:xfrm>
              <a:off x="2487600" y="5943600"/>
              <a:ext cx="644004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55428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8256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584560" y="6743880"/>
              <a:ext cx="0" cy="711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11760" y="5969160"/>
              <a:ext cx="32119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Functionalit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489040" y="4394160"/>
            <a:ext cx="5613480" cy="1612800"/>
            <a:chOff x="2489040" y="4394160"/>
            <a:chExt cx="5613480" cy="1612800"/>
          </a:xfrm>
        </p:grpSpPr>
        <p:sp>
          <p:nvSpPr>
            <p:cNvPr id="573" name=""/>
            <p:cNvSpPr/>
            <p:nvPr/>
          </p:nvSpPr>
          <p:spPr>
            <a:xfrm>
              <a:off x="2489040" y="4394160"/>
              <a:ext cx="5613480" cy="80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638680" y="5232240"/>
              <a:ext cx="0" cy="774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17600" y="4419720"/>
              <a:ext cx="32025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esentation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76" name=""/>
          <p:cNvSpPr/>
          <p:nvPr/>
        </p:nvSpPr>
        <p:spPr>
          <a:xfrm flipH="1">
            <a:off x="7810200" y="3822840"/>
            <a:ext cx="1832040" cy="558720"/>
          </a:xfrm>
          <a:prstGeom prst="line">
            <a:avLst/>
          </a:prstGeom>
          <a:ln w="50760">
            <a:solidFill>
              <a:srgbClr val="ffffff">
                <a:alpha val="20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5"/>
          <a:stretch/>
        </p:blipFill>
        <p:spPr>
          <a:xfrm>
            <a:off x="9766440" y="2362320"/>
            <a:ext cx="1209600" cy="142704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 flipH="1">
            <a:off x="8597880" y="3873600"/>
            <a:ext cx="1184400" cy="2136600"/>
          </a:xfrm>
          <a:prstGeom prst="line">
            <a:avLst/>
          </a:prstGeom>
          <a:ln w="50760">
            <a:solidFill>
              <a:srgbClr val="ffffff">
                <a:alpha val="19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9372600" y="3936960"/>
            <a:ext cx="503280" cy="3584520"/>
          </a:xfrm>
          <a:prstGeom prst="line">
            <a:avLst/>
          </a:prstGeom>
          <a:ln w="5076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4CCD-868F-4CBB-8DF7-AAA07B835D2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Unit Tes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42040" indent="-5342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Directly access units (= classes, modules, components…) at their programming interfac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ncapsulate a set of tests as a single syntactical un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vailable for all programming languages (JUNIT for Java, CPPUNIT for C++, etc.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82EA-C9CA-4380-A707-BDFD431EC8B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53800"/>
            <a:ext cx="11175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sts in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rite a test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produc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probl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Write a test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implif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probl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n a test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observ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n a test to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validate a fix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e-run tests to protect agains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gress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D46D-889F-45C7-9173-B328B3E8139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unning a Tes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test case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860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05408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ets up an environment for the te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860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05408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est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uni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860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05408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tears dow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he environment again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0DDC-13FC-41F0-8826-A1FEC7F60A8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esting a URL Clas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85" name=""/>
          <p:cNvSpPr/>
          <p:nvPr/>
        </p:nvSpPr>
        <p:spPr>
          <a:xfrm>
            <a:off x="12600" y="3467160"/>
            <a:ext cx="1297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http://www.askigor.org/status.php?id=sampl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581400" y="4419720"/>
            <a:ext cx="2099160" cy="1720080"/>
            <a:chOff x="581400" y="4419720"/>
            <a:chExt cx="2099160" cy="1720080"/>
          </a:xfrm>
        </p:grpSpPr>
        <p:sp>
          <p:nvSpPr>
            <p:cNvPr id="587" name=""/>
            <p:cNvSpPr/>
            <p:nvPr/>
          </p:nvSpPr>
          <p:spPr>
            <a:xfrm>
              <a:off x="633240" y="4419720"/>
              <a:ext cx="1131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1400" y="5499360"/>
              <a:ext cx="20991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rotoco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179720" y="4432320"/>
              <a:ext cx="295200" cy="110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590920" y="4419720"/>
            <a:ext cx="4138560" cy="1720080"/>
            <a:chOff x="2590920" y="4419720"/>
            <a:chExt cx="4138560" cy="1720080"/>
          </a:xfrm>
        </p:grpSpPr>
        <p:sp>
          <p:nvSpPr>
            <p:cNvPr id="591" name=""/>
            <p:cNvSpPr/>
            <p:nvPr/>
          </p:nvSpPr>
          <p:spPr>
            <a:xfrm>
              <a:off x="2590920" y="4419720"/>
              <a:ext cx="413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673880" y="4419720"/>
              <a:ext cx="37800" cy="11160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127400" y="5499360"/>
              <a:ext cx="116676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Hos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934320" y="4419720"/>
            <a:ext cx="2678040" cy="1707120"/>
            <a:chOff x="6934320" y="4419720"/>
            <a:chExt cx="2678040" cy="1707120"/>
          </a:xfrm>
        </p:grpSpPr>
        <p:sp>
          <p:nvSpPr>
            <p:cNvPr id="595" name=""/>
            <p:cNvSpPr/>
            <p:nvPr/>
          </p:nvSpPr>
          <p:spPr>
            <a:xfrm>
              <a:off x="6934320" y="4419720"/>
              <a:ext cx="26780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267400" y="4457880"/>
              <a:ext cx="95400" cy="1103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688880" y="5486400"/>
              <a:ext cx="114372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Path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9956880" y="4419720"/>
            <a:ext cx="2297160" cy="1694520"/>
            <a:chOff x="9956880" y="4419720"/>
            <a:chExt cx="2297160" cy="1694520"/>
          </a:xfrm>
        </p:grpSpPr>
        <p:sp>
          <p:nvSpPr>
            <p:cNvPr id="599" name=""/>
            <p:cNvSpPr/>
            <p:nvPr/>
          </p:nvSpPr>
          <p:spPr>
            <a:xfrm>
              <a:off x="9956880" y="4419720"/>
              <a:ext cx="2297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10947600" y="4457880"/>
              <a:ext cx="131760" cy="1079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0138680" y="5473800"/>
              <a:ext cx="154008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Query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05371-AEAE-4B50-A4D5-490765D9E76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1066680" y="723960"/>
            <a:ext cx="10858680" cy="77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mport junit.framework.Tes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mport junit.framework.TestCase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mport junit.framework.TestSuite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 class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URLTes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extends TestCase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vate URL askigor_url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Create new te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URLTes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name) { super(name); 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Assign a name to this test c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 String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toString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 { return getName(); 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Setup environ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otected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etUp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skigor_url = new URL("http://www.askigor.org/" +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"status.php?id=sample"); 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Release environ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otected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tearDow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 { askigor_url = null;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094-AE68-4DFB-A704-4B20B9925A4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066680" y="723960"/>
            <a:ext cx="11341080" cy="86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Test for protocol (http, ftp, etc.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testProtocol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ssertEquals(askigor_url.getProtocol(), "http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Test for ho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testHost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noPort = -1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ssertEquals(askigor_url.getHost(), "www.askigor.org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ssertEquals(askigor_url.getPort(), noPort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Test for pat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testPath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ssertEquals(askigor_url.getPath(), "/status.php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Test for query par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testQuery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ssertEquals(askigor_url.getQuery(), "id=sample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8763120" y="2374920"/>
          <a:ext cx="2260440" cy="1181160"/>
        </p:xfrm>
        <a:graphic>
          <a:graphicData uri="http://schemas.openxmlformats.org/drawingml/2006/table">
            <a:tbl>
              <a:tblPr/>
              <a:tblGrid>
                <a:gridCol w="2260440"/>
              </a:tblGrid>
              <a:tr h="15397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260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he test ca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260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an be u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226044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as a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pecification!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EE61-D2D1-4F1F-BC06-E2A49D47FDC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825480" y="1739880"/>
            <a:ext cx="113410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Set up a suite of tes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 static Tes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suite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TestSuite suite = new TestSuite(URLTest.class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suite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Main method: Invokes GUI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ublic static 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args[]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tring[] testCaseName =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 URLTest.class.getName() }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junit.textui.TestRunner.main(testCaseNam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junit.swingui.TestRunner.main(testCaseNam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junit.awtui.TestRunner.main(testCaseNam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3666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80AA-A43C-46CD-BDB7-2C170BDDFA3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JUni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622440" y="2235240"/>
            <a:ext cx="6629400" cy="608328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3"/>
          <a:stretch/>
        </p:blipFill>
        <p:spPr>
          <a:xfrm>
            <a:off x="5270400" y="2997360"/>
            <a:ext cx="6629400" cy="608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74D58-98F7-49E9-A93D-E0205D19397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yUni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0" name=""/>
          <p:cNvSpPr/>
          <p:nvPr/>
        </p:nvSpPr>
        <p:spPr>
          <a:xfrm>
            <a:off x="965160" y="5524560"/>
            <a:ext cx="11074320" cy="33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mport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 unitte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class DefaultWidgetSizeTestCase(unittest.TestCase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runTest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self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widget = Widget("The widget"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widget.size() == (50,50), \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'incorrect default size'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2768760"/>
            <a:ext cx="1046484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nit testing framework for Pyth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mple variant: just overload runTest(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A95C2-3CCD-48CA-9D68-509AC8AEF2F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yUnit Fixtur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3" name=""/>
          <p:cNvSpPr/>
          <p:nvPr/>
        </p:nvSpPr>
        <p:spPr>
          <a:xfrm>
            <a:off x="977760" y="2946240"/>
            <a:ext cx="1107468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class WidgetTestCase(unittest.TestCase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setUp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self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elf.widget = Widget("The widget"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tearDown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self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elf.widget.dispose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elf.widget = No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testDefaultSize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self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self.widget.size() == (50,50), \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'incorrect default size'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def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testResize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self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self.widget.resize(100,150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assert self.widget.size() == (100,150), \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'wrong size after resize'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89491-BDD5-4EBF-B497-85D40D11CB2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unning PyUnit tes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5" name=""/>
          <p:cNvSpPr/>
          <p:nvPr/>
        </p:nvSpPr>
        <p:spPr>
          <a:xfrm>
            <a:off x="965160" y="3594240"/>
            <a:ext cx="1107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__name__ == “__main__”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Monaco"/>
                <a:ea typeface="Monaco"/>
              </a:rPr>
              <a:t>unittest.main(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965160" y="5511960"/>
            <a:ext cx="11074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$ python unittest.py widgettests.WidgetTestSui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1294200" y="7937640"/>
            <a:ext cx="104036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9999"/>
                </a:solidFill>
                <a:uFillTx/>
                <a:latin typeface="Gill Sans"/>
                <a:ea typeface="Gill Sans"/>
              </a:rPr>
              <a:t>http://pyunit.sourceforge.net/pyunit.htm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4EAE-F922-4655-BC11-63F1E26AA93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solating Uni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19" name=""/>
          <p:cNvSpPr/>
          <p:nvPr/>
        </p:nvSpPr>
        <p:spPr>
          <a:xfrm>
            <a:off x="1066680" y="4419720"/>
            <a:ext cx="10858680" cy="41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print_to_file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filename)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path_exists(filename)) 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FILENAME exists; ask user to confirm overwri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bool confirmed = confirm_loss(filenam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!confirme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Proceed printing to FILENAME.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358640" y="2616120"/>
            <a:ext cx="10274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ow do we deal with classes that depend on other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FAAB9-A06C-4CEC-B003-BA3E46A41DD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utomated Tes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ow for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reus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f tes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ow tests that are difficult to carry out manuall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ake tests repeata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crease confidence in softwar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DAB69-B1B7-4860-A1B5-4443D2A054A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ircular Dependenc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2"/>
          <a:stretch/>
        </p:blipFill>
        <p:spPr>
          <a:xfrm>
            <a:off x="1790640" y="3695760"/>
            <a:ext cx="9409320" cy="313524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289600" y="7899480"/>
            <a:ext cx="838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Both units depend on each other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D26C-52DD-4902-AFB1-842F992F675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Broken Dependenc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25" name=""/>
          <p:cNvSpPr/>
          <p:nvPr/>
        </p:nvSpPr>
        <p:spPr>
          <a:xfrm>
            <a:off x="1066680" y="2616120"/>
            <a:ext cx="10858680" cy="65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void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print_to_file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string filename,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</a:t>
            </a:r>
            <a:r>
              <a:rPr b="0" lang="en-US" sz="2400" spc="-1" strike="noStrike">
                <a:solidFill>
                  <a:srgbClr val="ff8000"/>
                </a:solidFill>
                <a:latin typeface="Monaco"/>
                <a:ea typeface="Monaco"/>
              </a:rPr>
              <a:t>Presentation *presentatio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path_exists(filename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FILENAME exists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ask user to confirm overwri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bool confirmed =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8000"/>
                </a:solidFill>
                <a:latin typeface="Monaco"/>
                <a:ea typeface="Monaco"/>
              </a:rPr>
              <a:t>presentation-&gt;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confirm_loss(filename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f (!confirmed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// Proceed printing to FILENA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883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FAF2-0915-4435-AECA-AFDC8BFEE9C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4756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Revised Dependency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2"/>
          <a:stretch/>
        </p:blipFill>
        <p:spPr>
          <a:xfrm>
            <a:off x="685800" y="2933640"/>
            <a:ext cx="11987280" cy="444492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155240" y="8102520"/>
            <a:ext cx="10654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Depend on abstraction rather than detail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65FC-A283-4A79-BF94-537A94D1D7E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02960" y="253800"/>
            <a:ext cx="109983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pendency Invers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buNone/>
              <a:tabLst>
                <a:tab algn="l" pos="0"/>
                <a:tab algn="l" pos="105408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break the dependency from A to B,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860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05408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troduce an abstract superclass B’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860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05408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t up A such that it depends on B’ (rather than B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86000" indent="-6112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AutoNum type="arabicPeriod"/>
              <a:tabLst>
                <a:tab algn="l" pos="1054080"/>
                <a:tab algn="l" pos="2033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Introduce alternate subclasses of B’ that can be used with A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67097-0327-4EFF-AAF2-F5129DAE09DF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09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Design for Debugging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asic idea: decompose the system such that dependencies are minimiz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ch component depends on a minimum of other components for testing (and debugging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3666-835A-4211-AACE-AB7396F5BF3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1760" y="253800"/>
            <a:ext cx="1148076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del-View-Controller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1154160" y="2603520"/>
            <a:ext cx="10694880" cy="604836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7229160" y="3022560"/>
            <a:ext cx="54871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Separate functional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and presenta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DA57-7D53-4E75-B633-D68A5698B15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he MVC Patter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7277040" cy="696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485CC-54BA-4EC4-B93A-BD2FA1A46A5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General Design Rul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High cohesion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Those units that operate on common data should be grouped together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66ff"/>
                </a:solidFill>
                <a:latin typeface="Gill Sans"/>
              </a:rPr>
              <a:t>Low coupling.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 Units that do not share common data should exchange as little information as possible.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1D91-DDE7-42ED-AF4F-490B6761540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revent Problem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1282680" y="2781360"/>
          <a:ext cx="10439280" cy="5689440"/>
        </p:xfrm>
        <a:graphic>
          <a:graphicData uri="http://schemas.openxmlformats.org/drawingml/2006/table">
            <a:tbl>
              <a:tblPr/>
              <a:tblGrid>
                <a:gridCol w="3479760"/>
                <a:gridCol w="3479760"/>
                <a:gridCol w="3479760"/>
              </a:tblGrid>
              <a:tr h="188604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79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Specify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79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est early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79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est firs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188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79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est often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79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Test enough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79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Have reviews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1520"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79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Check the code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79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Verify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marL="63360" algn="ctr">
                        <a:lnSpc>
                          <a:spcPct val="100000"/>
                        </a:lnSpc>
                        <a:tabLst>
                          <a:tab algn="l" pos="0"/>
                          <a:tab algn="l" pos="1130400"/>
                          <a:tab algn="l" pos="34797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ffffff"/>
                          </a:solidFill>
                          <a:latin typeface="Gill Sans"/>
                          <a:ea typeface="ヒラギノ角ゴ ProN W3"/>
                        </a:rPr>
                        <a:t>Assert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8160" marR="381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9CC0-DAD8-48D6-A129-81777A28AEA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811800" indent="-51300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test for debugging, one must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reate a test to reproduce the problem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n the test several times during debugging, an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45960" indent="-51768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un the test before new releases to prevent regress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11800" indent="-51300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utomate as much as possib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9841-25EA-4EFB-A347-E05F907355E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utomated Tes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ow to isolate and simplif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ure-inducing inpu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ure-inducing code chang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ure-inducing thread schedul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ure-inducing program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More on this in the weeks to com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EE3A-BFA8-4FE2-8503-D6035A3DF3F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2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test at the presentation layer, simulate human intera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test at the functionality layer, use an automation interfac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test units, use the unit API to control it and assess its resul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BC411-D594-4F49-ADA8-ADF70D2A91C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 (3)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69720" y="2526840"/>
            <a:ext cx="10464840" cy="6185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isolate a unit, break dependencies using the dependency inversion principl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o design for debugging, reduce the amount of dependenci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variety of techniques is available to prevent errors and problem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586F-E72C-435D-AA6B-B8238F2CCBDF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533-B5B6-420E-BEC7-14A9BD7D4404}" type="slidenum">
              <a:t>52</a:t>
            </a:fld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Mozilla Bug #24735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40" name=""/>
          <p:cNvSpPr/>
          <p:nvPr/>
        </p:nvSpPr>
        <p:spPr>
          <a:xfrm>
            <a:off x="1193760" y="2629080"/>
            <a:ext cx="1061712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Ok the following operations cause mozilla to crash consistently on my machine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Start mozilla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Go to bugzilla.mozilla.or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Select search for bug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Print to file setting the bottom and right margins to .50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(I use the file /var/tmp/netscape.ps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Once it's done printing do the exact same thing again on 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   </a:t>
            </a: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the same file (/var/tmp/netscape.ps)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64268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  <a:ea typeface="Comic Sans MS"/>
              </a:rPr>
              <a:t>-&gt; This causes the browser to crash with a segfault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180960" y="4863960"/>
            <a:ext cx="6640920" cy="1295280"/>
            <a:chOff x="3180960" y="4863960"/>
            <a:chExt cx="6640920" cy="1295280"/>
          </a:xfrm>
        </p:grpSpPr>
        <p:sp>
          <p:nvSpPr>
            <p:cNvPr id="442" name=""/>
            <p:cNvSpPr/>
            <p:nvPr/>
          </p:nvSpPr>
          <p:spPr>
            <a:xfrm>
              <a:off x="3187800" y="4863960"/>
              <a:ext cx="6616440" cy="1295280"/>
            </a:xfrm>
            <a:prstGeom prst="rect">
              <a:avLst/>
            </a:prstGeom>
            <a:blipFill rotWithShape="0">
              <a:blip r:embed="rId2">
                <a:alphaModFix amt="90000"/>
              </a:blip>
              <a:srcRect/>
              <a:tile tx="0" ty="0" sx="100000" sy="100000" algn="ctr"/>
            </a:blipFill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80960" y="5130720"/>
              <a:ext cx="664092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How do we automate this?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E737F-B2A3-4E6B-9A19-8BE61B9549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253800"/>
            <a:ext cx="108586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imulating Interaction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0"/>
            <a:ext cx="7505640" cy="7866720"/>
            <a:chOff x="0" y="0"/>
            <a:chExt cx="7505640" cy="7866720"/>
          </a:xfrm>
        </p:grpSpPr>
        <p:pic>
          <p:nvPicPr>
            <p:cNvPr id="4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7505640" cy="48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314280" y="7226280"/>
              <a:ext cx="310356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Start Mozilla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0" y="0"/>
            <a:ext cx="12358080" cy="5339520"/>
            <a:chOff x="0" y="0"/>
            <a:chExt cx="12358080" cy="5339520"/>
          </a:xfrm>
        </p:grpSpPr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24852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877680" y="4699080"/>
              <a:ext cx="2480400" cy="6404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Enter URL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0" y="0"/>
            <a:ext cx="11633040" cy="9169200"/>
            <a:chOff x="0" y="0"/>
            <a:chExt cx="11633040" cy="9169200"/>
          </a:xfrm>
        </p:grpSpPr>
        <p:pic>
          <p:nvPicPr>
            <p:cNvPr id="452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6400800" cy="519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9702720" y="7823160"/>
              <a:ext cx="1930320" cy="1346040"/>
            </a:xfrm>
            <a:prstGeom prst="rect">
              <a:avLst/>
            </a:prstGeom>
            <a:noFill/>
            <a:ln w="0">
              <a:noFill/>
            </a:ln>
            <a:effectLst>
              <a:outerShdw dist="76367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962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Click on Prin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6CC1-26BA-4FB3-AB26-57C5963AE1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halleng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42040" indent="-5342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Synchroniza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 How do we know a window has popped up such that we can click into i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Abstrac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How do we know it’s the right window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ortabilit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: What happens on a display with different resolution or window placement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5125-E867-46D2-8695-8B0A4B4F457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Interaction Layer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7000"/>
          </a:bodyPr>
          <a:p>
            <a:pPr marL="842040" indent="-5342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resentation lay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handles interaction with the user (generally: the environment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unctionality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layer encapsulates the functionality (independent from a specific presentation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42040" indent="-53424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unit layer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splits functionality across cooperating unit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D7F9-04B9-411D-A263-57F53FED906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