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move the slid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NN (Nearest Neighbor) @Brown by Manos Renieris + Stephen Reiss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CT (Cause Transitions) @Saarland by Holger Cleve + Andreas Zelle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D (Statistical Debugging) @Berkeley by Ben Liblit (now Wisconsin), Mayur Naik (Stanford), Alice Zheng, Alex Aiken (now Stanford), Michael Jordan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Grande"/>
                <a:ea typeface="Lucida Grande"/>
              </a:rPr>
              <a:t>SOBER @Urbana-Champaign + Purdue by Liu, Yan, Fei, Han, Midkiff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74B28-37F0-499E-873B-15BC99F70D3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3A3CDA-3EF2-440D-9564-802F4830516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F994C-D83B-422B-BC66-2E50629B397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D1D241-8C25-4E6F-B424-B4A350E574D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05741-0F4A-4B02-BD18-64F1889EEC4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7B46B-D755-4CF4-B82A-2B0203BE39A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4BE40-97A5-454B-851A-7860FEE83D3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F40DE-841A-49C1-8513-4D099D16F71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542D7-1760-4C94-933D-749FBB2EF41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EA598-86A8-42E2-9713-CA41DA0FBA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B941-10E8-44F4-B3C0-EB441982E5E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CED90-9437-4287-88D3-E003C355FAB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51D8-9EC3-4CEF-B073-FAC7E8B41969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3513E-99B4-4731-8EC8-C619AFA877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3845B-F622-4C51-86FB-17E90EFA6E3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EF6A-C4E3-4D9F-BD8C-76BC4E49AD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B3A0-C89D-414F-94E0-4F4C2D67801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364E0-80C5-4B8B-B78E-FAF906C5512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60487-9504-45CD-AD29-9F099F182A4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E65B3-279A-44F0-A10C-EFCD5919A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3F79-655D-491C-A6D5-80329353CC4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DE65AE-F769-4EBA-98C6-DA166E5A87F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021772-3E92-4A7B-957F-507BB74C1DE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D25A78-3FEE-49CC-8B18-B0B0145312F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702C15-3BB3-41C1-9B84-3339ECB6FC5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7B680-E56A-4777-A12C-28FA38BDCBE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B03F63-B61E-4DAE-9CB1-D1DAA2C5ACC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9C7BEB-6FCB-49A0-8901-A9CACE2A3D0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2ECFF2-0252-4FB8-8FF1-8C453B4CD70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57F6C3-7F1F-409B-B16B-C8C406802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A6A3-829C-4A59-98A3-D84805DE004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EDE0C-AA56-40B8-93CC-EC5766843AC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BA76E-F7B9-46BE-8889-49D004EB1DC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7A255A-5BAA-44B2-8872-54901C24D1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851A5-F9F6-46EA-BDDB-8A599E28C6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A82AD-C129-4AC0-91CE-24E43DC26B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D67B-9D76-4B31-8967-FAA9FC31A3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6B3CA-78CD-471D-B40C-6BAA8A873D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C5675-52DA-418E-85DC-20AD26E1F6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CB3F-907B-428B-A318-561E41F678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AE2B2-E128-49B9-9FEA-D1F4AAB692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C2E65-ED2F-4718-83C9-A297397FC9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A8FB-9AF7-4EC7-AB7E-6F1A410E2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C44F7-50C4-4411-80E2-0C07A6751E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4BDCE-7B75-47D3-BD8A-BF220212F93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7CBDF-AE82-42A5-B200-423C63EBA9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B920E-18ED-4902-9D9E-5A4A6100C4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6E3B-0D66-417B-A534-3EAB75FA93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5E39-5634-4E33-9321-39C3806D5C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D335B-5EDE-4A08-8625-1D70D25AE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60CF2-2325-4656-9AC6-8080E77187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0383-FDE6-4DAB-8723-E087B5A441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CFE55-02AE-4649-BC52-8CEBA59CE8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5AF9A-511F-4745-8F10-E143F2AC2F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C183-2D31-4A1F-9641-A201EF2B9B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94F3-E5DD-42DF-A28B-5344FE4A52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57486-F609-44D0-9D71-9318FFD81AA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E931-1114-4F62-AEE8-6F6597E4B8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145F-12B1-4E35-A2CA-C8E436F316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DEC7-832E-411C-8373-C83A94656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147-5221-4E3D-8674-FEB68C1C45A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9511-FF8A-427E-ABAD-72603A8B0B2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2041-3F3B-4FC9-96AB-91EA064513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6A57-F4D2-4FA1-8B9D-AA95674266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1E24-3F01-40BA-BA5C-5091A26C3BB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802-97CC-4A3C-991F-A7754F622D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1181-8F5F-41E7-BF11-15690FDBF7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7AB5-C2DA-4801-8937-BC489AA331A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340-AEA0-47FE-9C07-0CD585444CE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25DC4-DA02-49AF-A13D-FACC678E2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C6157-B76F-4DAB-B8EE-F627DC2E3B5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42AF92-3FF4-4990-A8EA-15FC2662B0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033CC-37A5-401A-802B-97BAEC695D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C0F23-7B61-4974-9CA7-148ADF06DDF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9FF65-1BF3-4481-BF0E-D4A03580634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90DDE-593F-4B48-AD39-62886A18AE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40E97-18E2-4A52-A049-2B32492D620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6AA58-C53E-4531-9F13-3233B47C03F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D84A6-F082-49A3-AD37-E4F334D82B7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5B26F6-7503-4B4F-8267-79A7267E7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E9EFA-5006-4D36-9F7C-C5FF257D14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A724E-5F7E-4B78-9A55-5148320E2A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100B4E-BB34-4C90-9111-28CA3BCD23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A6AAE-B73A-42BE-A806-0A6E4074FDB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73D5B-3A34-4099-AB73-6A07118E067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4ACE2-C097-4FB6-B2A6-5B2CDEC557C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92C56-BFC2-4097-8D1E-317FB1AE749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92870-0EA6-474D-9623-4B5E1EA0BD0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E4C30-6210-449F-BF1F-67507E97D6E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72FFD-D517-4587-9C62-D974A00D9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DDA70-937C-4167-8E6E-7CAF65160C6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0CCE8-C236-449D-B198-FD55F5E5C7C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3C8780-A673-43CF-9850-25353324185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17D6-5D4C-4D15-B49E-DA2BD169CCE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583A-1FEA-401C-91CA-F8BD6A5E2C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7A35-195A-407A-AEB7-1CADB45C713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57AF7-218E-4EDF-9B26-78D629410AF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0F37-1D66-4CEB-9ED2-03430FD991E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BB0A-638A-43FA-BBB3-79D1762384E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8947-C8A2-481A-8FBC-62B1DF446C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B953-9B93-4DD1-A831-B0CFEAEB084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293D-FB68-44B2-8453-81D969A823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01343-B718-445B-9D5E-6E5C86EE7FF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D62F-C318-4445-85DB-93E7362072F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0E86-7440-4AB9-A217-BD62190B976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D7D43-BEBD-4672-9F20-D671D48F9A1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5C01E-EA13-4D10-8CF6-CA2DF585E8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2A3B07-A881-4A9E-9A97-F29EF98409A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6E703-99BD-4EDC-A35B-0BA89ECEDE2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C6C84F-0785-4C88-B37D-9A73D5E666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3FDA8-33A3-4543-BC04-162650609C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E39F1F-AAB0-4407-8ED6-6640A070E59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69AAEA-2BBE-440C-80B5-B7582CE09B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82BCFA-AADA-40C7-B41E-C365C7A1979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1EFB65-6355-480E-B4C2-CFD546D1393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B1AAF8-CC75-4813-A9F7-86E034AB00F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5FB58-C111-4CBB-B0D1-867A821BD9B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7D47D8-82CC-4346-9034-848452AF212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32EE84-53FA-4920-BCAF-59C64719902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D2163-8E5C-4C5E-8F85-0719760EDC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5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5000"/>
          </a:bodyPr>
          <a:p>
            <a:pPr marL="69480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83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124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388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27680" indent="-468000">
              <a:spcBef>
                <a:spcPts val="50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ldNum" idx="9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32F8-D0D7-4DBC-9742-C22C19C26016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3000"/>
          </a:bodyPr>
          <a:p>
            <a:pPr marL="5410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8748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9916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2388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1857600" indent="-3463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10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4277-9925-4A1D-8B99-0BBB4216D27F}" type="slidenum">
              <a:rPr b="0" lang="en-US" sz="1800" spc="-1" strike="noStrike">
                <a:solidFill>
                  <a:srgbClr val="ffffff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6000"/>
          </a:bodyPr>
          <a:p>
            <a:pPr marL="7030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962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7852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048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53600" indent="-47340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1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86B5-A16F-4F2F-B516-0FD0F9F09738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Num" idx="2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921-4188-4C59-982F-4134C43D51D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3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1397-E409-4172-BD0B-317AB9F69AC8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Num" idx="4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D90D-F240-4CF4-B53C-A67609339637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80748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3264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45920" indent="-51192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5956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484720" indent="-512280"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484720" indent="-51228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ldNum" idx="5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26EC-C712-445A-9432-16E570FABC91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84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Num" idx="6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88E1-9A7D-4171-B27B-1C45AAA7004D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35040" y="1523520"/>
            <a:ext cx="586728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35040" y="490212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1000"/>
          </a:bodyPr>
          <a:p>
            <a:pPr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1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2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3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4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5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  <a:p>
            <a:pPr lvl="6" algn="ctr">
              <a:spcBef>
                <a:spcPts val="201"/>
              </a:spcBef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7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8A34-2A62-45CA-9E9C-D6AFA6E37509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ick to edit the title text forma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60012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97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330560" indent="-38412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69092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61000" indent="-384480"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8"/>
          </p:nvPr>
        </p:nvSpPr>
        <p:spPr>
          <a:xfrm>
            <a:off x="6343560" y="9271080"/>
            <a:ext cx="317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181818"/>
                </a:solidFill>
                <a:latin typeface="Gill Sans"/>
                <a:ea typeface="Gill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F8A-6539-45F7-8519-1CD98DF92A3E}" type="slidenum">
              <a:rPr b="0" lang="en-US" sz="1800" spc="-1" strike="noStrike">
                <a:solidFill>
                  <a:srgbClr val="181818"/>
                </a:solidFill>
                <a:latin typeface="Gill Sans"/>
                <a:ea typeface="Gill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1345680" y="8496360"/>
            <a:ext cx="10464840" cy="113040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"/>
              </a:rPr>
              <a:t>Andreas Zeller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482400" y="1638360"/>
            <a:ext cx="12179160" cy="330192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cating Failure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2"/>
          <a:stretch/>
        </p:blipFill>
        <p:spPr>
          <a:xfrm rot="19800000">
            <a:off x="6543720" y="0"/>
            <a:ext cx="7518240" cy="138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Sane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Infect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ing GCC Stat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3098880" y="8077320"/>
            <a:ext cx="6654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Mix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5130720" y="6426360"/>
            <a:ext cx="2733840" cy="166356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3809880" y="4584600"/>
            <a:ext cx="2291040" cy="206244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6870600" y="4521240"/>
            <a:ext cx="2076480" cy="207648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9405720" y="56134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2c857"/>
                </a:solidFill>
                <a:latin typeface="Zapf Dingbats"/>
                <a:ea typeface="Zapf Dingbats"/>
              </a:rPr>
              <a:t>✔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 rot="16200000">
            <a:off x="7315920" y="4809240"/>
            <a:ext cx="2167200" cy="19432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054960" y="5626080"/>
            <a:ext cx="511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Zapf Dingbats"/>
                <a:ea typeface="Zapf Dingbats"/>
              </a:rPr>
              <a:t>✘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2781360" y="7289640"/>
            <a:ext cx="10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  <a:ea typeface="Gill Sans"/>
              </a:rPr>
              <a:t>Tes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5"/>
          <a:stretch/>
        </p:blipFill>
        <p:spPr>
          <a:xfrm>
            <a:off x="3581280" y="4737240"/>
            <a:ext cx="1959120" cy="218412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8507520" y="7238880"/>
            <a:ext cx="2919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8000"/>
                </a:solidFill>
                <a:latin typeface="Lucida Grande"/>
                <a:ea typeface="Lucida Grande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6"/>
          <a:stretch/>
        </p:blipFill>
        <p:spPr>
          <a:xfrm rot="1559400">
            <a:off x="7197480" y="7162920"/>
            <a:ext cx="1143000" cy="98568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4993920" y="3886200"/>
            <a:ext cx="284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PLUS nod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7759800" y="4229280"/>
            <a:ext cx="104148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860280" y="4216320"/>
            <a:ext cx="1103400" cy="19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861F-E497-48DE-B038-3B5AE5FA4C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601" name=""/>
          <p:cNvGrpSpPr/>
          <p:nvPr/>
        </p:nvGrpSpPr>
        <p:grpSpPr>
          <a:xfrm>
            <a:off x="3860640" y="3886200"/>
            <a:ext cx="4940280" cy="549000"/>
            <a:chOff x="3860640" y="3886200"/>
            <a:chExt cx="4940280" cy="549000"/>
          </a:xfrm>
        </p:grpSpPr>
        <p:sp>
          <p:nvSpPr>
            <p:cNvPr id="602" name=""/>
            <p:cNvSpPr/>
            <p:nvPr/>
          </p:nvSpPr>
          <p:spPr>
            <a:xfrm>
              <a:off x="4993560" y="388620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786440" y="422604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3860640" y="422928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873600" y="8166240"/>
            <a:ext cx="4965120" cy="0"/>
            <a:chOff x="3873600" y="8166240"/>
            <a:chExt cx="4965120" cy="0"/>
          </a:xfrm>
        </p:grpSpPr>
        <p:sp>
          <p:nvSpPr>
            <p:cNvPr id="606" name=""/>
            <p:cNvSpPr/>
            <p:nvPr/>
          </p:nvSpPr>
          <p:spPr>
            <a:xfrm>
              <a:off x="7810200" y="8166240"/>
              <a:ext cx="1028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873600" y="8166240"/>
              <a:ext cx="12571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873600" y="5842080"/>
            <a:ext cx="4940280" cy="549000"/>
            <a:chOff x="3873600" y="5842080"/>
            <a:chExt cx="4940280" cy="549000"/>
          </a:xfrm>
        </p:grpSpPr>
        <p:sp>
          <p:nvSpPr>
            <p:cNvPr id="609" name=""/>
            <p:cNvSpPr/>
            <p:nvPr/>
          </p:nvSpPr>
          <p:spPr>
            <a:xfrm>
              <a:off x="5006520" y="584208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799400" y="618156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873600" y="618480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35C31-B5CA-43EC-A5D5-A6F86D077366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4993920" y="3886200"/>
            <a:ext cx="284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PLUS nod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7786800" y="4226040"/>
            <a:ext cx="101448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 flipH="1">
            <a:off x="3860280" y="4229280"/>
            <a:ext cx="111780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7810560" y="8166240"/>
            <a:ext cx="102852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3873600" y="8166240"/>
            <a:ext cx="125712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5006520" y="5842080"/>
            <a:ext cx="2844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PLUS nod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799400" y="6181560"/>
            <a:ext cx="101448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3873600" y="6184800"/>
            <a:ext cx="1117440" cy="0"/>
          </a:xfrm>
          <a:prstGeom prst="line">
            <a:avLst/>
          </a:prstGeom>
          <a:ln w="25560">
            <a:solidFill>
              <a:srgbClr val="ffffff">
                <a:alpha val="30000"/>
              </a:srgbClr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12600" y="6896160"/>
            <a:ext cx="12979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300464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link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ld[0].rtx</a:t>
            </a:r>
            <a:r>
              <a:rPr b="0" lang="en-US" sz="3600" spc="-1" strike="noStrike">
                <a:solidFill>
                  <a:srgbClr val="ffff00"/>
                </a:solidFill>
                <a:latin typeface="Lucida Grande"/>
                <a:ea typeface="Lucida Grande"/>
              </a:rPr>
              <a:t>→</a:t>
            </a:r>
            <a:r>
              <a:rPr b="0" lang="en-US" sz="3600" spc="-1" strike="noStrike">
                <a:solidFill>
                  <a:srgbClr val="ffff00"/>
                </a:solidFill>
                <a:latin typeface="Monaco"/>
                <a:ea typeface="Monaco"/>
              </a:rPr>
              <a:t>fld[0].rtx == link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E3D2D-A082-41E2-BD3B-B93A01B5BFC8}" type="slidenum">
              <a:t>12</a:t>
            </a:fld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40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44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645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646" name=""/>
          <p:cNvGrpSpPr/>
          <p:nvPr/>
        </p:nvGrpSpPr>
        <p:grpSpPr>
          <a:xfrm>
            <a:off x="3860640" y="3886200"/>
            <a:ext cx="4940280" cy="549000"/>
            <a:chOff x="3860640" y="3886200"/>
            <a:chExt cx="4940280" cy="549000"/>
          </a:xfrm>
        </p:grpSpPr>
        <p:sp>
          <p:nvSpPr>
            <p:cNvPr id="647" name=""/>
            <p:cNvSpPr/>
            <p:nvPr/>
          </p:nvSpPr>
          <p:spPr>
            <a:xfrm>
              <a:off x="4993560" y="388620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786440" y="422604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860640" y="422928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5029920" y="7823160"/>
            <a:ext cx="2649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Gill Sans"/>
                <a:ea typeface="Gill Sans"/>
              </a:rPr>
              <a:t>&lt;Tree cycle&gt;</a:t>
            </a:r>
            <a:endParaRPr b="0" lang="en-US" sz="3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10560" y="8166240"/>
            <a:ext cx="10285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3873600" y="8166240"/>
            <a:ext cx="12571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271320" y="6515280"/>
            <a:ext cx="6278040" cy="1333440"/>
            <a:chOff x="3271320" y="6515280"/>
            <a:chExt cx="6278040" cy="1333440"/>
          </a:xfrm>
        </p:grpSpPr>
        <p:sp>
          <p:nvSpPr>
            <p:cNvPr id="654" name=""/>
            <p:cNvSpPr/>
            <p:nvPr/>
          </p:nvSpPr>
          <p:spPr>
            <a:xfrm>
              <a:off x="3271320" y="6909120"/>
              <a:ext cx="627804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ransition from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PLUS</a:t>
              </a: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 to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cycle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438960" y="651528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438960" y="749304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3873600" y="5842080"/>
            <a:ext cx="4940280" cy="549000"/>
            <a:chOff x="3873600" y="5842080"/>
            <a:chExt cx="4940280" cy="549000"/>
          </a:xfrm>
        </p:grpSpPr>
        <p:sp>
          <p:nvSpPr>
            <p:cNvPr id="658" name=""/>
            <p:cNvSpPr/>
            <p:nvPr/>
          </p:nvSpPr>
          <p:spPr>
            <a:xfrm>
              <a:off x="5006520" y="5842080"/>
              <a:ext cx="28443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&lt;PLUS node&gt;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799400" y="6181560"/>
              <a:ext cx="10144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3873600" y="6184800"/>
              <a:ext cx="11174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B1C1-B14F-434F-8724-BC1CDD023AD1}" type="slidenum">
              <a:t>13</a:t>
            </a:fld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2057400" y="2400480"/>
            <a:ext cx="8559720" cy="670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All GCC Trans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3"/>
          <a:stretch/>
        </p:blipFill>
        <p:spPr>
          <a:xfrm>
            <a:off x="2514600" y="2489040"/>
            <a:ext cx="8010360" cy="646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D0FEF-AEF0-468F-A450-1F0017211D9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660240" y="2476440"/>
            <a:ext cx="11658600" cy="61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(GET_CODE (XEXP (x, 0)) == PLUS {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 = apply_distributive_law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(gen_binary (PLUS, mode,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gen_binary (MULT, mode,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EXP (XEXP (x, 0), 0),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EXP (x, 1)),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gen_binary (MULT, mode,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EXP (XEXP (x, 0), 1), 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XEXP (x, 1))))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if (GET_CODE (x) != MULT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return x;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67768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mbine.c:4279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67" name=""/>
          <p:cNvSpPr/>
          <p:nvPr/>
        </p:nvSpPr>
        <p:spPr>
          <a:xfrm>
            <a:off x="8087760" y="7365960"/>
            <a:ext cx="44982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Gill Sans"/>
                <a:ea typeface="Gill Sans"/>
              </a:rPr>
              <a:t>Should be </a:t>
            </a:r>
            <a:r>
              <a:rPr b="0" lang="en-US" sz="3200" spc="-1" strike="noStrike">
                <a:solidFill>
                  <a:srgbClr val="ff6666"/>
                </a:solidFill>
                <a:latin typeface="Monaco"/>
                <a:ea typeface="Monaco"/>
              </a:rPr>
              <a:t>copy_rtx(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8" name=""/>
          <p:cNvSpPr/>
          <p:nvPr/>
        </p:nvSpPr>
        <p:spPr>
          <a:xfrm>
            <a:off x="6515280" y="5967360"/>
            <a:ext cx="4679640" cy="1271520"/>
          </a:xfrm>
          <a:prstGeom prst="pie">
            <a:avLst/>
          </a:prstGeom>
          <a:noFill/>
          <a:ln w="6336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476F3-6CE5-483C-BD2F-E2BD7ECD419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How good are we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2895480"/>
            <a:ext cx="10464840" cy="5461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0000"/>
          </a:bodyPr>
          <a:p>
            <a:pPr marL="285480" indent="0">
              <a:lnSpc>
                <a:spcPct val="100000"/>
              </a:lnSpc>
              <a:buNone/>
              <a:tabLst>
                <a:tab algn="l" pos="0"/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aluation using the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Siemens Testsuit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7 programs – most text processor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132 variations, each with 1 seeded 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hallenge: Using test runs, locate defec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ll proposed defect locators fai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192680" indent="-49572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(Comparing coverage, slicing, dynamic invariants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FA7F1-1D69-4898-8B42-5811E38B434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1841400" y="1892160"/>
            <a:ext cx="9309240" cy="7467840"/>
          </a:xfrm>
          <a:prstGeom prst="pie">
            <a:avLst/>
          </a:prstGeom>
          <a:gradFill rotWithShape="0">
            <a:gsLst>
              <a:gs pos="0">
                <a:srgbClr val="423f52"/>
              </a:gs>
              <a:gs pos="100000">
                <a:srgbClr val="0b0b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184800" y="5308560"/>
            <a:ext cx="635040" cy="635040"/>
            <a:chOff x="6184800" y="5308560"/>
            <a:chExt cx="635040" cy="635040"/>
          </a:xfrm>
        </p:grpSpPr>
        <p:sp>
          <p:nvSpPr>
            <p:cNvPr id="673" name=""/>
            <p:cNvSpPr/>
            <p:nvPr/>
          </p:nvSpPr>
          <p:spPr>
            <a:xfrm>
              <a:off x="6184800" y="5308560"/>
              <a:ext cx="635040" cy="635040"/>
            </a:xfrm>
            <a:prstGeom prst="pie">
              <a:avLst/>
            </a:prstGeom>
            <a:solidFill>
              <a:srgbClr val="ffffff"/>
            </a:solidFill>
            <a:ln w="633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184800" y="5626080"/>
              <a:ext cx="609480" cy="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14920" y="5346720"/>
              <a:ext cx="0" cy="571320"/>
            </a:xfrm>
            <a:prstGeom prst="line">
              <a:avLst/>
            </a:prstGeom>
            <a:ln w="2556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4330800" y="4127400"/>
            <a:ext cx="4089240" cy="3213000"/>
            <a:chOff x="4330800" y="4127400"/>
            <a:chExt cx="4089240" cy="3213000"/>
          </a:xfrm>
        </p:grpSpPr>
        <p:sp>
          <p:nvSpPr>
            <p:cNvPr id="677" name=""/>
            <p:cNvSpPr/>
            <p:nvPr/>
          </p:nvSpPr>
          <p:spPr>
            <a:xfrm>
              <a:off x="4572000" y="4140000"/>
              <a:ext cx="3848040" cy="2959200"/>
            </a:xfrm>
            <a:prstGeom prst="pie">
              <a:avLst/>
            </a:prstGeom>
            <a:noFill/>
            <a:ln w="38160">
              <a:solidFill>
                <a:srgbClr val="7e7e7e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311880" y="6705360"/>
              <a:ext cx="63504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30800" y="5765760"/>
              <a:ext cx="63504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42160" y="4127400"/>
              <a:ext cx="63468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11320" y="5638680"/>
              <a:ext cx="1623960" cy="4953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64520" y="5765760"/>
              <a:ext cx="90360" cy="129528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 flipV="1">
              <a:off x="5397120" y="4533840"/>
              <a:ext cx="1019160" cy="98424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lose to the Defect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6654960" y="4127400"/>
            <a:ext cx="1358280" cy="1368360"/>
            <a:chOff x="6654960" y="4127400"/>
            <a:chExt cx="1358280" cy="1368360"/>
          </a:xfrm>
        </p:grpSpPr>
        <p:sp>
          <p:nvSpPr>
            <p:cNvPr id="686" name=""/>
            <p:cNvSpPr/>
            <p:nvPr/>
          </p:nvSpPr>
          <p:spPr>
            <a:xfrm>
              <a:off x="7378560" y="4127400"/>
              <a:ext cx="63468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>
              <a:off x="6654960" y="4483080"/>
              <a:ext cx="979200" cy="101268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393840" y="3048120"/>
            <a:ext cx="238572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Predic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  <a:ea typeface="Gill Sans"/>
              </a:rPr>
              <a:t>loca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89" name=""/>
          <p:cNvSpPr/>
          <p:nvPr/>
        </p:nvSpPr>
        <p:spPr>
          <a:xfrm>
            <a:off x="2590920" y="3924360"/>
            <a:ext cx="3674880" cy="1636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6540480" y="5689440"/>
            <a:ext cx="2057400" cy="711360"/>
            <a:chOff x="6540480" y="5689440"/>
            <a:chExt cx="2057400" cy="711360"/>
          </a:xfrm>
        </p:grpSpPr>
        <p:sp>
          <p:nvSpPr>
            <p:cNvPr id="691" name=""/>
            <p:cNvSpPr/>
            <p:nvPr/>
          </p:nvSpPr>
          <p:spPr>
            <a:xfrm>
              <a:off x="7962840" y="5765760"/>
              <a:ext cx="63504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 flipH="1" flipV="1">
              <a:off x="6540480" y="5689440"/>
              <a:ext cx="1611360" cy="37152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2793960" y="2425680"/>
            <a:ext cx="7327800" cy="6433920"/>
            <a:chOff x="2793960" y="2425680"/>
            <a:chExt cx="7327800" cy="6433920"/>
          </a:xfrm>
        </p:grpSpPr>
        <p:sp>
          <p:nvSpPr>
            <p:cNvPr id="694" name=""/>
            <p:cNvSpPr/>
            <p:nvPr/>
          </p:nvSpPr>
          <p:spPr>
            <a:xfrm>
              <a:off x="2793960" y="5257800"/>
              <a:ext cx="635040" cy="635040"/>
            </a:xfrm>
            <a:prstGeom prst="pie">
              <a:avLst/>
            </a:prstGeom>
            <a:noFill/>
            <a:ln w="5076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695" name=""/>
            <p:cNvGrpSpPr/>
            <p:nvPr/>
          </p:nvGrpSpPr>
          <p:grpSpPr>
            <a:xfrm>
              <a:off x="3124080" y="2425680"/>
              <a:ext cx="6997680" cy="6433920"/>
              <a:chOff x="3124080" y="2425680"/>
              <a:chExt cx="6997680" cy="6433920"/>
            </a:xfrm>
          </p:grpSpPr>
          <p:sp>
            <p:nvSpPr>
              <p:cNvPr id="696" name=""/>
              <p:cNvSpPr/>
              <p:nvPr/>
            </p:nvSpPr>
            <p:spPr>
              <a:xfrm>
                <a:off x="6271920" y="8178840"/>
                <a:ext cx="6368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124080" y="2743200"/>
                <a:ext cx="6667560" cy="5727600"/>
              </a:xfrm>
              <a:prstGeom prst="pie">
                <a:avLst/>
              </a:prstGeom>
              <a:noFill/>
              <a:ln w="38160">
                <a:solidFill>
                  <a:srgbClr val="7e7e7e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9067680" y="669276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34240" y="7797960"/>
                <a:ext cx="635040" cy="63468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584600" y="795024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00400" y="681984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3441600" y="349236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49840" y="2717640"/>
                <a:ext cx="63468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734240" y="271764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9486720" y="5130720"/>
                <a:ext cx="6350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71920" y="2425680"/>
                <a:ext cx="63684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4978080" y="3060720"/>
                <a:ext cx="369720" cy="1487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 flipV="1">
                <a:off x="3860280" y="3848040"/>
                <a:ext cx="1544760" cy="71928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 flipV="1">
                <a:off x="6590880" y="2781360"/>
                <a:ext cx="1035000" cy="172224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7632720" y="3149280"/>
                <a:ext cx="309600" cy="1346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 flipV="1">
                <a:off x="3187080" y="5587560"/>
                <a:ext cx="1443240" cy="55404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 flipV="1">
                <a:off x="6590880" y="7112160"/>
                <a:ext cx="1461960" cy="106200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 flipV="1">
                <a:off x="6514560" y="7098840"/>
                <a:ext cx="127080" cy="1460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 flipV="1">
                <a:off x="8229240" y="6070320"/>
                <a:ext cx="1191960" cy="9651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8039160" y="6146640"/>
                <a:ext cx="180720" cy="2081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flipV="1">
                <a:off x="4596840" y="6171840"/>
                <a:ext cx="338040" cy="2144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3492360" y="6121440"/>
                <a:ext cx="1101600" cy="99216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7594560" y="4215960"/>
                <a:ext cx="1495440" cy="2905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953560" y="3873600"/>
                <a:ext cx="634680" cy="635040"/>
              </a:xfrm>
              <a:prstGeom prst="pie">
                <a:avLst/>
              </a:prstGeom>
              <a:noFill/>
              <a:ln w="507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8228880" y="5486040"/>
                <a:ext cx="1438200" cy="639720"/>
              </a:xfrm>
              <a:prstGeom prst="line">
                <a:avLst/>
              </a:prstGeom>
              <a:ln w="50760">
                <a:solidFill>
                  <a:srgbClr val="ffffff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grpSp>
            <p:nvGrpSpPr>
              <p:cNvPr id="721" name=""/>
              <p:cNvGrpSpPr/>
              <p:nvPr/>
            </p:nvGrpSpPr>
            <p:grpSpPr>
              <a:xfrm>
                <a:off x="6271920" y="8128080"/>
                <a:ext cx="636480" cy="731520"/>
                <a:chOff x="6271920" y="8128080"/>
                <a:chExt cx="636480" cy="7315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271920" y="8178840"/>
                  <a:ext cx="636480" cy="635040"/>
                </a:xfrm>
                <a:prstGeom prst="pie">
                  <a:avLst/>
                </a:prstGeom>
                <a:solidFill>
                  <a:srgbClr val="ffffff"/>
                </a:solidFill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317640" y="8128080"/>
                  <a:ext cx="511200" cy="73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355680"/>
                      <a:tab algn="l" pos="711360"/>
                      <a:tab algn="l" pos="1066680"/>
                      <a:tab algn="l" pos="1422360"/>
                      <a:tab algn="l" pos="1778040"/>
                      <a:tab algn="l" pos="2133720"/>
                      <a:tab algn="l" pos="2489040"/>
                      <a:tab algn="l" pos="2844720"/>
                      <a:tab algn="l" pos="3200400"/>
                      <a:tab algn="l" pos="3556080"/>
                      <a:tab algn="l" pos="3911760"/>
                      <a:tab algn="l" pos="426708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800" spc="-1" strike="noStrike">
                      <a:solidFill>
                        <a:srgbClr val="ff0000"/>
                      </a:solidFill>
                      <a:latin typeface="Zapf Dingbats"/>
                      <a:ea typeface="Zapf Dingbats"/>
                    </a:rPr>
                    <a:t>✘</a:t>
                  </a:r>
                  <a:endParaRPr b="0" lang="en-US" sz="48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5F9A55-215E-4A43-954D-27AC3A99C52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" descr=""/>
          <p:cNvPicPr/>
          <p:nvPr/>
        </p:nvPicPr>
        <p:blipFill>
          <a:blip r:embed="rId2"/>
          <a:stretch/>
        </p:blipFill>
        <p:spPr>
          <a:xfrm>
            <a:off x="495360" y="1987560"/>
            <a:ext cx="12039480" cy="7278840"/>
          </a:xfrm>
          <a:prstGeom prst="rect">
            <a:avLst/>
          </a:prstGeom>
          <a:ln w="0">
            <a:noFill/>
          </a:ln>
        </p:spPr>
      </p:pic>
      <p:sp>
        <p:nvSpPr>
          <p:cNvPr id="725" name=""/>
          <p:cNvSpPr/>
          <p:nvPr/>
        </p:nvSpPr>
        <p:spPr>
          <a:xfrm>
            <a:off x="6162840" y="6095880"/>
            <a:ext cx="644400" cy="12700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257480" y="-63720"/>
            <a:ext cx="104644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Locating Defec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27" name=""/>
          <p:cNvSpPr/>
          <p:nvPr/>
        </p:nvSpPr>
        <p:spPr>
          <a:xfrm rot="16200000">
            <a:off x="-113760" y="4610160"/>
            <a:ext cx="27684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27939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% of failing tes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8" name=""/>
          <p:cNvSpPr/>
          <p:nvPr/>
        </p:nvSpPr>
        <p:spPr>
          <a:xfrm>
            <a:off x="4241880" y="8661240"/>
            <a:ext cx="69850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66680"/>
                <a:tab algn="l" pos="7010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source code to examin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29" name=""/>
          <p:cNvSpPr/>
          <p:nvPr/>
        </p:nvSpPr>
        <p:spPr>
          <a:xfrm rot="16200000">
            <a:off x="8388360" y="4641840"/>
            <a:ext cx="8242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826776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Gill Sans"/>
                <a:ea typeface="Gill Sans"/>
              </a:rPr>
              <a:t>Results obtained from Siemens test suite; can not be generaliz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0" name=""/>
          <p:cNvSpPr/>
          <p:nvPr/>
        </p:nvSpPr>
        <p:spPr>
          <a:xfrm>
            <a:off x="6172200" y="7264440"/>
            <a:ext cx="1892160" cy="838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2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3571560" y="4317840"/>
            <a:ext cx="982440" cy="10828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3487680" y="4231800"/>
            <a:ext cx="914400" cy="1930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3505320" y="4232160"/>
            <a:ext cx="676080" cy="3268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34" name=""/>
          <p:cNvSpPr/>
          <p:nvPr/>
        </p:nvSpPr>
        <p:spPr>
          <a:xfrm>
            <a:off x="2286000" y="3492360"/>
            <a:ext cx="2527200" cy="8384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76367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5,542 ru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045E6-3AD2-4234-98E0-37051248A6F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Open Issu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Hierarchical search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Ranking transition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User-side diagnosi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ombination with statistical causality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8726-0AD6-49FA-B5A0-756DDE68C59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0" y="0"/>
            <a:ext cx="13000320" cy="7329240"/>
            <a:chOff x="0" y="0"/>
            <a:chExt cx="13000320" cy="7329240"/>
          </a:xfrm>
        </p:grpSpPr>
        <p:grpSp>
          <p:nvGrpSpPr>
            <p:cNvPr id="435" name=""/>
            <p:cNvGrpSpPr/>
            <p:nvPr/>
          </p:nvGrpSpPr>
          <p:grpSpPr>
            <a:xfrm>
              <a:off x="0" y="0"/>
              <a:ext cx="13000320" cy="7329240"/>
              <a:chOff x="0" y="0"/>
              <a:chExt cx="13000320" cy="7329240"/>
            </a:xfrm>
          </p:grpSpPr>
          <p:pic>
            <p:nvPicPr>
              <p:cNvPr id="4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0"/>
                <a:ext cx="6502320" cy="39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7" name=""/>
              <p:cNvSpPr/>
              <p:nvPr/>
            </p:nvSpPr>
            <p:spPr>
              <a:xfrm>
                <a:off x="6501960" y="3378240"/>
                <a:ext cx="6498360" cy="395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6438960" y="2387520"/>
              <a:ext cx="647676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50232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52c857"/>
                  </a:solidFill>
                  <a:latin typeface="Gill Sans"/>
                  <a:ea typeface="Gill Sans"/>
                </a:rPr>
                <a:t>Sane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0" y="1003320"/>
            <a:ext cx="6654960" cy="3956040"/>
            <a:chOff x="0" y="1003320"/>
            <a:chExt cx="6654960" cy="3956040"/>
          </a:xfrm>
        </p:grpSpPr>
        <p:pic>
          <p:nvPicPr>
            <p:cNvPr id="440" name="" descr=""/>
            <p:cNvPicPr/>
            <p:nvPr/>
          </p:nvPicPr>
          <p:blipFill>
            <a:blip r:embed="rId2"/>
            <a:stretch/>
          </p:blipFill>
          <p:spPr>
            <a:xfrm>
              <a:off x="152280" y="1003320"/>
              <a:ext cx="650268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0" y="2400480"/>
              <a:ext cx="665496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680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0000"/>
                  </a:solidFill>
                  <a:latin typeface="Gill Sans"/>
                  <a:ea typeface="Gill Sans"/>
                </a:rPr>
                <a:t>Infected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3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Finding Caus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0" y="0"/>
            <a:ext cx="12877920" cy="8906760"/>
            <a:chOff x="0" y="0"/>
            <a:chExt cx="12877920" cy="8906760"/>
          </a:xfrm>
        </p:grpSpPr>
        <p:pic>
          <p:nvPicPr>
            <p:cNvPr id="446" name="" descr=""/>
            <p:cNvPicPr/>
            <p:nvPr/>
          </p:nvPicPr>
          <p:blipFill>
            <a:blip r:embed="rId3"/>
            <a:stretch/>
          </p:blipFill>
          <p:spPr>
            <a:xfrm rot="2639400">
              <a:off x="1219320" y="306360"/>
              <a:ext cx="2430360" cy="449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7" name=""/>
            <p:cNvGrpSpPr/>
            <p:nvPr/>
          </p:nvGrpSpPr>
          <p:grpSpPr>
            <a:xfrm>
              <a:off x="3479760" y="6197400"/>
              <a:ext cx="7976520" cy="2709360"/>
              <a:chOff x="3479760" y="6197400"/>
              <a:chExt cx="7976520" cy="2709360"/>
            </a:xfrm>
          </p:grpSpPr>
          <p:sp>
            <p:nvSpPr>
              <p:cNvPr id="448" name=""/>
              <p:cNvSpPr/>
              <p:nvPr/>
            </p:nvSpPr>
            <p:spPr>
              <a:xfrm>
                <a:off x="3479760" y="6283800"/>
                <a:ext cx="3191400" cy="1405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442040" y="7626240"/>
                <a:ext cx="4402080" cy="128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The difference</a:t>
                </a:r>
                <a:endParaRPr b="0" lang="en-US" sz="4200" spc="-1" strike="noStrike">
                  <a:solidFill>
                    <a:srgbClr val="ffffff"/>
                  </a:solidFill>
                  <a:latin typeface="Gill San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0666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200" spc="-1" strike="noStrike">
                    <a:solidFill>
                      <a:srgbClr val="ffffff"/>
                    </a:solidFill>
                    <a:latin typeface="Gill Sans"/>
                    <a:ea typeface="Gill Sans"/>
                  </a:rPr>
                  <a:t>causes the failure</a:t>
                </a:r>
                <a:endParaRPr b="0" lang="en-US" sz="4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6980760" y="6197400"/>
                <a:ext cx="4475520" cy="1453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 rot="19800000">
              <a:off x="9486720" y="306360"/>
              <a:ext cx="2430360" cy="449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811FE-5DE6-4AC6-858D-1E917EF3E67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oncept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3640" indent="-546120">
              <a:lnSpc>
                <a:spcPct val="100000"/>
              </a:lnSpc>
              <a:buSzPct val="132639"/>
              <a:buBlip>
                <a:blip r:embed="rId2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use transitions pinpoint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ailure causes in the program cod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3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ailure-causing statements are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potential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xes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(and frequently defects, too)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3640" indent="-546120">
              <a:lnSpc>
                <a:spcPct val="100000"/>
              </a:lnSpc>
              <a:spcBef>
                <a:spcPts val="2599"/>
              </a:spcBef>
              <a:buSzPct val="132639"/>
              <a:buBlip>
                <a:blip r:embed="rId4"/>
              </a:buBlip>
              <a:tabLst>
                <a:tab algn="l" pos="1511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ven more demanding, yet effective techniqu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CFA3-DBDC-4866-8787-D64E45E1CD4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1816200" y="7772400"/>
            <a:ext cx="100202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This work is licensed under the Creative Commons Attribution License.  To view a copy of this license, visi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http://creativecommons.org/licenses/by/1.0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0045800"/>
                <a:tab algn="l" pos="10058400"/>
              </a:tabLst>
            </a:pPr>
            <a:r>
              <a:rPr b="0" lang="en-US" sz="1800" spc="-1" strike="noStrike">
                <a:solidFill>
                  <a:srgbClr val="4b4b4b"/>
                </a:solidFill>
                <a:latin typeface="Gill Sans"/>
                <a:ea typeface="Gill Sans"/>
              </a:rPr>
              <a:t>or send a letter to Creative Commons, 559 Abbott Way, Stanford, California 94305, USA.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D766-F2C7-4CD8-A954-C0310DB2E66B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Sane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Infected state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Spac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458" name=""/>
          <p:cNvGrpSpPr/>
          <p:nvPr/>
        </p:nvGrpSpPr>
        <p:grpSpPr>
          <a:xfrm>
            <a:off x="1320840" y="1905120"/>
            <a:ext cx="8432640" cy="6896160"/>
            <a:chOff x="1320840" y="1905120"/>
            <a:chExt cx="8432640" cy="6896160"/>
          </a:xfrm>
        </p:grpSpPr>
        <p:sp>
          <p:nvSpPr>
            <p:cNvPr id="459" name=""/>
            <p:cNvSpPr/>
            <p:nvPr/>
          </p:nvSpPr>
          <p:spPr>
            <a:xfrm>
              <a:off x="3098880" y="8077320"/>
              <a:ext cx="665460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668016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Mixed state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1320840" y="1905120"/>
              <a:ext cx="7624800" cy="6183000"/>
              <a:chOff x="1320840" y="1905120"/>
              <a:chExt cx="7624800" cy="6183000"/>
            </a:xfrm>
          </p:grpSpPr>
          <p:pic>
            <p:nvPicPr>
              <p:cNvPr id="46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20840" y="1905120"/>
                <a:ext cx="2733480" cy="1662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2" name=""/>
              <p:cNvSpPr/>
              <p:nvPr/>
            </p:nvSpPr>
            <p:spPr>
              <a:xfrm>
                <a:off x="3809880" y="4627440"/>
                <a:ext cx="2290320" cy="3460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6869520" y="4521240"/>
                <a:ext cx="2076120" cy="3484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grpSp>
        <p:nvGrpSpPr>
          <p:cNvPr id="464" name=""/>
          <p:cNvGrpSpPr/>
          <p:nvPr/>
        </p:nvGrpSpPr>
        <p:grpSpPr>
          <a:xfrm>
            <a:off x="0" y="-360"/>
            <a:ext cx="9917280" cy="6345360"/>
            <a:chOff x="0" y="-360"/>
            <a:chExt cx="9917280" cy="6345360"/>
          </a:xfrm>
        </p:grpSpPr>
        <p:sp>
          <p:nvSpPr>
            <p:cNvPr id="465" name=""/>
            <p:cNvSpPr/>
            <p:nvPr/>
          </p:nvSpPr>
          <p:spPr>
            <a:xfrm>
              <a:off x="9406080" y="561348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52c857"/>
                  </a:solidFill>
                  <a:latin typeface="Zapf Dingbats"/>
                  <a:ea typeface="Zapf Dingbats"/>
                </a:rPr>
                <a:t>✔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66" name="" descr=""/>
            <p:cNvPicPr/>
            <p:nvPr/>
          </p:nvPicPr>
          <p:blipFill>
            <a:blip r:embed="rId4"/>
            <a:stretch/>
          </p:blipFill>
          <p:spPr>
            <a:xfrm rot="16200000">
              <a:off x="-110880" y="110520"/>
              <a:ext cx="216540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7" name=""/>
          <p:cNvGrpSpPr/>
          <p:nvPr/>
        </p:nvGrpSpPr>
        <p:grpSpPr>
          <a:xfrm>
            <a:off x="800280" y="0"/>
            <a:ext cx="3047760" cy="8013240"/>
            <a:chOff x="800280" y="0"/>
            <a:chExt cx="3047760" cy="8013240"/>
          </a:xfrm>
        </p:grpSpPr>
        <p:sp>
          <p:nvSpPr>
            <p:cNvPr id="468" name=""/>
            <p:cNvSpPr/>
            <p:nvPr/>
          </p:nvSpPr>
          <p:spPr>
            <a:xfrm>
              <a:off x="3054960" y="5625720"/>
              <a:ext cx="511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81360" y="7289640"/>
              <a:ext cx="1066680" cy="72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66680"/>
                  <a:tab algn="l" pos="109224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est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70" name="" descr=""/>
            <p:cNvPicPr/>
            <p:nvPr/>
          </p:nvPicPr>
          <p:blipFill>
            <a:blip r:embed="rId5"/>
            <a:stretch/>
          </p:blipFill>
          <p:spPr>
            <a:xfrm>
              <a:off x="800280" y="0"/>
              <a:ext cx="1958760" cy="2184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"/>
          <p:cNvGrpSpPr/>
          <p:nvPr/>
        </p:nvGrpSpPr>
        <p:grpSpPr>
          <a:xfrm>
            <a:off x="-720" y="-720"/>
            <a:ext cx="8779320" cy="7799760"/>
            <a:chOff x="-720" y="-720"/>
            <a:chExt cx="8779320" cy="7799760"/>
          </a:xfrm>
        </p:grpSpPr>
        <p:sp>
          <p:nvSpPr>
            <p:cNvPr id="472" name=""/>
            <p:cNvSpPr/>
            <p:nvPr/>
          </p:nvSpPr>
          <p:spPr>
            <a:xfrm>
              <a:off x="8486640" y="7067520"/>
              <a:ext cx="29196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8000"/>
                  </a:solidFill>
                  <a:latin typeface="Lucida Grande"/>
                  <a:ea typeface="Lucida Grande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 rot="1560000">
              <a:off x="157320" y="200160"/>
              <a:ext cx="1144440" cy="9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"/>
          <p:cNvGrpSpPr/>
          <p:nvPr/>
        </p:nvGrpSpPr>
        <p:grpSpPr>
          <a:xfrm>
            <a:off x="2095560" y="3911760"/>
            <a:ext cx="8712000" cy="4863600"/>
            <a:chOff x="2095560" y="3911760"/>
            <a:chExt cx="8712000" cy="4863600"/>
          </a:xfrm>
        </p:grpSpPr>
        <p:grpSp>
          <p:nvGrpSpPr>
            <p:cNvPr id="475" name=""/>
            <p:cNvGrpSpPr/>
            <p:nvPr/>
          </p:nvGrpSpPr>
          <p:grpSpPr>
            <a:xfrm>
              <a:off x="2095560" y="3911760"/>
              <a:ext cx="8712000" cy="4863600"/>
              <a:chOff x="2095560" y="3911760"/>
              <a:chExt cx="8712000" cy="486360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3860280" y="3911760"/>
                <a:ext cx="4939920" cy="549000"/>
                <a:chOff x="3860280" y="3911760"/>
                <a:chExt cx="4939920" cy="5490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5652000" y="3911760"/>
                  <a:ext cx="1709280" cy="54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106668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ffff00"/>
                      </a:solidFill>
                      <a:latin typeface="Gill Sans"/>
                      <a:ea typeface="Gill Sans"/>
                    </a:rPr>
                    <a:t>argc = 3</a:t>
                  </a:r>
                  <a:endParaRPr b="0" lang="en-US" sz="36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479720" y="4229280"/>
                  <a:ext cx="13204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H="1">
                  <a:off x="3860280" y="4229280"/>
                  <a:ext cx="1574280" cy="0"/>
                </a:xfrm>
                <a:prstGeom prst="line">
                  <a:avLst/>
                </a:prstGeom>
                <a:ln w="25560">
                  <a:solidFill>
                    <a:srgbClr val="ffffff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095560" y="4483440"/>
                <a:ext cx="8712000" cy="4291920"/>
                <a:chOff x="2095560" y="4483440"/>
                <a:chExt cx="8712000" cy="42919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095560" y="5143320"/>
                  <a:ext cx="8712000" cy="3632040"/>
                </a:xfrm>
                <a:prstGeom prst="rect">
                  <a:avLst/>
                </a:prstGeom>
                <a:solidFill>
                  <a:srgbClr val="00000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822480" y="4597560"/>
                  <a:ext cx="599760" cy="540720"/>
                </a:xfrm>
                <a:prstGeom prst="line">
                  <a:avLst/>
                </a:prstGeom>
                <a:ln w="25560">
                  <a:solidFill>
                    <a:srgbClr val="00000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H="1">
                  <a:off x="8330400" y="4483440"/>
                  <a:ext cx="664920" cy="641160"/>
                </a:xfrm>
                <a:prstGeom prst="line">
                  <a:avLst/>
                </a:prstGeom>
                <a:ln w="25560">
                  <a:solidFill>
                    <a:srgbClr val="000000">
                      <a:alpha val="7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ffffff"/>
                    </a:solidFill>
                    <a:latin typeface="Gill Sans"/>
                  </a:endParaRPr>
                </a:p>
              </p:txBody>
            </p:sp>
          </p:grpSp>
        </p:grpSp>
        <p:sp>
          <p:nvSpPr>
            <p:cNvPr id="484" name=""/>
            <p:cNvSpPr/>
            <p:nvPr/>
          </p:nvSpPr>
          <p:spPr>
            <a:xfrm>
              <a:off x="3517560" y="4876920"/>
              <a:ext cx="151920" cy="3049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245160" y="4876920"/>
              <a:ext cx="152280" cy="304920"/>
            </a:xfrm>
            <a:prstGeom prst="triangle">
              <a:avLst>
                <a:gd name="adj" fmla="val 50000"/>
              </a:avLst>
            </a:prstGeom>
            <a:solidFill>
              <a:srgbClr val="00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EB86C-4CF4-46A5-86A7-EE2756EA67C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438960" y="2387520"/>
            <a:ext cx="64771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5023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2c857"/>
                </a:solidFill>
                <a:latin typeface="Gill Sans"/>
                <a:ea typeface="Gill Sans"/>
              </a:rPr>
              <a:t>Pass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1955880" y="340344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0" y="2400480"/>
            <a:ext cx="6654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66801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ill Sans"/>
                <a:ea typeface="Gill Sans"/>
              </a:rPr>
              <a:t>Failing ru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10248840" y="8077320"/>
            <a:ext cx="432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546120" y="7340760"/>
            <a:ext cx="46980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87320" y="253800"/>
            <a:ext cx="11265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Search in Time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1955880" y="53467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1955880" y="7315200"/>
            <a:ext cx="2733480" cy="16621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1855520" y="2946240"/>
            <a:ext cx="0" cy="6191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11984400" y="850896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8305920" y="339084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8305920" y="5334120"/>
            <a:ext cx="2733480" cy="166212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8305920" y="7302600"/>
            <a:ext cx="2733480" cy="1662120"/>
          </a:xfrm>
          <a:prstGeom prst="rect">
            <a:avLst/>
          </a:prstGeom>
          <a:ln w="0">
            <a:noFill/>
          </a:ln>
        </p:spPr>
      </p:pic>
      <p:grpSp>
        <p:nvGrpSpPr>
          <p:cNvPr id="499" name=""/>
          <p:cNvGrpSpPr/>
          <p:nvPr/>
        </p:nvGrpSpPr>
        <p:grpSpPr>
          <a:xfrm>
            <a:off x="3860640" y="3911760"/>
            <a:ext cx="4940280" cy="549000"/>
            <a:chOff x="3860640" y="3911760"/>
            <a:chExt cx="4940280" cy="549000"/>
          </a:xfrm>
        </p:grpSpPr>
        <p:sp>
          <p:nvSpPr>
            <p:cNvPr id="500" name=""/>
            <p:cNvSpPr/>
            <p:nvPr/>
          </p:nvSpPr>
          <p:spPr>
            <a:xfrm>
              <a:off x="5652360" y="3911760"/>
              <a:ext cx="170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rgc = 3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80080" y="422892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860640" y="4228920"/>
              <a:ext cx="1574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860640" y="5842080"/>
            <a:ext cx="4927680" cy="549000"/>
            <a:chOff x="3860640" y="5842080"/>
            <a:chExt cx="4927680" cy="549000"/>
          </a:xfrm>
        </p:grpSpPr>
        <p:sp>
          <p:nvSpPr>
            <p:cNvPr id="504" name=""/>
            <p:cNvSpPr/>
            <p:nvPr/>
          </p:nvSpPr>
          <p:spPr>
            <a:xfrm>
              <a:off x="5639760" y="5842080"/>
              <a:ext cx="17092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rgc = 3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467480" y="618480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3860640" y="6184800"/>
              <a:ext cx="1574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3860640" y="7810560"/>
            <a:ext cx="4927680" cy="549000"/>
            <a:chOff x="3860640" y="7810560"/>
            <a:chExt cx="4927680" cy="549000"/>
          </a:xfrm>
        </p:grpSpPr>
        <p:sp>
          <p:nvSpPr>
            <p:cNvPr id="508" name=""/>
            <p:cNvSpPr/>
            <p:nvPr/>
          </p:nvSpPr>
          <p:spPr>
            <a:xfrm>
              <a:off x="5693400" y="7810560"/>
              <a:ext cx="158256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[2] = 0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67480" y="8153280"/>
              <a:ext cx="1320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3860640" y="8153280"/>
              <a:ext cx="1574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537000" y="6515280"/>
            <a:ext cx="5895720" cy="1333440"/>
            <a:chOff x="3537000" y="6515280"/>
            <a:chExt cx="5895720" cy="1333440"/>
          </a:xfrm>
        </p:grpSpPr>
        <p:sp>
          <p:nvSpPr>
            <p:cNvPr id="512" name=""/>
            <p:cNvSpPr/>
            <p:nvPr/>
          </p:nvSpPr>
          <p:spPr>
            <a:xfrm>
              <a:off x="3537000" y="6845400"/>
              <a:ext cx="5895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666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Transition from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rgc</a:t>
              </a:r>
              <a:r>
                <a:rPr b="0" lang="en-US" sz="3600" spc="-1" strike="noStrike">
                  <a:solidFill>
                    <a:srgbClr val="ffffff"/>
                  </a:solidFill>
                  <a:latin typeface="Gill Sans"/>
                  <a:ea typeface="Gill Sans"/>
                </a:rPr>
                <a:t> to </a:t>
              </a:r>
              <a:r>
                <a:rPr b="0" lang="en-US" sz="3600" spc="-1" strike="noStrike">
                  <a:solidFill>
                    <a:srgbClr val="ffff00"/>
                  </a:solidFill>
                  <a:latin typeface="Gill Sans"/>
                  <a:ea typeface="Gill Sans"/>
                </a:rPr>
                <a:t>a[2]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438600" y="651528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438600" y="7493040"/>
              <a:ext cx="0" cy="35568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60A4-6745-4627-BDF0-80C361865E1A}" type="slidenum">
              <a:t>4</a:t>
            </a:fld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Transi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cause transition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occurs when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new variable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begins to be a failure cause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00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argc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no longer causes the failure…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3255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but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a[2]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does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31752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1193760"/>
                <a:tab algn="l" pos="1828800"/>
                <a:tab algn="l" pos="1973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n be narrowed down by binary search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CB60-A3C6-47B4-9452-1996C36BF26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647640" y="533520"/>
            <a:ext cx="11684160" cy="90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main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(int argc, char *argv[]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int *a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Inpu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 = (int *)malloc((argc - 1) * sizeof(int)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a[i] = atoi(argv[i + 1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Sor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shell_sort(a, argc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Monaco"/>
                <a:ea typeface="Monaco"/>
              </a:rPr>
              <a:t>// Output arra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Output: 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or (int i = 0; i &lt; argc - 1; i++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%d ", a[i]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printf("\n"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free(a)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return 0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onaco"/>
                <a:ea typeface="Monaco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66680"/>
                <a:tab algn="l" pos="1170288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6300000" y="4330800"/>
            <a:ext cx="4060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6666"/>
                </a:solidFill>
                <a:latin typeface="Gill Sans"/>
                <a:ea typeface="Gill Sans"/>
              </a:rPr>
              <a:t>Should be </a:t>
            </a:r>
            <a:r>
              <a:rPr b="0" lang="en-US" sz="3200" spc="-1" strike="noStrike">
                <a:solidFill>
                  <a:srgbClr val="ff6666"/>
                </a:solidFill>
                <a:latin typeface="Monaco"/>
                <a:ea typeface="Monaco"/>
              </a:rPr>
              <a:t>argc - 1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>
            <a:off x="888840" y="4076640"/>
            <a:ext cx="4680000" cy="1270080"/>
          </a:xfrm>
          <a:prstGeom prst="pie">
            <a:avLst/>
          </a:prstGeom>
          <a:noFill/>
          <a:ln w="6336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EDB43-B156-4270-8D86-E4207A99DA8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Why Transitions?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ch failure cause in the program state is caused by some statemen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ese statements are executed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t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cause transitions 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ause transitions thus are </a:t>
            </a:r>
            <a:r>
              <a:rPr b="0" lang="en-US" sz="4200" spc="-1" strike="noStrike">
                <a:solidFill>
                  <a:srgbClr val="ffff00"/>
                </a:solidFill>
                <a:latin typeface="Gill Sans"/>
              </a:rPr>
              <a:t>statements that cause the failure!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B842-1E67-4A0C-B0EF-152A128771F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Potential Fixe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Each cause transition implies a </a:t>
            </a:r>
            <a:r>
              <a:rPr b="0" i="1" lang="en-US" sz="4200" spc="-1" strike="noStrike">
                <a:solidFill>
                  <a:srgbClr val="ffffff"/>
                </a:solidFill>
                <a:latin typeface="Gill Sans"/>
              </a:rPr>
              <a:t>fix</a:t>
            </a: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 to make the failure no longer occur – just prohibit the transi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marL="868320" indent="-550800">
              <a:lnSpc>
                <a:spcPct val="100000"/>
              </a:lnSpc>
              <a:spcBef>
                <a:spcPts val="25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515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A cause transition is more than a potential fix – it may be “the” defect itself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564D-A340-4CB8-86C6-56A871820B7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9372600" y="3505320"/>
            <a:ext cx="0" cy="4214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8877240" y="5384880"/>
            <a:ext cx="965160" cy="474480"/>
          </a:xfrm>
          <a:prstGeom prst="rect">
            <a:avLst/>
          </a:prstGeom>
          <a:ln w="0">
            <a:noFill/>
          </a:ln>
        </p:spPr>
      </p:pic>
      <p:grpSp>
        <p:nvGrpSpPr>
          <p:cNvPr id="526" name=""/>
          <p:cNvGrpSpPr/>
          <p:nvPr/>
        </p:nvGrpSpPr>
        <p:grpSpPr>
          <a:xfrm>
            <a:off x="0" y="0"/>
            <a:ext cx="9762120" cy="4227120"/>
            <a:chOff x="0" y="0"/>
            <a:chExt cx="9762120" cy="4227120"/>
          </a:xfrm>
        </p:grpSpPr>
        <p:pic>
          <p:nvPicPr>
            <p:cNvPr id="52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>
              <a:off x="9505440" y="3861000"/>
              <a:ext cx="256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24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8902800" y="7035840"/>
            <a:ext cx="938160" cy="46368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269720" y="2641680"/>
            <a:ext cx="5397480" cy="608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1000"/>
          </a:bodyPr>
          <a:p>
            <a:pPr marL="720720" indent="-431640">
              <a:lnSpc>
                <a:spcPct val="100000"/>
              </a:lnSpc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</a:t>
            </a:r>
            <a:r>
              <a:rPr b="0" lang="en-US" sz="3200" spc="-1" strike="noStrike">
                <a:solidFill>
                  <a:srgbClr val="ffff00"/>
                </a:solidFill>
                <a:latin typeface="Gill Sans"/>
              </a:rPr>
              <a:t>caus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need not be an </a:t>
            </a:r>
            <a:r>
              <a:rPr b="0" lang="en-US" sz="3200" spc="-1" strike="noStrike">
                <a:solidFill>
                  <a:srgbClr val="ff0000"/>
                </a:solidFill>
                <a:latin typeface="Gill Sans"/>
              </a:rPr>
              <a:t>infec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20720" indent="-43164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refore, a transition need not be a defec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20720" indent="-43164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stead, a cause may simpl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enable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the infection to become a failure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720720" indent="-431640">
              <a:lnSpc>
                <a:spcPct val="100000"/>
              </a:lnSpc>
              <a:spcBef>
                <a:spcPts val="2200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44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ence, every cause-effect chain must eventually </a:t>
            </a: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join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th the infection chain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title"/>
          </p:nvPr>
        </p:nvSpPr>
        <p:spPr>
          <a:xfrm>
            <a:off x="1041120" y="253800"/>
            <a:ext cx="1090908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Lucida Grande"/>
              </a:rPr>
              <a:t>Causes and Infections</a:t>
            </a:r>
            <a:endParaRPr b="1" lang="en-US" sz="7200" spc="-1" strike="noStrike">
              <a:solidFill>
                <a:srgbClr val="ffffff"/>
              </a:solidFill>
              <a:latin typeface="Lucida Grande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7594560" y="29844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7594560" y="462276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7594560" y="6172200"/>
          <a:ext cx="3568320" cy="507960"/>
        </p:xfrm>
        <a:graphic>
          <a:graphicData uri="http://schemas.openxmlformats.org/drawingml/2006/table">
            <a:tbl>
              <a:tblPr/>
              <a:tblGrid>
                <a:gridCol w="714240"/>
                <a:gridCol w="708480"/>
                <a:gridCol w="714600"/>
                <a:gridCol w="714960"/>
                <a:gridCol w="716040"/>
              </a:tblGrid>
              <a:tr h="5079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7581960" y="7683480"/>
          <a:ext cx="2146320" cy="495360"/>
        </p:xfrm>
        <a:graphic>
          <a:graphicData uri="http://schemas.openxmlformats.org/drawingml/2006/table">
            <a:tbl>
              <a:tblPr/>
              <a:tblGrid>
                <a:gridCol w="719280"/>
                <a:gridCol w="711000"/>
                <a:gridCol w="716040"/>
              </a:tblGrid>
              <a:tr h="495360"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37800" rIns="37800" tIns="37800" bIns="37800" anchor="ctr">
                      <a:noAutofit/>
                    </a:bodyPr>
                    <a:p>
                      <a:endParaRPr b="0" lang="en-US" sz="1200" spc="-1" strike="noStrike">
                        <a:solidFill>
                          <a:srgbClr val="ffffff"/>
                        </a:solidFill>
                        <a:latin typeface="Gill Sans"/>
                      </a:endParaRPr>
                    </a:p>
                  </a:txBody>
                  <a:tcPr anchor="ctr" marL="37800" marR="37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536" name="" descr=""/>
          <p:cNvPicPr/>
          <p:nvPr/>
        </p:nvPicPr>
        <p:blipFill>
          <a:blip r:embed="rId5"/>
          <a:stretch/>
        </p:blipFill>
        <p:spPr>
          <a:xfrm>
            <a:off x="10439280" y="7099200"/>
            <a:ext cx="749520" cy="120672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469800" y="0"/>
            <a:ext cx="10045800" cy="7821720"/>
            <a:chOff x="469800" y="0"/>
            <a:chExt cx="10045800" cy="7821720"/>
          </a:xfrm>
        </p:grpSpPr>
        <p:grpSp>
          <p:nvGrpSpPr>
            <p:cNvPr id="538" name=""/>
            <p:cNvGrpSpPr/>
            <p:nvPr/>
          </p:nvGrpSpPr>
          <p:grpSpPr>
            <a:xfrm>
              <a:off x="469800" y="0"/>
              <a:ext cx="8857800" cy="7584840"/>
              <a:chOff x="469800" y="0"/>
              <a:chExt cx="8857800" cy="7584840"/>
            </a:xfrm>
          </p:grpSpPr>
          <p:pic>
            <p:nvPicPr>
              <p:cNvPr id="53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980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0" name=""/>
              <p:cNvSpPr/>
              <p:nvPr/>
            </p:nvSpPr>
            <p:spPr>
              <a:xfrm>
                <a:off x="8944200" y="70358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41" name=""/>
            <p:cNvSpPr/>
            <p:nvPr/>
          </p:nvSpPr>
          <p:spPr>
            <a:xfrm flipH="1" flipV="1">
              <a:off x="10324440" y="7226280"/>
              <a:ext cx="163800" cy="1144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 flipV="1">
              <a:off x="10274040" y="7518240"/>
              <a:ext cx="201600" cy="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10299600" y="7658280"/>
              <a:ext cx="216000" cy="163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0" y="0"/>
            <a:ext cx="10270440" cy="5133600"/>
            <a:chOff x="0" y="0"/>
            <a:chExt cx="10270440" cy="5133600"/>
          </a:xfrm>
        </p:grpSpPr>
        <p:grpSp>
          <p:nvGrpSpPr>
            <p:cNvPr id="545" name=""/>
            <p:cNvGrpSpPr/>
            <p:nvPr/>
          </p:nvGrpSpPr>
          <p:grpSpPr>
            <a:xfrm>
              <a:off x="0" y="0"/>
              <a:ext cx="9486720" cy="4201560"/>
              <a:chOff x="0" y="0"/>
              <a:chExt cx="9486720" cy="4201560"/>
            </a:xfrm>
          </p:grpSpPr>
          <p:pic>
            <p:nvPicPr>
              <p:cNvPr id="54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0"/>
                <a:ext cx="93816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>
                <a:off x="9230040" y="3835440"/>
                <a:ext cx="2566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24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9887040" y="4584600"/>
              <a:ext cx="38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55680"/>
                  <a:tab algn="l" pos="711360"/>
                  <a:tab algn="l" pos="1066680"/>
                  <a:tab algn="l" pos="1422360"/>
                  <a:tab algn="l" pos="1778040"/>
                  <a:tab algn="l" pos="2133720"/>
                  <a:tab algn="l" pos="2489040"/>
                  <a:tab algn="l" pos="2844720"/>
                  <a:tab algn="l" pos="3200400"/>
                  <a:tab algn="l" pos="3556080"/>
                  <a:tab algn="l" pos="3911760"/>
                  <a:tab algn="l" pos="42670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Zapf Dingbats"/>
                  <a:ea typeface="Zapf Dingbats"/>
                </a:rPr>
                <a:t>✘</a:t>
              </a:r>
              <a:endParaRPr b="0" lang="en-US" sz="36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469800" y="0"/>
            <a:ext cx="9813600" cy="6683040"/>
            <a:chOff x="469800" y="0"/>
            <a:chExt cx="9813600" cy="6683040"/>
          </a:xfrm>
        </p:grpSpPr>
        <p:pic>
          <p:nvPicPr>
            <p:cNvPr id="550" name="" descr=""/>
            <p:cNvPicPr/>
            <p:nvPr/>
          </p:nvPicPr>
          <p:blipFill>
            <a:blip r:embed="rId8"/>
            <a:stretch/>
          </p:blipFill>
          <p:spPr>
            <a:xfrm>
              <a:off x="469800" y="0"/>
              <a:ext cx="938160" cy="46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1" name=""/>
            <p:cNvGrpSpPr/>
            <p:nvPr/>
          </p:nvGrpSpPr>
          <p:grpSpPr>
            <a:xfrm>
              <a:off x="8439480" y="6134040"/>
              <a:ext cx="1843920" cy="549000"/>
              <a:chOff x="8439480" y="6134040"/>
              <a:chExt cx="1843920" cy="549000"/>
            </a:xfrm>
          </p:grpSpPr>
          <p:sp>
            <p:nvSpPr>
              <p:cNvPr id="552" name=""/>
              <p:cNvSpPr/>
              <p:nvPr/>
            </p:nvSpPr>
            <p:spPr>
              <a:xfrm>
                <a:off x="843948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900000" y="6134040"/>
                <a:ext cx="38340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355680"/>
                    <a:tab algn="l" pos="711360"/>
                    <a:tab algn="l" pos="1066680"/>
                    <a:tab algn="l" pos="1422360"/>
                    <a:tab algn="l" pos="1778040"/>
                    <a:tab algn="l" pos="2133720"/>
                    <a:tab algn="l" pos="2489040"/>
                    <a:tab algn="l" pos="2844720"/>
                    <a:tab algn="l" pos="3200400"/>
                    <a:tab algn="l" pos="3556080"/>
                    <a:tab algn="l" pos="3911760"/>
                    <a:tab algn="l" pos="426708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Zapf Dingbats"/>
                    <a:ea typeface="Zapf Dingbats"/>
                  </a:rPr>
                  <a:t>✘</a:t>
                </a:r>
                <a:endParaRPr b="0" lang="en-US" sz="3600" spc="-1" strike="noStrike">
                  <a:solidFill>
                    <a:srgbClr val="ffffff"/>
                  </a:solidFill>
                  <a:latin typeface="Gill Sans"/>
                </a:endParaRPr>
              </a:p>
            </p:txBody>
          </p:sp>
        </p:grpSp>
      </p:grpSp>
      <p:sp>
        <p:nvSpPr>
          <p:cNvPr id="554" name=""/>
          <p:cNvSpPr/>
          <p:nvPr/>
        </p:nvSpPr>
        <p:spPr>
          <a:xfrm>
            <a:off x="9952200" y="3416400"/>
            <a:ext cx="1315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  <a:ea typeface="Gill Sans"/>
              </a:rPr>
              <a:t>Variabl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8635320" y="4127040"/>
            <a:ext cx="1422720" cy="3804120"/>
            <a:chOff x="8635320" y="4127040"/>
            <a:chExt cx="1422720" cy="3804120"/>
          </a:xfrm>
        </p:grpSpPr>
        <p:sp>
          <p:nvSpPr>
            <p:cNvPr id="556" name=""/>
            <p:cNvSpPr/>
            <p:nvPr/>
          </p:nvSpPr>
          <p:spPr>
            <a:xfrm flipV="1">
              <a:off x="8635320" y="6413400"/>
              <a:ext cx="1414440" cy="15177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10045800" y="4838400"/>
              <a:ext cx="0" cy="156204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flipV="1">
              <a:off x="9613440" y="4127040"/>
              <a:ext cx="444600" cy="6843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11841120" y="2946240"/>
            <a:ext cx="0" cy="533412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60" name=""/>
          <p:cNvSpPr/>
          <p:nvPr/>
        </p:nvSpPr>
        <p:spPr>
          <a:xfrm>
            <a:off x="11971800" y="7645320"/>
            <a:ext cx="1468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  <a:ea typeface="Gill Sans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8305920" y="2984400"/>
            <a:ext cx="2133000" cy="5207040"/>
            <a:chOff x="8305920" y="2984400"/>
            <a:chExt cx="2133000" cy="5207040"/>
          </a:xfrm>
        </p:grpSpPr>
        <p:sp>
          <p:nvSpPr>
            <p:cNvPr id="562" name=""/>
            <p:cNvSpPr/>
            <p:nvPr/>
          </p:nvSpPr>
          <p:spPr>
            <a:xfrm>
              <a:off x="9740520" y="6184800"/>
              <a:ext cx="698400" cy="50796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31120" y="4622760"/>
              <a:ext cx="698040" cy="50796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305920" y="7683480"/>
              <a:ext cx="698040" cy="50796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31120" y="2984400"/>
              <a:ext cx="698040" cy="507960"/>
            </a:xfrm>
            <a:prstGeom prst="rect">
              <a:avLst/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8749800" y="4863600"/>
              <a:ext cx="1364760" cy="15159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8737200" y="3162240"/>
              <a:ext cx="0" cy="1719360"/>
            </a:xfrm>
            <a:prstGeom prst="line">
              <a:avLst/>
            </a:prstGeom>
            <a:ln w="5076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BD2F-CFBC-4166-B76A-29B88A62548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