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E2DFE-4641-4272-A37F-0074128B75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6A105-655C-4C50-B4B6-5BD8509FED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D3BDC-0696-4FE8-B7D9-4983552722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20567-D32D-4D9E-86E0-4D20BC78AC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EA1B8-6E2A-4AFC-A1E4-98578304C8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C2F39-FF82-4169-B44B-1AC63351CB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BDD60-94B0-4687-B9CC-B5A256CE54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F11AE-EC0E-4B8A-8037-FCCED0E35F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82148-E95D-4F69-BD13-4F83E729F9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A2F01-9788-4B93-B8B1-EC14FA3DA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70D1A-E8F9-4E5C-8878-3BE2AA8E6D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E0187-C1A7-4AC9-A768-76AEA5BEC1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7FF60-FD46-4420-92BB-92F0B1F006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AF9A6-DF5E-447E-8075-CD41CEEE11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E6522-E13D-4488-9629-D11C6D118F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96B08-5EB2-4599-9DDF-9977840681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C432B-E00C-4A2C-BBE0-7D76DFD2C1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CA26D-5B1B-46F9-83BB-B44987C964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AB65C-A585-4349-B3CA-C6CCD10FFA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642E1-1E58-47C9-B4EA-23AFD2057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B17F8-297B-40BF-88AD-8F80B40495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9F68-7882-4653-AE27-8B890866CB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A31C-A402-4D5A-8DEB-3ED3D712CD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D9E5-EAE5-4BE2-93BE-BEE46FCBA4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6908-5C68-45F6-B37A-0D15F4281B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8483-DAE7-495F-AF5D-A530829AE4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3250-8F09-4DB4-9542-8EE023F893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016D-00FD-489A-AFF7-D19DEE2C15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29C6-E69E-444B-B183-1EFD8925BE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7193-37BB-4454-B7A2-69B4E65E9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9806-4307-4252-82DC-E66345F1EC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6E56-3012-45A9-9667-E5C0DD5CAE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BBE2-BBC4-4EAA-BA5C-3E27809A361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A646-92C7-4264-A618-B2BD3E0713A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EC1AE-D466-4335-9860-4E471CE2C5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F8989-AB1A-4BA2-A637-95B0CF757D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A7342-E4A4-496D-B05A-DDAF34CBF45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03F9C-4C03-4EC3-A06F-D5ADCA81A1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7D0F0-0F26-4608-B0F7-28BD0E4E1D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189DA-565D-4145-AD63-B78E4D4E22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8706A-4BB3-49B7-9367-E7398E26BA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1E3E-F273-483B-A152-80B4B876A9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7019E-5B92-4734-BD1A-05E3F59081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0FFCB-A00F-4FBA-A260-2542D8D9CB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9C4FC-AE6D-40A1-9FEC-DCD20E3BF8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F2643-DC19-48EB-81FA-1DF95BB8DA4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C3A4E-C50D-4036-ADDF-73D2952CB6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97D7-C6BD-4C68-9840-9CDE29AA0B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77F3-4F82-49F4-8C37-ADD659C08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35A8-D4E5-4B2A-832D-E13BFDBFCF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1546-6AF2-488F-A791-2106A7582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21C9-A756-48EB-8C38-9E65C277C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7B15-D487-441F-9CEF-0A0571691F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0C6B-DDAE-46F1-9DB8-53802754B2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211F-1D99-4D5B-A2A5-7D6313A0A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8C5D-43A7-45D8-AC08-D55EAE3DE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9D52-C0B2-4427-A5B6-6B3FB5ED96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60F7-A8E5-46C4-A38A-0B32E9F933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B7BD-96B7-422D-8030-6793E911AB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08D9-BE55-4FE5-817D-648D179D2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9168-FC90-4192-B4A1-CDC999D878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C81E-28C0-4BE8-B719-7813BC5B0C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6FA7-CF6E-47A3-9B47-CD90D4AA83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1818-69E4-4454-B526-120D898D4F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96F8-A9C2-413D-98A6-BBB4DE81D6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47CA-6411-4E69-AB21-876698888F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501D-ABD5-4C39-B32D-50AAB5DE0E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9367-5E1B-4CCD-BA06-8C0455A5A9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644E-621B-44F6-A0AB-37846A0C85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A21-FCEF-4640-8B03-52CAA775C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A25-C3A3-4CD2-BC68-54F98B7FFA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158-E359-4F96-A8C0-497EDE8590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2F9-B598-47AD-A28C-7ACE04988E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4B8-263E-4C8A-88CC-9324F153F3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648-E2BF-4D53-B885-740A33671B2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023-B889-409A-AC3C-D1247D8F72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197-77EA-4BC7-A280-AD0CFC4D3C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E77-303A-4593-AF25-1174EEBD88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21B-031D-4B28-996B-E70A31C764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16A-A967-4171-9FE7-AD2D1EE21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B90-A157-4CB0-A00A-840640F30E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0A9A-C984-4A28-B835-A8431742F9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1838A-2B29-4004-8CE3-92FD614095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B037-2A35-4A59-8998-D0BE8CBC44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5EEA0-8FAE-4905-85B4-2B715AC0DE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4421C-6D04-4A65-B998-62AD30C711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4EFE9-DF37-4114-ACC9-98445FE3BF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BCDD-0753-4685-A115-97020F88D1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7990F-7693-41CA-AA2C-005073143F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2EEE2-281B-4EAC-B317-8785E4A59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F3DEA-2FA4-4A7D-B621-BC16D5405D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4F02E-DD86-4A71-B6F4-887BF6B451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63826-FE2E-43A4-B4C3-0540384E07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67BF5-D641-4713-A978-5C9BE7D4A3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9B3B-4674-448D-9863-D50B6C7EB0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9A717-874A-471F-830B-9C700812AB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70AE9-B984-494C-84E1-54F073B98F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2AEB3-B7E2-4272-A50E-75C2DA6576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EA8A-C16F-42B0-935D-71A2635426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A7FB7-0920-48E4-93CB-38CDFAAD4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36FB-1D3C-4E92-8017-C5E44A9D6A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7075-B200-4547-952B-80A2664CCE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B395D-7EEE-4C6B-9245-1DCF895D9B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FE9F9-FC8F-4B7A-B734-C2B5A263C6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D4C8-5002-4FF6-92E6-16211F5CD8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A5CA-4F9D-4116-B614-FCAF896739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916A-8B57-43DA-AE26-D0A3FF215F3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CE3-E392-4120-94F4-94116799F9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F80-F09A-4E20-8582-A6A97CE9C77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9D5F-9430-4814-B19A-B58FEDAA1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5414-B766-4D5F-801C-DDC9139D01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094-7805-45B5-91B9-F3CA9D4861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8C7-28EB-44DF-8464-A9C2D5CE1D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326C-078E-4B8C-AE3B-DC65708CC8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1EE2-5C41-4826-81E7-CFCCCABD80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946-CF4F-4CF0-A2ED-A03A6C6EFA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EF9C-AEF6-4D99-920A-26031665F1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01CFD-951E-4953-870F-4CDBD08E47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5989B-C81E-48D6-9764-E618A0EE38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CE990-1738-4CDB-8B98-A5E04BB79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DB51-6890-41C4-88A3-3CE7989E7AB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B15-8C51-4ED1-855A-0262D4BCCAA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BFC-D59D-4964-B6D3-461301391A9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A6D-BD17-4D8F-A8A0-D4869D0A5B0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51C-B3CB-4481-9C2F-86DB5A81170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FAB-C321-4406-BFD1-D2CBD1BF3BF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F29-65BF-42B9-B578-4CCDFAA1B4C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206-0B1A-4374-B75C-167DDEE2D11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560-98F5-4690-93B2-BBBFD3C28B6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5B5-3D66-4FBF-BD8C-EF79CC79BF6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 rot="10800000">
            <a:off x="5473800" y="1775880"/>
            <a:ext cx="7835760" cy="7805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Failure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figur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82680" y="927000"/>
            <a:ext cx="5651640" cy="4610160"/>
            <a:chOff x="1282680" y="927000"/>
            <a:chExt cx="5651640" cy="4610160"/>
          </a:xfrm>
        </p:grpSpPr>
        <p:sp>
          <p:nvSpPr>
            <p:cNvPr id="632" name=""/>
            <p:cNvSpPr/>
            <p:nvPr/>
          </p:nvSpPr>
          <p:spPr>
            <a:xfrm>
              <a:off x="1282680" y="4813200"/>
              <a:ext cx="40384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0640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ll circumstanc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3492360" y="927000"/>
              <a:ext cx="344196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"/>
          <p:cNvGrpSpPr/>
          <p:nvPr/>
        </p:nvGrpSpPr>
        <p:grpSpPr>
          <a:xfrm>
            <a:off x="1282680" y="190440"/>
            <a:ext cx="5892840" cy="7061040"/>
            <a:chOff x="1282680" y="190440"/>
            <a:chExt cx="5892840" cy="7061040"/>
          </a:xfrm>
        </p:grpSpPr>
        <p:sp>
          <p:nvSpPr>
            <p:cNvPr id="635" name=""/>
            <p:cNvSpPr/>
            <p:nvPr/>
          </p:nvSpPr>
          <p:spPr>
            <a:xfrm>
              <a:off x="1282680" y="6527880"/>
              <a:ext cx="31240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149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nfigur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3"/>
            <a:stretch/>
          </p:blipFill>
          <p:spPr>
            <a:xfrm>
              <a:off x="3251160" y="1015920"/>
              <a:ext cx="3924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4"/>
            <a:stretch/>
          </p:blipFill>
          <p:spPr>
            <a:xfrm>
              <a:off x="3251160" y="190440"/>
              <a:ext cx="12319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"/>
          <p:cNvGrpSpPr/>
          <p:nvPr/>
        </p:nvGrpSpPr>
        <p:grpSpPr>
          <a:xfrm>
            <a:off x="1282680" y="685800"/>
            <a:ext cx="4127400" cy="3162240"/>
            <a:chOff x="1282680" y="685800"/>
            <a:chExt cx="4127400" cy="3162240"/>
          </a:xfrm>
        </p:grpSpPr>
        <p:sp>
          <p:nvSpPr>
            <p:cNvPr id="639" name=""/>
            <p:cNvSpPr/>
            <p:nvPr/>
          </p:nvSpPr>
          <p:spPr>
            <a:xfrm>
              <a:off x="1282680" y="3124080"/>
              <a:ext cx="33400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365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ircumsta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5"/>
            <a:stretch/>
          </p:blipFill>
          <p:spPr>
            <a:xfrm>
              <a:off x="5029200" y="685800"/>
              <a:ext cx="3808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E274-98CB-4D5E-AADE-F4F6ABB84B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2" name=""/>
          <p:cNvSpPr/>
          <p:nvPr/>
        </p:nvSpPr>
        <p:spPr>
          <a:xfrm>
            <a:off x="1148760" y="2933640"/>
            <a:ext cx="4057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sting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1061280" y="5460840"/>
            <a:ext cx="5195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itial configur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232240" y="6489720"/>
            <a:ext cx="2565720" cy="43164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5295960" y="7035840"/>
            <a:ext cx="2438280" cy="4316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4610160" y="4013280"/>
            <a:ext cx="3797280" cy="43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267D-42E6-43B5-A308-24C8A51671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inimal Differen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68040" y="114480"/>
            <a:ext cx="6598080" cy="3383640"/>
            <a:chOff x="968040" y="114480"/>
            <a:chExt cx="6598080" cy="3383640"/>
          </a:xfrm>
        </p:grpSpPr>
        <p:sp>
          <p:nvSpPr>
            <p:cNvPr id="649" name=""/>
            <p:cNvSpPr/>
            <p:nvPr/>
          </p:nvSpPr>
          <p:spPr>
            <a:xfrm>
              <a:off x="968040" y="2857680"/>
              <a:ext cx="3384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Goal: Subset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3095640" y="990720"/>
              <a:ext cx="44704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3"/>
            <a:stretch/>
          </p:blipFill>
          <p:spPr>
            <a:xfrm>
              <a:off x="3095640" y="114480"/>
              <a:ext cx="44460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836600" y="2857680"/>
              <a:ext cx="956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nd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53" name="" descr=""/>
            <p:cNvPicPr/>
            <p:nvPr/>
          </p:nvPicPr>
          <p:blipFill>
            <a:blip r:embed="rId4"/>
            <a:stretch/>
          </p:blipFill>
          <p:spPr>
            <a:xfrm>
              <a:off x="4721400" y="114480"/>
              <a:ext cx="45720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"/>
          <p:cNvGrpSpPr/>
          <p:nvPr/>
        </p:nvGrpSpPr>
        <p:grpSpPr>
          <a:xfrm>
            <a:off x="1043280" y="787320"/>
            <a:ext cx="4306680" cy="4552200"/>
            <a:chOff x="1043280" y="787320"/>
            <a:chExt cx="4306680" cy="4552200"/>
          </a:xfrm>
        </p:grpSpPr>
        <p:pic>
          <p:nvPicPr>
            <p:cNvPr id="655" name="" descr=""/>
            <p:cNvPicPr/>
            <p:nvPr/>
          </p:nvPicPr>
          <p:blipFill>
            <a:blip r:embed="rId5"/>
            <a:stretch/>
          </p:blipFill>
          <p:spPr>
            <a:xfrm>
              <a:off x="3152880" y="787320"/>
              <a:ext cx="219708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1043280" y="4699080"/>
              <a:ext cx="26006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iffere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290520" y="1066680"/>
            <a:ext cx="10388520" cy="6210360"/>
            <a:chOff x="290520" y="1066680"/>
            <a:chExt cx="10388520" cy="6210360"/>
          </a:xfrm>
        </p:grpSpPr>
        <p:sp>
          <p:nvSpPr>
            <p:cNvPr id="658" name=""/>
            <p:cNvSpPr/>
            <p:nvPr/>
          </p:nvSpPr>
          <p:spPr>
            <a:xfrm>
              <a:off x="1168560" y="6553080"/>
              <a:ext cx="5232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ifference is 1-minima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6"/>
            <a:stretch/>
          </p:blipFill>
          <p:spPr>
            <a:xfrm>
              <a:off x="290520" y="1066680"/>
              <a:ext cx="1038852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9A7B-5DEA-44CE-8ED2-2845E0EBA9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sola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0245600" y="82144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10243800" y="24865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1219320" y="2717640"/>
            <a:ext cx="8127720" cy="635040"/>
          </a:xfrm>
          <a:prstGeom prst="rect">
            <a:avLst/>
          </a:prstGeom>
          <a:solidFill>
            <a:srgbClr val="6666ff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1148040" y="2022840"/>
            <a:ext cx="136008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270080" y="8445600"/>
            <a:ext cx="8128080" cy="635040"/>
            <a:chOff x="1270080" y="8445600"/>
            <a:chExt cx="8128080" cy="635040"/>
          </a:xfrm>
        </p:grpSpPr>
        <p:sp>
          <p:nvSpPr>
            <p:cNvPr id="666" name=""/>
            <p:cNvSpPr/>
            <p:nvPr/>
          </p:nvSpPr>
          <p:spPr>
            <a:xfrm>
              <a:off x="1270080" y="844560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8445600"/>
              <a:ext cx="812808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0243800" y="34390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270080" y="7493040"/>
            <a:ext cx="8128080" cy="635040"/>
            <a:chOff x="1270080" y="7493040"/>
            <a:chExt cx="8128080" cy="635040"/>
          </a:xfrm>
        </p:grpSpPr>
        <p:sp>
          <p:nvSpPr>
            <p:cNvPr id="670" name=""/>
            <p:cNvSpPr/>
            <p:nvPr/>
          </p:nvSpPr>
          <p:spPr>
            <a:xfrm>
              <a:off x="1270080" y="749304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0080" y="749304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0245600" y="72619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270080" y="3670200"/>
            <a:ext cx="8128080" cy="635040"/>
            <a:chOff x="1270080" y="3670200"/>
            <a:chExt cx="8128080" cy="635040"/>
          </a:xfrm>
        </p:grpSpPr>
        <p:grpSp>
          <p:nvGrpSpPr>
            <p:cNvPr id="674" name=""/>
            <p:cNvGrpSpPr/>
            <p:nvPr/>
          </p:nvGrpSpPr>
          <p:grpSpPr>
            <a:xfrm>
              <a:off x="1270080" y="3670200"/>
              <a:ext cx="8128080" cy="635040"/>
              <a:chOff x="1270080" y="3670200"/>
              <a:chExt cx="8128080" cy="635040"/>
            </a:xfrm>
          </p:grpSpPr>
          <p:sp>
            <p:nvSpPr>
              <p:cNvPr id="675" name=""/>
              <p:cNvSpPr/>
              <p:nvPr/>
            </p:nvSpPr>
            <p:spPr>
              <a:xfrm>
                <a:off x="1270080" y="3670200"/>
                <a:ext cx="8128080" cy="63504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  <a:effectLst>
                <a:outerShdw dist="76367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270080" y="3670200"/>
                <a:ext cx="4064040" cy="635040"/>
              </a:xfrm>
              <a:prstGeom prst="rect">
                <a:avLst/>
              </a:prstGeom>
              <a:solidFill>
                <a:srgbClr val="00000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7353360" y="367020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0243800" y="50011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10245600" y="58395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5206680" y="4432320"/>
            <a:ext cx="64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5206680" y="6729480"/>
            <a:ext cx="64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10488600" y="3922560"/>
            <a:ext cx="3060720" cy="749520"/>
          </a:xfrm>
          <a:prstGeom prst="rightArrow">
            <a:avLst>
              <a:gd name="adj1" fmla="val 42481"/>
              <a:gd name="adj2" fmla="val 34049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10488600" y="7173720"/>
            <a:ext cx="3060720" cy="749520"/>
          </a:xfrm>
          <a:prstGeom prst="rightArrow">
            <a:avLst>
              <a:gd name="adj1" fmla="val 42481"/>
              <a:gd name="adj2" fmla="val 34049"/>
            </a:avLst>
          </a:prstGeom>
          <a:gradFill rotWithShape="0">
            <a:gsLst>
              <a:gs pos="0">
                <a:srgbClr val="ffff00"/>
              </a:gs>
              <a:gs pos="100000">
                <a:srgbClr val="8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70080" y="6070680"/>
            <a:ext cx="8128080" cy="635040"/>
            <a:chOff x="1270080" y="6070680"/>
            <a:chExt cx="8128080" cy="635040"/>
          </a:xfrm>
        </p:grpSpPr>
        <p:sp>
          <p:nvSpPr>
            <p:cNvPr id="685" name=""/>
            <p:cNvSpPr/>
            <p:nvPr/>
          </p:nvSpPr>
          <p:spPr>
            <a:xfrm>
              <a:off x="1270080" y="607068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70080" y="607068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53360" y="607068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13480" y="6070680"/>
              <a:ext cx="95256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270080" y="5118120"/>
            <a:ext cx="8128080" cy="635040"/>
            <a:chOff x="1270080" y="5118120"/>
            <a:chExt cx="8128080" cy="635040"/>
          </a:xfrm>
        </p:grpSpPr>
        <p:sp>
          <p:nvSpPr>
            <p:cNvPr id="690" name=""/>
            <p:cNvSpPr/>
            <p:nvPr/>
          </p:nvSpPr>
          <p:spPr>
            <a:xfrm>
              <a:off x="1270080" y="511812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70080" y="511812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3360" y="511812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13480" y="5118120"/>
              <a:ext cx="6858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50040" y="5118120"/>
              <a:ext cx="2160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6580800" y="6772680"/>
            <a:ext cx="336096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Failure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6550200" y="6570720"/>
            <a:ext cx="274320" cy="253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6095880" y="4724280"/>
            <a:ext cx="470160" cy="2298960"/>
          </a:xfrm>
          <a:prstGeom prst="ellipse">
            <a:avLst/>
          </a:prstGeom>
          <a:noFill/>
          <a:ln w="101520">
            <a:solidFill>
              <a:srgbClr val="ffff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55680" y="355680"/>
            <a:ext cx="9270720" cy="2793960"/>
            <a:chOff x="355680" y="355680"/>
            <a:chExt cx="9270720" cy="2793960"/>
          </a:xfrm>
        </p:grpSpPr>
        <p:sp>
          <p:nvSpPr>
            <p:cNvPr id="699" name=""/>
            <p:cNvSpPr/>
            <p:nvPr/>
          </p:nvSpPr>
          <p:spPr>
            <a:xfrm>
              <a:off x="6578640" y="1994040"/>
              <a:ext cx="3047760" cy="1155600"/>
            </a:xfrm>
            <a:prstGeom prst="wedgeEllipseCallout">
              <a:avLst>
                <a:gd name="adj1" fmla="val -52500"/>
                <a:gd name="adj2" fmla="val 50000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2"/>
            <a:stretch/>
          </p:blipFill>
          <p:spPr>
            <a:xfrm>
              <a:off x="355680" y="355680"/>
              <a:ext cx="243828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"/>
          <p:cNvGrpSpPr/>
          <p:nvPr/>
        </p:nvGrpSpPr>
        <p:grpSpPr>
          <a:xfrm>
            <a:off x="291960" y="368280"/>
            <a:ext cx="9334440" cy="8458200"/>
            <a:chOff x="291960" y="368280"/>
            <a:chExt cx="9334440" cy="8458200"/>
          </a:xfrm>
        </p:grpSpPr>
        <p:sp>
          <p:nvSpPr>
            <p:cNvPr id="702" name=""/>
            <p:cNvSpPr/>
            <p:nvPr/>
          </p:nvSpPr>
          <p:spPr>
            <a:xfrm>
              <a:off x="6578640" y="7670880"/>
              <a:ext cx="3047760" cy="1155600"/>
            </a:xfrm>
            <a:prstGeom prst="wedgeEllipseCallout">
              <a:avLst>
                <a:gd name="adj1" fmla="val -52500"/>
                <a:gd name="adj2" fmla="val 50000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3"/>
            <a:stretch/>
          </p:blipFill>
          <p:spPr>
            <a:xfrm>
              <a:off x="291960" y="368280"/>
              <a:ext cx="25657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406440" y="343080"/>
            <a:ext cx="9219960" cy="5651280"/>
            <a:chOff x="406440" y="343080"/>
            <a:chExt cx="9219960" cy="5651280"/>
          </a:xfrm>
        </p:grpSpPr>
        <p:sp>
          <p:nvSpPr>
            <p:cNvPr id="705" name=""/>
            <p:cNvSpPr/>
            <p:nvPr/>
          </p:nvSpPr>
          <p:spPr>
            <a:xfrm>
              <a:off x="6578640" y="4838760"/>
              <a:ext cx="3047760" cy="1155600"/>
            </a:xfrm>
            <a:prstGeom prst="wedgeEllipseCallout">
              <a:avLst>
                <a:gd name="adj1" fmla="val -52500"/>
                <a:gd name="adj2" fmla="val 50000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4"/>
            <a:stretch/>
          </p:blipFill>
          <p:spPr>
            <a:xfrm>
              <a:off x="406440" y="343080"/>
              <a:ext cx="2197080" cy="507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282320" y="2654280"/>
            <a:ext cx="1046484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te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dmi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uch that it works o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wo sets at a ti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    and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ute subse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ach subset, 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ddi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mov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gorithm Sketch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4572000" y="3619440"/>
            <a:ext cx="444600" cy="50796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6121440" y="3619440"/>
            <a:ext cx="457200" cy="50796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5460840" y="8369280"/>
            <a:ext cx="1371600" cy="5079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5"/>
          <a:stretch/>
        </p:blipFill>
        <p:spPr>
          <a:xfrm>
            <a:off x="5384880" y="7454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6"/>
          <a:stretch/>
        </p:blipFill>
        <p:spPr>
          <a:xfrm>
            <a:off x="3720960" y="5372280"/>
            <a:ext cx="680724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6F69-8EA8-49E5-9925-E3138394F8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1282680" y="3416400"/>
          <a:ext cx="10452240" cy="4419360"/>
        </p:xfrm>
        <a:graphic>
          <a:graphicData uri="http://schemas.openxmlformats.org/drawingml/2006/table">
            <a:tbl>
              <a:tblPr/>
              <a:tblGrid>
                <a:gridCol w="3483720"/>
                <a:gridCol w="3484440"/>
                <a:gridCol w="3484080"/>
              </a:tblGrid>
              <a:tr h="1173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56db5b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821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1081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therwis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crease granularity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st Outcom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6" name=""/>
          <p:cNvSpPr/>
          <p:nvPr/>
        </p:nvSpPr>
        <p:spPr>
          <a:xfrm>
            <a:off x="5869080" y="8420040"/>
            <a:ext cx="5460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most valuable outcom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8255160" y="4521240"/>
            <a:ext cx="3454200" cy="1104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4762440" y="5626080"/>
            <a:ext cx="3454560" cy="1104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6078240" y="6738840"/>
            <a:ext cx="1981080" cy="1727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076600" y="5621040"/>
            <a:ext cx="625320" cy="286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BA9C-9FD7-4B28-859C-9B8092E729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d in a Nutshel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96880" y="5573880"/>
            <a:ext cx="11798280" cy="35701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673200" y="3759120"/>
            <a:ext cx="5244840" cy="4827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4"/>
          <a:stretch/>
        </p:blipFill>
        <p:spPr>
          <a:xfrm>
            <a:off x="647640" y="4775040"/>
            <a:ext cx="3187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0" y="114480"/>
            <a:ext cx="10420200" cy="3116880"/>
            <a:chOff x="0" y="114480"/>
            <a:chExt cx="10420200" cy="3116880"/>
          </a:xfrm>
        </p:grpSpPr>
        <p:pic>
          <p:nvPicPr>
            <p:cNvPr id="726" name="" descr=""/>
            <p:cNvPicPr/>
            <p:nvPr/>
          </p:nvPicPr>
          <p:blipFill>
            <a:blip r:embed="rId5"/>
            <a:stretch/>
          </p:blipFill>
          <p:spPr>
            <a:xfrm>
              <a:off x="0" y="114480"/>
              <a:ext cx="410220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6"/>
            <a:stretch/>
          </p:blipFill>
          <p:spPr>
            <a:xfrm>
              <a:off x="4470480" y="114480"/>
              <a:ext cx="219708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374600" y="2590920"/>
              <a:ext cx="304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s 1-minima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62AB-3B57-48CD-B244-25EC688FD1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66760" y="203040"/>
            <a:ext cx="1245852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000" spc="-1" strike="noStrike">
                <a:solidFill>
                  <a:srgbClr val="ffff00"/>
                </a:solidFill>
                <a:latin typeface="Monaco"/>
                <a:ea typeface="Monaco"/>
              </a:rPr>
              <a:t>dd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(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n = 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while 1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listminus(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split(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n); offset = 0; j = 0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while j &lt; 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i = (j + offset) % 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next_c_pass = listunion(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s[i]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next_c_fail = listminus(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s[i]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if test(next_c_fail) ==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and n == 2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next_c_fail; n = 2; offset = 0; brea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if test(next_c_fail) ==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next_c_fail; n = 2; offset = 0; brea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if test(next_c_pass) ==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next_c_pass; n = 2; offset = 0; brea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if test(next_c_fail) ==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next_c_fail; n = max(n - 1, 2); offset = i; brea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if test(next_c_pass) ==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= next_c_pass; n = max(n - 1, 2); offset = i; brea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j = j + 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if j &gt;= 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if n &gt;= len(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return (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33ff33"/>
                </a:solidFill>
                <a:latin typeface="Monaco"/>
                <a:ea typeface="Monaco"/>
              </a:rPr>
              <a:t>c_pass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2000" spc="-1" strike="noStrike">
                <a:solidFill>
                  <a:srgbClr val="ff6666"/>
                </a:solidFill>
                <a:latin typeface="Monaco"/>
                <a:ea typeface="Monaco"/>
              </a:rPr>
              <a:t>c_fail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n = min(len(</a:t>
            </a:r>
            <a:r>
              <a:rPr b="0" lang="en-US" sz="2000" spc="-1" strike="noStrike">
                <a:solidFill>
                  <a:srgbClr val="9898fe"/>
                </a:solidFill>
                <a:latin typeface="Monaco"/>
                <a:ea typeface="Monaco"/>
              </a:rPr>
              <a:t>delta</a:t>
            </a:r>
            <a:r>
              <a:rPr b="0" lang="en-US" sz="2000" spc="-1" strike="noStrike">
                <a:solidFill>
                  <a:srgbClr val="ffffff"/>
                </a:solidFill>
                <a:latin typeface="Monaco"/>
                <a:ea typeface="Monaco"/>
              </a:rPr>
              <a:t>), n * 2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461-104E-42F0-9866-55A1E36C55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49160" y="2527200"/>
            <a:ext cx="707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umber of test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– worst cas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pert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2" name=""/>
          <p:cNvSpPr/>
          <p:nvPr/>
        </p:nvSpPr>
        <p:spPr>
          <a:xfrm>
            <a:off x="749160" y="4508640"/>
            <a:ext cx="6578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umber of test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– best case (no unresolved outcomes)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5156280" y="6032520"/>
            <a:ext cx="2489040" cy="4698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787320" y="7074000"/>
            <a:ext cx="9664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ize of difference – no unresolved outcom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5257800" y="8115480"/>
            <a:ext cx="2476440" cy="5079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2768760" y="3492360"/>
            <a:ext cx="7454880" cy="4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E64B-DE85-4443-A264-772142764A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48CB-6AF5-445C-8B99-F82473E07B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5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610160" y="6324480"/>
            <a:ext cx="3782880" cy="1801800"/>
          </a:xfrm>
          <a:prstGeom prst="pie">
            <a:avLst/>
          </a:prstGeom>
          <a:solidFill>
            <a:srgbClr val="ff5b0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658280" y="3224160"/>
            <a:ext cx="3782880" cy="1803600"/>
          </a:xfrm>
          <a:prstGeom prst="pie">
            <a:avLst/>
          </a:prstGeom>
          <a:solidFill>
            <a:srgbClr val="8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1433520" y="3224160"/>
            <a:ext cx="3784680" cy="1803600"/>
          </a:xfrm>
          <a:prstGeom prst="pi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Alternate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Actual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6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-360"/>
            <a:ext cx="9955440" cy="6345360"/>
            <a:chOff x="0" y="-360"/>
            <a:chExt cx="9955440" cy="6345360"/>
          </a:xfrm>
        </p:grpSpPr>
        <p:sp>
          <p:nvSpPr>
            <p:cNvPr id="480" name=""/>
            <p:cNvSpPr/>
            <p:nvPr/>
          </p:nvSpPr>
          <p:spPr>
            <a:xfrm>
              <a:off x="944424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483" name=""/>
            <p:cNvSpPr/>
            <p:nvPr/>
          </p:nvSpPr>
          <p:spPr>
            <a:xfrm>
              <a:off x="308052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2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"/>
          <p:cNvGrpSpPr/>
          <p:nvPr/>
        </p:nvGrpSpPr>
        <p:grpSpPr>
          <a:xfrm>
            <a:off x="-720" y="-720"/>
            <a:ext cx="8843400" cy="7799760"/>
            <a:chOff x="-720" y="-720"/>
            <a:chExt cx="8843400" cy="7799760"/>
          </a:xfrm>
        </p:grpSpPr>
        <p:sp>
          <p:nvSpPr>
            <p:cNvPr id="487" name=""/>
            <p:cNvSpPr/>
            <p:nvPr/>
          </p:nvSpPr>
          <p:spPr>
            <a:xfrm>
              <a:off x="855072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3369-033B-44F8-8800-6C9B072640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1257480" y="3403440"/>
            <a:ext cx="3492360" cy="2934000"/>
          </a:xfrm>
          <a:prstGeom prst="rect">
            <a:avLst/>
          </a:prstGeom>
          <a:noFill/>
          <a:ln w="177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256C-761E-498C-9B48-B001562F012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3" name=""/>
          <p:cNvSpPr/>
          <p:nvPr/>
        </p:nvSpPr>
        <p:spPr>
          <a:xfrm>
            <a:off x="10880640" y="60069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10878840" y="24512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465120" y="26542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465120" y="709920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10880640" y="51181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10880640" y="68961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10878840" y="33400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10880640" y="77850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465120" y="798840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465120" y="621036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465120" y="35434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465120" y="532116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465120" y="443232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10880640" y="42292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 rot="5400000">
            <a:off x="11554920" y="3008160"/>
            <a:ext cx="1587600" cy="749160"/>
          </a:xfrm>
          <a:prstGeom prst="rightArrow">
            <a:avLst>
              <a:gd name="adj1" fmla="val 38630"/>
              <a:gd name="adj2" fmla="val 39303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10209240" y="6055920"/>
            <a:ext cx="4280040" cy="749160"/>
          </a:xfrm>
          <a:prstGeom prst="rightArrow">
            <a:avLst>
              <a:gd name="adj1" fmla="val 42481"/>
              <a:gd name="adj2" fmla="val 47636"/>
            </a:avLst>
          </a:prstGeom>
          <a:gradFill rotWithShape="0">
            <a:gsLst>
              <a:gs pos="0">
                <a:srgbClr val="ffff00"/>
              </a:gs>
              <a:gs pos="100000">
                <a:srgbClr val="8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992880" y="5499000"/>
            <a:ext cx="336096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Failure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961920" y="5338800"/>
            <a:ext cx="274680" cy="253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254160" y="3301920"/>
            <a:ext cx="850680" cy="2298960"/>
          </a:xfrm>
          <a:prstGeom prst="ellipse">
            <a:avLst/>
          </a:prstGeom>
          <a:noFill/>
          <a:ln w="101520">
            <a:solidFill>
              <a:srgbClr val="ffff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2793960" y="4152960"/>
            <a:ext cx="7416720" cy="293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olation: 5 te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implification: 48 te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A6AD-98F7-4F1B-B475-A4C57C5881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366840" y="457200"/>
            <a:ext cx="12519000" cy="880596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368280" y="469800"/>
            <a:ext cx="12522240" cy="8801280"/>
            <a:chOff x="368280" y="469800"/>
            <a:chExt cx="12522240" cy="8801280"/>
          </a:xfrm>
        </p:grpSpPr>
        <p:sp>
          <p:nvSpPr>
            <p:cNvPr id="765" name=""/>
            <p:cNvSpPr/>
            <p:nvPr/>
          </p:nvSpPr>
          <p:spPr>
            <a:xfrm>
              <a:off x="368280" y="469800"/>
              <a:ext cx="12520440" cy="1003320"/>
            </a:xfrm>
            <a:prstGeom prst="rect">
              <a:avLst/>
            </a:prstGeom>
            <a:solidFill>
              <a:srgbClr val="363642">
                <a:alpha val="75000"/>
              </a:srgbClr>
            </a:solidFill>
            <a:ln w="12600">
              <a:solidFill>
                <a:srgbClr val="00000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38760" y="1473120"/>
              <a:ext cx="8051760" cy="7797960"/>
            </a:xfrm>
            <a:prstGeom prst="rect">
              <a:avLst/>
            </a:prstGeom>
            <a:solidFill>
              <a:srgbClr val="36364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8280" y="7924680"/>
              <a:ext cx="4470480" cy="1346400"/>
            </a:xfrm>
            <a:prstGeom prst="rect">
              <a:avLst/>
            </a:prstGeom>
            <a:solidFill>
              <a:srgbClr val="36364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8280" y="1484280"/>
              <a:ext cx="343080" cy="6440400"/>
            </a:xfrm>
            <a:prstGeom prst="rect">
              <a:avLst/>
            </a:prstGeom>
            <a:solidFill>
              <a:srgbClr val="36364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D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9E83-C6F1-4D8E-B099-DB55F6D454C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>
            <a:off x="1257480" y="3403440"/>
            <a:ext cx="3492360" cy="2934000"/>
          </a:xfrm>
          <a:prstGeom prst="rect">
            <a:avLst/>
          </a:prstGeom>
          <a:noFill/>
          <a:ln w="177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13FA-11B1-4A8E-BD8E-56C265B6B5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"/>
          <p:cNvSpPr/>
          <p:nvPr/>
        </p:nvSpPr>
        <p:spPr>
          <a:xfrm>
            <a:off x="4762440" y="3403440"/>
            <a:ext cx="3492720" cy="2934000"/>
          </a:xfrm>
          <a:prstGeom prst="rect">
            <a:avLst/>
          </a:prstGeom>
          <a:noFill/>
          <a:ln w="177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EBEE-C6F9-431F-A4E4-0CD74AB7B32E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de Cha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7" name=""/>
          <p:cNvSpPr/>
          <p:nvPr/>
        </p:nvSpPr>
        <p:spPr>
          <a:xfrm>
            <a:off x="584280" y="2705040"/>
            <a:ext cx="118108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From: Brian Kahne &lt;bkahne@ibmoto.com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o: DDD Bug Report Address &lt;bug-ddd@gnu.org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bject: Problem with DDD and GDB 4.17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When using DDD with GDB 4.16, the run command correctly uses any prior command-line arguments, or the value of "set args".  However, when I switched to GDB 4.17, this no longer worked:  If I entered a run command in the console window, the prior command-line options would be lost. [...]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4223-2C2C-4B85-9D62-EF75AA8B6C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028880" y="6946920"/>
            <a:ext cx="4165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e finden wi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e alternative Wel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63280" y="253800"/>
            <a:ext cx="11264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ersion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0" name=""/>
          <p:cNvSpPr/>
          <p:nvPr/>
        </p:nvSpPr>
        <p:spPr>
          <a:xfrm>
            <a:off x="3897360" y="2819520"/>
            <a:ext cx="8535960" cy="4483080"/>
          </a:xfrm>
          <a:prstGeom prst="pie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10015200" y="7238880"/>
            <a:ext cx="285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ld ver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11239560" y="6616800"/>
            <a:ext cx="628560" cy="80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6770520" y="3645000"/>
            <a:ext cx="38563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gram wor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165240" y="7010280"/>
            <a:ext cx="5613120" cy="1219320"/>
          </a:xfrm>
          <a:prstGeom prst="rect">
            <a:avLst/>
          </a:prstGeom>
          <a:gradFill rotWithShape="0">
            <a:gsLst>
              <a:gs pos="0">
                <a:srgbClr val="363642"/>
              </a:gs>
              <a:gs pos="100000">
                <a:srgbClr val="3d3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4419720"/>
            <a:ext cx="8534520" cy="4483080"/>
          </a:xfrm>
          <a:prstGeom prst="pi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283320" y="3174840"/>
            <a:ext cx="3102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ew ver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2184480" y="4051440"/>
            <a:ext cx="506160" cy="72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2927160" y="7365960"/>
            <a:ext cx="336420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gram fai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8705160" y="8217000"/>
            <a:ext cx="177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9448560" y="5702400"/>
            <a:ext cx="615960" cy="2473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"/>
          <p:cNvSpPr/>
          <p:nvPr/>
        </p:nvSpPr>
        <p:spPr>
          <a:xfrm>
            <a:off x="7785000" y="7785000"/>
            <a:ext cx="1675080" cy="385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7766-AD51-4F4A-8E5C-CD0F0748750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 was Change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3" name=""/>
          <p:cNvSpPr/>
          <p:nvPr/>
        </p:nvSpPr>
        <p:spPr>
          <a:xfrm>
            <a:off x="1054080" y="2755800"/>
            <a:ext cx="108838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diff -r gdb-4.16 gdb-4.1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iff -r gdb-4.16/COPYING gdb-4.17/COPY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5c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 675 Mass Ave, Cambridge, MA 02139, US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---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gt; 59 Temple Place, Suite 330, Boston, MA 02111-1307 US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282c28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 Appendix: How to Apply These Terms to Your New Progra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---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gt; How to Apply These Terms to Your New Progra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054080" y="7645320"/>
            <a:ext cx="1141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42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d so on for 178,200 lines (8,721 locatio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8668-6030-436C-9F51-DBD824059C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alle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anularity – within some large change, only a few lines may be releva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erference – some (later) changes rely on other (earlier) chan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consistency – some changes may have to be combined to produce test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lta debugging handles all th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19FD-C549-42FD-979A-15421E4198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eneral Pla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compose diff into changes per location (= 8,721 individual chang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ply subset of changes, using PAT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nstruct GDB; build errors mean unresolved test outco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 GDB and return outco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0110-6B64-40E0-91B0-43D8771D03D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5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610160" y="6324480"/>
            <a:ext cx="3782880" cy="1801800"/>
          </a:xfrm>
          <a:prstGeom prst="pie">
            <a:avLst/>
          </a:prstGeom>
          <a:solidFill>
            <a:srgbClr val="ff5b0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58280" y="3224160"/>
            <a:ext cx="3782880" cy="1803600"/>
          </a:xfrm>
          <a:prstGeom prst="pie">
            <a:avLst/>
          </a:prstGeom>
          <a:solidFill>
            <a:srgbClr val="8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1433520" y="3224160"/>
            <a:ext cx="3784680" cy="18036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Alternate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Actual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6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9443880" y="56134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 rot="16200000">
            <a:off x="7315920" y="4809240"/>
            <a:ext cx="2167200" cy="19432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080520" y="56260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2781360" y="7289640"/>
            <a:ext cx="10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3581280" y="4737240"/>
            <a:ext cx="1959120" cy="21841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8570880" y="7238880"/>
            <a:ext cx="291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Lucida Grande"/>
                <a:ea typeface="Lucida Grande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 rot="1559400">
            <a:off x="7197480" y="7162920"/>
            <a:ext cx="1143000" cy="9856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6059520" y="3924360"/>
            <a:ext cx="909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+1.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178760" y="4229280"/>
            <a:ext cx="1620720" cy="1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3860280" y="4229280"/>
            <a:ext cx="2032200" cy="1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3035160" y="4788000"/>
            <a:ext cx="6921720" cy="166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ow can we automate thi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BA7C-7C40-4824-B061-79EDB1F6FC6F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Cha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279360" y="2692440"/>
            <a:ext cx="12444480" cy="435456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7493040"/>
            <a:ext cx="104648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sult after 98 tests (= 1 hou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9C34-46B2-4A3E-B4EB-CE3EC34380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Failure Ca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3" name=""/>
          <p:cNvSpPr/>
          <p:nvPr/>
        </p:nvSpPr>
        <p:spPr>
          <a:xfrm>
            <a:off x="1054080" y="2755800"/>
            <a:ext cx="108838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iff -r gdb-4.16/gdb/infcmd.c gdb-4.17/gdb/infcmd.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1239c1278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lt; "Set </a:t>
            </a:r>
            <a:r>
              <a:rPr b="0" lang="en-US" sz="2400" spc="-1" strike="noStrike">
                <a:solidFill>
                  <a:srgbClr val="33ff33"/>
                </a:solidFill>
                <a:latin typeface="Monaco"/>
                <a:ea typeface="Monaco"/>
              </a:rPr>
              <a:t>arguments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to give program being debugged when it is started.\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---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909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&gt; "Set </a:t>
            </a:r>
            <a:r>
              <a:rPr b="0" lang="en-US" sz="2400" spc="-1" strike="noStrike">
                <a:solidFill>
                  <a:srgbClr val="ff6666"/>
                </a:solidFill>
                <a:latin typeface="Monaco"/>
                <a:ea typeface="Monaco"/>
              </a:rPr>
              <a:t>argument lis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to give program being debugged when it is started.\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486080" y="5905440"/>
            <a:ext cx="10464480" cy="306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cumentation becomes GDB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DD expects </a:t>
            </a:r>
            <a:r>
              <a:rPr b="0" lang="en-US" sz="4200" spc="-1" strike="noStrike">
                <a:solidFill>
                  <a:srgbClr val="33ff33"/>
                </a:solidFill>
                <a:latin typeface="Gill Sans"/>
              </a:rPr>
              <a:t>Argumen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 GDB outputs </a:t>
            </a:r>
            <a:r>
              <a:rPr b="0" lang="en-US" sz="4200" spc="-1" strike="noStrike">
                <a:solidFill>
                  <a:srgbClr val="ff6666"/>
                </a:solidFill>
                <a:latin typeface="Gill Sans"/>
              </a:rPr>
              <a:t>Argument li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78B8-0F0C-4D37-AA6A-B324F2064D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88840" y="317520"/>
            <a:ext cx="11696760" cy="8775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DChang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B15B-EB98-448F-BBFC-C4D9A8A59DF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story – group changes by creation 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nstruction – cache several buil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ouping – according to scop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 Resolution – scan error messages for possibly missing chan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timiz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9622-CA40-4BF8-91F0-B75D91D7719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1" name=""/>
          <p:cNvSpPr/>
          <p:nvPr/>
        </p:nvSpPr>
        <p:spPr>
          <a:xfrm>
            <a:off x="4749840" y="3403440"/>
            <a:ext cx="3492360" cy="2934000"/>
          </a:xfrm>
          <a:prstGeom prst="rect">
            <a:avLst/>
          </a:prstGeom>
          <a:noFill/>
          <a:ln w="177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86BA-32F7-4235-9476-6A3F5B05F6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270080" y="3403440"/>
          <a:ext cx="10464480" cy="294624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2946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pu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 Ch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chedul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"/>
          <p:cNvSpPr/>
          <p:nvPr/>
        </p:nvSpPr>
        <p:spPr>
          <a:xfrm>
            <a:off x="8242200" y="3403440"/>
            <a:ext cx="3492720" cy="2934000"/>
          </a:xfrm>
          <a:prstGeom prst="rect">
            <a:avLst/>
          </a:prstGeom>
          <a:noFill/>
          <a:ln w="177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CEC8-E0C4-4EBE-888F-8B4252AE1858}" type="slidenum">
              <a:t>35</a:t>
            </a:fld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454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4610160" y="6324480"/>
            <a:ext cx="3782880" cy="1801800"/>
          </a:xfrm>
          <a:prstGeom prst="pie">
            <a:avLst/>
          </a:prstGeom>
          <a:solidFill>
            <a:srgbClr val="ff5b0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7658280" y="3224160"/>
            <a:ext cx="3782880" cy="1803600"/>
          </a:xfrm>
          <a:prstGeom prst="pie">
            <a:avLst/>
          </a:prstGeom>
          <a:solidFill>
            <a:srgbClr val="8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1433520" y="3224160"/>
            <a:ext cx="3784680" cy="1803600"/>
          </a:xfrm>
          <a:prstGeom prst="pi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Alternate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Actual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22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wor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0" y="-360"/>
            <a:ext cx="9955440" cy="6345360"/>
            <a:chOff x="0" y="-360"/>
            <a:chExt cx="9955440" cy="6345360"/>
          </a:xfrm>
        </p:grpSpPr>
        <p:sp>
          <p:nvSpPr>
            <p:cNvPr id="826" name=""/>
            <p:cNvSpPr/>
            <p:nvPr/>
          </p:nvSpPr>
          <p:spPr>
            <a:xfrm>
              <a:off x="944424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829" name=""/>
            <p:cNvSpPr/>
            <p:nvPr/>
          </p:nvSpPr>
          <p:spPr>
            <a:xfrm>
              <a:off x="308052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31" name="" descr=""/>
            <p:cNvPicPr/>
            <p:nvPr/>
          </p:nvPicPr>
          <p:blipFill>
            <a:blip r:embed="rId2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-720" y="-720"/>
            <a:ext cx="8843400" cy="7799760"/>
            <a:chOff x="-720" y="-720"/>
            <a:chExt cx="8843400" cy="7799760"/>
          </a:xfrm>
        </p:grpSpPr>
        <p:sp>
          <p:nvSpPr>
            <p:cNvPr id="833" name=""/>
            <p:cNvSpPr/>
            <p:nvPr/>
          </p:nvSpPr>
          <p:spPr>
            <a:xfrm>
              <a:off x="855072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3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20A5-F43B-44DB-91E0-F1FB80AF550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63360" y="2362320"/>
            <a:ext cx="6507360" cy="502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6419880" y="2362320"/>
            <a:ext cx="6508800" cy="5029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84080" y="7518240"/>
            <a:ext cx="5842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7434360" y="7518240"/>
            <a:ext cx="457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differ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>
            <a:off x="789120" y="8217000"/>
            <a:ext cx="5841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con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"/>
          <p:cNvSpPr/>
          <p:nvPr/>
        </p:nvSpPr>
        <p:spPr>
          <a:xfrm>
            <a:off x="7429680" y="8217000"/>
            <a:ext cx="59054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mon con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6208-11C6-4D29-9DC5-CF27E352292E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read Schedu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571680" y="2997360"/>
            <a:ext cx="5587920" cy="52401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6794640" y="2997360"/>
            <a:ext cx="5591160" cy="52448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9067680" y="6121440"/>
            <a:ext cx="2806920" cy="1562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"/>
          <p:cNvSpPr/>
          <p:nvPr/>
        </p:nvSpPr>
        <p:spPr>
          <a:xfrm>
            <a:off x="5337360" y="8458200"/>
            <a:ext cx="5010120" cy="640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’s updates get lost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872560" y="7632720"/>
            <a:ext cx="1224000" cy="952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1487-666A-4CC6-981A-3071EB1F43C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cord + Repla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977760" y="2730600"/>
            <a:ext cx="11036520" cy="60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6FFA-0728-4783-83FC-C15D3F49D3C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ying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1" name=""/>
          <p:cNvSpPr/>
          <p:nvPr/>
        </p:nvSpPr>
        <p:spPr>
          <a:xfrm>
            <a:off x="10867680" y="33400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0866240" y="24512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744480" y="26542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744480" y="443232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44480" y="35434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10867680" y="42292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770040" y="5321160"/>
            <a:ext cx="98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10867680" y="51181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10866240" y="60069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10867680" y="77850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10866240" y="68961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770040" y="6210360"/>
            <a:ext cx="988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770040" y="7099200"/>
            <a:ext cx="98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44480" y="798840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9153720" y="5243400"/>
            <a:ext cx="6387840" cy="749520"/>
          </a:xfrm>
          <a:prstGeom prst="rightArrow">
            <a:avLst>
              <a:gd name="adj1" fmla="val 42481"/>
              <a:gd name="adj2" fmla="val 71061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33CD-AE30-4FCE-9540-38E98C313F2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chedules as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838080" y="3441600"/>
            <a:ext cx="5067360" cy="4356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7175520" y="3429000"/>
            <a:ext cx="5079960" cy="43830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164960" y="8280360"/>
            <a:ext cx="1066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 schedule difference causes the failu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2023-612B-43CE-96BC-0C6B55FB39C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1409760" y="2693880"/>
            <a:ext cx="10185480" cy="586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FB10-B558-49E0-B960-9E1D02F9BAC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1892160" y="2908440"/>
            <a:ext cx="1282680" cy="5432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9728280" y="2895480"/>
            <a:ext cx="1231920" cy="5454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4"/>
          <a:stretch/>
        </p:blipFill>
        <p:spPr>
          <a:xfrm>
            <a:off x="5867280" y="2908440"/>
            <a:ext cx="1282680" cy="54324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4025880" y="499104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7670880" y="499104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AF92-1BE9-4012-96DD-01470A6422C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2581200" y="2666880"/>
            <a:ext cx="7845480" cy="591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DD85-82D0-49B9-92CA-BB9FB451EF5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ample: Raytrac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aytracer program from Spec JVM98 sui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jected a simpl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ace condi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t up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ed te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+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andom 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taine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ass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chedu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,842,577,240 differences, each moving a thread switch by ±1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yield poi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time uni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A541-ADD5-4C0B-B0A3-DE7DFAD2810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Schedu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1066680" y="2071800"/>
            <a:ext cx="10134720" cy="709452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3467160" y="4483080"/>
            <a:ext cx="6057720" cy="227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o unresolved outcom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lexity is O(log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1CC2-7019-4910-A683-01EC158CE2D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Failure Ca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1827360" y="2552760"/>
            <a:ext cx="9348480" cy="66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3009-75B5-4F41-920B-6426F9C3316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eneral Iss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choos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tern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orl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ecompo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configuratio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know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h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disambiguat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ultiple caus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I get to the def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3A75-CB5B-45A8-9D72-D48F791D24C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20440" indent="-51876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failure causes automatically, use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ed test ca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mean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arrow down the differ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trateg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proceed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0440" indent="-51876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 possible strategy is Delta Debugg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9DFD-A334-4F15-A292-7335E9AE91D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29080" indent="-52416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lta Debugging can isolate failure 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the (general)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ersion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hread 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9080" indent="-52416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 such cause impli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but not necessarily a correc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7D33-B9A8-4FBA-9D5A-6A403AEADA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y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"/>
          <p:cNvSpPr/>
          <p:nvPr/>
        </p:nvSpPr>
        <p:spPr>
          <a:xfrm>
            <a:off x="10855080" y="77216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10853640" y="30607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1879560" y="3251160"/>
            <a:ext cx="8128080" cy="635040"/>
          </a:xfrm>
          <a:prstGeom prst="rect">
            <a:avLst/>
          </a:prstGeom>
          <a:solidFill>
            <a:srgbClr val="6666ff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1757520" y="2514600"/>
            <a:ext cx="136008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79560" y="7912080"/>
            <a:ext cx="8128080" cy="635040"/>
            <a:chOff x="1879560" y="7912080"/>
            <a:chExt cx="8128080" cy="635040"/>
          </a:xfrm>
        </p:grpSpPr>
        <p:sp>
          <p:nvSpPr>
            <p:cNvPr id="532" name=""/>
            <p:cNvSpPr/>
            <p:nvPr/>
          </p:nvSpPr>
          <p:spPr>
            <a:xfrm>
              <a:off x="1879560" y="791208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79560" y="7912080"/>
              <a:ext cx="812808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879560" y="4203720"/>
            <a:ext cx="8128080" cy="635040"/>
            <a:chOff x="1879560" y="4203720"/>
            <a:chExt cx="8128080" cy="635040"/>
          </a:xfrm>
        </p:grpSpPr>
        <p:sp>
          <p:nvSpPr>
            <p:cNvPr id="535" name=""/>
            <p:cNvSpPr/>
            <p:nvPr/>
          </p:nvSpPr>
          <p:spPr>
            <a:xfrm>
              <a:off x="1879560" y="420372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79560" y="420372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879560" y="5156280"/>
            <a:ext cx="8153280" cy="635040"/>
            <a:chOff x="1879560" y="5156280"/>
            <a:chExt cx="8153280" cy="635040"/>
          </a:xfrm>
        </p:grpSpPr>
        <p:sp>
          <p:nvSpPr>
            <p:cNvPr id="538" name=""/>
            <p:cNvSpPr/>
            <p:nvPr/>
          </p:nvSpPr>
          <p:spPr>
            <a:xfrm>
              <a:off x="1879560" y="515628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79560" y="515628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01000" y="5156280"/>
              <a:ext cx="20318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879560" y="6959520"/>
            <a:ext cx="8153280" cy="635040"/>
            <a:chOff x="1879560" y="6959520"/>
            <a:chExt cx="8153280" cy="635040"/>
          </a:xfrm>
        </p:grpSpPr>
        <p:sp>
          <p:nvSpPr>
            <p:cNvPr id="542" name=""/>
            <p:cNvSpPr/>
            <p:nvPr/>
          </p:nvSpPr>
          <p:spPr>
            <a:xfrm>
              <a:off x="1879560" y="695952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79560" y="695952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85000" y="6959520"/>
              <a:ext cx="22478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6959520"/>
              <a:ext cx="4824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42000" y="6959520"/>
              <a:ext cx="53352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65960" y="6959520"/>
              <a:ext cx="241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0853640" y="40132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10853640" y="49658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10853640" y="67690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5740200" y="6019920"/>
            <a:ext cx="64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6006960" y="6642000"/>
            <a:ext cx="2210040" cy="1270080"/>
          </a:xfrm>
          <a:prstGeom prst="ellipse">
            <a:avLst/>
          </a:prstGeom>
          <a:noFill/>
          <a:ln w="101520">
            <a:solidFill>
              <a:srgbClr val="ffff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8308080" y="6019920"/>
            <a:ext cx="33613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Failure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962120" y="6608520"/>
            <a:ext cx="451080" cy="274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9813600" y="5497560"/>
            <a:ext cx="5321160" cy="749160"/>
          </a:xfrm>
          <a:prstGeom prst="rightArrow">
            <a:avLst>
              <a:gd name="adj1" fmla="val 42481"/>
              <a:gd name="adj2" fmla="val 59223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0EE2-A04C-4A93-9126-8F409A3D4825}" type="slidenum">
              <a:t>5</a:t>
            </a:fld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951-D681-4493-88BD-A70819D1EECD}" type="slidenum">
              <a:t>50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7" name=""/>
          <p:cNvSpPr/>
          <p:nvPr/>
        </p:nvSpPr>
        <p:spPr>
          <a:xfrm>
            <a:off x="10878840" y="24512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465120" y="26542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465120" y="709920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10880640" y="68961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10880640" y="77850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465120" y="798840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9200" y="4578120"/>
            <a:ext cx="4077000" cy="1270080"/>
          </a:xfrm>
          <a:prstGeom prst="leftRightArrow">
            <a:avLst>
              <a:gd name="adj1" fmla="val 24917"/>
              <a:gd name="adj2" fmla="val 43796"/>
            </a:avLst>
          </a:prstGeom>
          <a:solidFill>
            <a:srgbClr val="ffff00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5296680" y="4863960"/>
            <a:ext cx="671688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Difference narrowed dow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1105-82A1-44B7-AC47-2D6EC7E028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6" name=""/>
          <p:cNvSpPr/>
          <p:nvPr/>
        </p:nvSpPr>
        <p:spPr>
          <a:xfrm>
            <a:off x="10880640" y="60069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10878840" y="24512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465120" y="26542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465120" y="709920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0880640" y="51181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10880640" y="68961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10878840" y="33400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0880640" y="77850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65120" y="798840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465120" y="621036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65120" y="354348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465120" y="532116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65120" y="443232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10880640" y="422928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11554920" y="3008160"/>
            <a:ext cx="1587600" cy="749160"/>
          </a:xfrm>
          <a:prstGeom prst="rightArrow">
            <a:avLst>
              <a:gd name="adj1" fmla="val 38630"/>
              <a:gd name="adj2" fmla="val 39303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 rot="16200000">
            <a:off x="10209240" y="6055920"/>
            <a:ext cx="4280040" cy="749160"/>
          </a:xfrm>
          <a:prstGeom prst="rightArrow">
            <a:avLst>
              <a:gd name="adj1" fmla="val 42481"/>
              <a:gd name="adj2" fmla="val 47636"/>
            </a:avLst>
          </a:prstGeom>
          <a:gradFill rotWithShape="0">
            <a:gsLst>
              <a:gs pos="0">
                <a:srgbClr val="ffff00"/>
              </a:gs>
              <a:gs pos="100000">
                <a:srgbClr val="8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992880" y="5499000"/>
            <a:ext cx="336096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Failure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961920" y="5338800"/>
            <a:ext cx="274680" cy="253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254160" y="3301920"/>
            <a:ext cx="850680" cy="2298960"/>
          </a:xfrm>
          <a:prstGeom prst="ellipse">
            <a:avLst/>
          </a:prstGeom>
          <a:noFill/>
          <a:ln w="101520">
            <a:solidFill>
              <a:srgbClr val="ffff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0737-0588-446B-B734-CAC2D46F3927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47640" y="253800"/>
            <a:ext cx="1170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6" name=""/>
          <p:cNvSpPr/>
          <p:nvPr/>
        </p:nvSpPr>
        <p:spPr>
          <a:xfrm>
            <a:off x="10245600" y="82551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10243800" y="25272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270080" y="2717640"/>
            <a:ext cx="8128080" cy="635040"/>
          </a:xfrm>
          <a:prstGeom prst="rect">
            <a:avLst/>
          </a:prstGeom>
          <a:solidFill>
            <a:srgbClr val="6666ff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1148040" y="1981080"/>
            <a:ext cx="136008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270080" y="8445600"/>
            <a:ext cx="8128080" cy="635040"/>
            <a:chOff x="1270080" y="8445600"/>
            <a:chExt cx="8128080" cy="635040"/>
          </a:xfrm>
        </p:grpSpPr>
        <p:sp>
          <p:nvSpPr>
            <p:cNvPr id="591" name=""/>
            <p:cNvSpPr/>
            <p:nvPr/>
          </p:nvSpPr>
          <p:spPr>
            <a:xfrm>
              <a:off x="1270080" y="844560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70080" y="8445600"/>
              <a:ext cx="812808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243800" y="34797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270080" y="7493040"/>
            <a:ext cx="8128080" cy="635040"/>
            <a:chOff x="1270080" y="7493040"/>
            <a:chExt cx="8128080" cy="635040"/>
          </a:xfrm>
        </p:grpSpPr>
        <p:sp>
          <p:nvSpPr>
            <p:cNvPr id="595" name=""/>
            <p:cNvSpPr/>
            <p:nvPr/>
          </p:nvSpPr>
          <p:spPr>
            <a:xfrm>
              <a:off x="1270080" y="749304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70080" y="749304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0245600" y="73026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270080" y="3670200"/>
            <a:ext cx="8128080" cy="635040"/>
            <a:chOff x="1270080" y="3670200"/>
            <a:chExt cx="8128080" cy="635040"/>
          </a:xfrm>
        </p:grpSpPr>
        <p:grpSp>
          <p:nvGrpSpPr>
            <p:cNvPr id="599" name=""/>
            <p:cNvGrpSpPr/>
            <p:nvPr/>
          </p:nvGrpSpPr>
          <p:grpSpPr>
            <a:xfrm>
              <a:off x="1270080" y="3670200"/>
              <a:ext cx="8128080" cy="635040"/>
              <a:chOff x="1270080" y="3670200"/>
              <a:chExt cx="8128080" cy="635040"/>
            </a:xfrm>
          </p:grpSpPr>
          <p:sp>
            <p:nvSpPr>
              <p:cNvPr id="600" name=""/>
              <p:cNvSpPr/>
              <p:nvPr/>
            </p:nvSpPr>
            <p:spPr>
              <a:xfrm>
                <a:off x="1270080" y="3670200"/>
                <a:ext cx="8128080" cy="63504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  <a:effectLst>
                <a:outerShdw dist="76367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70080" y="3670200"/>
                <a:ext cx="4064040" cy="635040"/>
              </a:xfrm>
              <a:prstGeom prst="rect">
                <a:avLst/>
              </a:prstGeom>
              <a:solidFill>
                <a:srgbClr val="00000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7353360" y="367020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0243800" y="50418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10245600" y="58802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5206680" y="4432320"/>
            <a:ext cx="64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5206680" y="6729480"/>
            <a:ext cx="64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10488600" y="3922560"/>
            <a:ext cx="3060720" cy="749520"/>
          </a:xfrm>
          <a:prstGeom prst="rightArrow">
            <a:avLst>
              <a:gd name="adj1" fmla="val 42481"/>
              <a:gd name="adj2" fmla="val 34049"/>
            </a:avLst>
          </a:prstGeom>
          <a:gradFill rotWithShape="0">
            <a:gsLst>
              <a:gs pos="0">
                <a:srgbClr val="ff8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rot="16200000">
            <a:off x="10488600" y="7173720"/>
            <a:ext cx="3060720" cy="749520"/>
          </a:xfrm>
          <a:prstGeom prst="rightArrow">
            <a:avLst>
              <a:gd name="adj1" fmla="val 42481"/>
              <a:gd name="adj2" fmla="val 34049"/>
            </a:avLst>
          </a:prstGeom>
          <a:gradFill rotWithShape="0">
            <a:gsLst>
              <a:gs pos="0">
                <a:srgbClr val="ffff00"/>
              </a:gs>
              <a:gs pos="100000">
                <a:srgbClr val="8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270080" y="6070680"/>
            <a:ext cx="8128080" cy="635040"/>
            <a:chOff x="1270080" y="6070680"/>
            <a:chExt cx="8128080" cy="635040"/>
          </a:xfrm>
        </p:grpSpPr>
        <p:sp>
          <p:nvSpPr>
            <p:cNvPr id="610" name=""/>
            <p:cNvSpPr/>
            <p:nvPr/>
          </p:nvSpPr>
          <p:spPr>
            <a:xfrm>
              <a:off x="1270080" y="607068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70080" y="607068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53360" y="607068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13480" y="6070680"/>
              <a:ext cx="95256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270080" y="5118120"/>
            <a:ext cx="8128080" cy="635040"/>
            <a:chOff x="1270080" y="5118120"/>
            <a:chExt cx="8128080" cy="635040"/>
          </a:xfrm>
        </p:grpSpPr>
        <p:sp>
          <p:nvSpPr>
            <p:cNvPr id="615" name=""/>
            <p:cNvSpPr/>
            <p:nvPr/>
          </p:nvSpPr>
          <p:spPr>
            <a:xfrm>
              <a:off x="1270080" y="5118120"/>
              <a:ext cx="8128080" cy="63504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70080" y="5118120"/>
              <a:ext cx="406404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3360" y="5118120"/>
              <a:ext cx="20322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13480" y="5118120"/>
              <a:ext cx="6858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50040" y="5118120"/>
              <a:ext cx="216000" cy="635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580800" y="6730920"/>
            <a:ext cx="336096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Failure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6550200" y="6570720"/>
            <a:ext cx="274320" cy="253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4724280"/>
            <a:ext cx="470160" cy="2298960"/>
          </a:xfrm>
          <a:prstGeom prst="ellipse">
            <a:avLst/>
          </a:prstGeom>
          <a:noFill/>
          <a:ln w="101520">
            <a:solidFill>
              <a:srgbClr val="ffff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4615-D355-4701-9E12-8DDC4D6E7C23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63360" y="2362320"/>
            <a:ext cx="6507360" cy="50292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6419880" y="2362320"/>
            <a:ext cx="6508800" cy="50292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784080" y="7518240"/>
            <a:ext cx="5842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7434360" y="7518240"/>
            <a:ext cx="457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differ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789120" y="8217000"/>
            <a:ext cx="5841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imal con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7429680" y="8217000"/>
            <a:ext cx="59054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•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mon con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FEDD-6502-4780-911A-FCB199DC1D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