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25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14.pct" ContentType="image/x-pict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w let’s take a deeper view.  If a program is a succession of states, can’t we treat each state as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 input to the remainder of the run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t’s look at a simpler example first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ive a demo of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cessing state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from sample, using GDB or DDD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so show how to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hange states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, using “set variable” or likewis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nce this worked so well, we built a debugging server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State of the GNU compiler (GCC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42991 vertic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44290 edges - and 1 is wrong :-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An actual GCC execution has millions of these state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do we do now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d even if we know everything, there still is code which is almost impossible to analyze.  In C, for instance, only the programmer knows how memory is structured; there is no general way for static analysis to find this ou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 the last lecture, we have seen delta debugging on input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603FB-9CC2-44CA-85BF-4ECEB6BA70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52FF8-792F-4D40-A2F9-3A47B7C8F1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DFB3E-9360-44D4-8479-434B66DC29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E6210-B036-4FB0-B06D-29C006C1F9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2B0BB-B681-4620-BE35-F129316CEC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00966-59C5-4F45-94B6-5EBB97D434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6FD5E-C1CA-4533-810A-404808623F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27F81-4CFA-4FCE-B15E-6BA7F9153A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664D5-FF3C-43A5-B386-9D153CC89D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8993-2A31-47F3-B34F-590294627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711B-C30F-41A8-B6F7-85A71F70EC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A8E5-4276-4C25-974D-1D44FD1FB0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14AC-3DCE-4D14-B423-2F8182F749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2D43-6182-4834-AE4F-10C37780F7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14D6-B95E-4A2A-9285-A8AA42A1E5C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E417-001C-4A11-9132-3F866EA81B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E30F-7E17-484A-8EC1-11B3447744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1559-AAD4-4C3C-B5F6-827833EA37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4ACD-F0DE-46CE-A06D-F7BD0588825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0F24-44AE-4D7C-AD4E-14F14E83D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EC30-088A-4EDB-A461-0E941237D5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7BDC9-AA4F-4555-B646-FA4D0A15DA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7DFC2-8461-451D-9507-FE10DF8D03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40D58-6484-40DA-B1A8-DB1E0D82AC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AA923-A2E8-4959-901B-6E2B4D1E1D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58504-5AC3-437B-91AB-1E54A8997EB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93CF5-41D3-4436-8493-43C6C03D2B6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B5D61-CEDF-496A-B163-D8FAEFAC30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6235C-CF2A-4402-B230-46C35FFEC2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64AB6-8090-455E-8B2C-CA14C9FBC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40ED-8CBF-4CFC-A703-F8B23744979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AE2C9-C026-42BD-B23B-5E56906A82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86379-B5CF-4953-A85D-B8CE0F8C29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14CC3-EB26-4FEA-8273-6AA6350C4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1BC7-9B39-4093-9A2A-42F2800B00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07CA-A92B-47A7-A883-72A59AE796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7353-1044-4758-9940-5B91731F9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859F-77E7-448D-88B0-55A547C1C9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5598-8C53-4E55-82C8-BC7383152C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8639-44D7-4EAD-9B2C-1210673A7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A4D6-55B3-4AA7-89F7-C37F852999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C215-71A4-46B3-B725-4A2754A804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316F-F258-4DEC-BF7F-45863F63D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F278-911D-4594-ADFF-06BE90BC8F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B492-4795-4112-B5BE-514E0C42E6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7193-ECC4-4756-B530-452272EF1E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C5CF-5ED6-4EE2-9CE9-D8634B6527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5DCA-A6FA-4FA8-838E-61EDC597B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9DF2-4049-40F1-AA28-9BA143B5D4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8FE3-2420-49BD-B7B0-4D3F22C76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BC26-5146-4D7D-89B6-248AA7F58C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C2CD-0431-4D90-A0D3-93B63F3DAA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8CED-248C-4482-8A4F-CBE8228172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A773-CF94-42E0-88EA-0E34F226C6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ACC5-C0BC-4F86-AB25-D2872C8534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D886-2E34-4CC7-8D38-9945B8C2E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63A1-6BD4-4DCA-8BDC-71F787C1B8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0E3-6ABA-4D65-97F7-A9850848D2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BE2-6D55-43A9-99DB-793238E126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24B-3CBF-4525-B868-FFDDB478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4E5-07C5-41CD-87E0-419BA9E6C0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A42-2CAE-405C-831F-6E6217A26E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0BC-1E31-4B6C-9143-925478A87B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A36-BD42-47CB-AFFE-AC81BE1F93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2A0-7D6E-424E-9153-77E83CAFC1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D53-ED44-4090-AA25-D99EE97F06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13B-EFAC-44A0-9308-55F3801EB5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585-872D-4BF9-8B7E-2A75902AFE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CB3-6C02-4392-8581-E60227C0F3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1DB0-3D5E-4E90-9E86-862B2636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16A5D-FC33-4603-9B5F-A05D0681E3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DE052-645C-458E-B30D-6DE61A63DC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EF87-8A17-4ED5-992D-35457B0FC5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E13DA-4E4E-4166-8057-F7E7EE2930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61991-EF42-4CE5-992B-D2AA9ED332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9BFF-C590-40AA-A591-389672B0B4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EF3CD-CC8C-408E-87E5-663CE63D14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EA8A-94B4-4775-9A47-0E08B9E89E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9462-E603-47D4-82E0-89CBAA95B9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1547-3897-44D3-8899-DC28A5C24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39FA7-B28B-44AD-BC7E-1B313CFD6D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4D4D7-603A-4516-A2BA-B62DDE98D1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0E47-C148-43AC-A9E3-49C5B7007E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73A7-F84E-46C0-9C55-CB90C6F8CE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6557-8BFE-41D5-815E-82DC3C6BCF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DFFA6-D58A-4439-A934-3B00A88CF3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C9522-909A-45AA-AE4D-8E6564DD8C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326CD-2E98-4708-9DBA-7618F8F1F2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80CB-E265-4973-BBFF-6C2B958FB5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B7FF9-83BE-4BF2-A3AB-AD06A83DC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EACA8-1C2D-4AAA-97F9-99B3E1CA23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4B9C3-96E9-4AC0-AD2C-D98C4C4C99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8C7F-2C8D-4EBD-858C-843C95F1B0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ACCF-0748-4B3F-AD19-B39011B07A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42B-A991-4240-A484-E1E41FCF12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5A52-0499-485F-BB4A-B96D52AA90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2109-8E5D-4F32-AB20-814E23F2CB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63A-F170-447A-9FE4-09AFB64524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A2C6-EAE7-40E9-A207-F7D62E1A40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59DB-37B8-4504-8FE6-DB6EC8214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987-D8AF-4E6E-8021-63E50C0725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7976-B4BE-4884-9A84-EC200E6C5A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F766-8B5C-45D8-876A-547889D1C2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A66-E59A-49B6-B80D-EF6BE7038C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EB5F-96FD-4CA0-B62C-0346625C25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88281-49B9-444F-91B7-08A734C042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F5DAD-33F7-471F-BFD8-00A8F31F85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6F1D1-ADAD-45C6-999B-F9C5143090B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B63D6-DDE3-4CAC-BBD0-C95F5E7372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599E7-41E0-41EB-908E-1E92B58CB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7294F-728E-457C-8559-B2C89E18B9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F9BF8-6240-44EF-833D-24D5DA6AC8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79741-7236-4A42-B437-D1914681BC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A3B90-1B66-48C7-B166-96F3EA3503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27561-6B7A-4071-997D-7FAC899E12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7E1CD-2E0D-425A-8B69-8787175A783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2D67B-EED2-473C-847F-6F50BA901A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E8F28-33D6-4830-9678-0287FD6E8BA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FACDB-F2CD-47EE-9356-A31DF05570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5E971-9E2B-4479-BCF2-F14D80807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1F0-EB62-47C1-A071-BDE1EC04E41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305D-6F36-4967-BA3B-FC2B9699982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89D-7B85-4E25-B8B2-64C981674A5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CD00-96A8-48DE-A193-65D20643A08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D1F7-4945-4712-A0B8-95296FB2675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51FB-159B-4986-A814-168520F5009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913E-F70D-4F9A-9DBC-4931A681009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8B4-58A5-46B9-B18C-971D33EFB76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2ED-1FA4-45BE-97C2-83F0C974403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9B4-9919-4121-BE3A-43A0E75223F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5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 rot="10800000">
            <a:off x="5535720" y="1841400"/>
            <a:ext cx="7710480" cy="76788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-Effect Chai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9956880" y="3479760"/>
            <a:ext cx="0" cy="421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9461520" y="5359320"/>
            <a:ext cx="965160" cy="47484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0" y="0"/>
            <a:ext cx="10346400" cy="4201560"/>
            <a:chOff x="0" y="0"/>
            <a:chExt cx="10346400" cy="4201560"/>
          </a:xfrm>
        </p:grpSpPr>
        <p:pic>
          <p:nvPicPr>
            <p:cNvPr id="5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0089720" y="383544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9487080" y="701028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Stat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178840" y="2959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8178840" y="45975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8178840" y="614664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8166240" y="7658280"/>
          <a:ext cx="2146320" cy="49500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00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11023560" y="7074000"/>
            <a:ext cx="749520" cy="120636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469800" y="0"/>
            <a:ext cx="10630080" cy="7796160"/>
            <a:chOff x="469800" y="0"/>
            <a:chExt cx="10630080" cy="7796160"/>
          </a:xfrm>
        </p:grpSpPr>
        <p:grpSp>
          <p:nvGrpSpPr>
            <p:cNvPr id="555" name=""/>
            <p:cNvGrpSpPr/>
            <p:nvPr/>
          </p:nvGrpSpPr>
          <p:grpSpPr>
            <a:xfrm>
              <a:off x="469800" y="0"/>
              <a:ext cx="9442080" cy="7559280"/>
              <a:chOff x="469800" y="0"/>
              <a:chExt cx="9442080" cy="7559280"/>
            </a:xfrm>
          </p:grpSpPr>
          <p:pic>
            <p:nvPicPr>
              <p:cNvPr id="5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9528480" y="701028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flipH="1" flipV="1">
              <a:off x="10908720" y="720072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0858320" y="749268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0883880" y="763272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9474120" y="3809880"/>
            <a:ext cx="93816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9474120" y="535932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8060040" y="337824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12425400" y="29210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12555720" y="76201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2908440" y="3492360"/>
            <a:ext cx="0" cy="421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2413080" y="53722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0" y="0"/>
            <a:ext cx="3297600" cy="4214160"/>
            <a:chOff x="0" y="0"/>
            <a:chExt cx="3297600" cy="4214160"/>
          </a:xfrm>
        </p:grpSpPr>
        <p:pic>
          <p:nvPicPr>
            <p:cNvPr id="569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040920" y="384804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11"/>
          <a:stretch/>
        </p:blipFill>
        <p:spPr>
          <a:xfrm>
            <a:off x="2438280" y="7023240"/>
            <a:ext cx="938160" cy="46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"/>
          <p:cNvGraphicFramePr/>
          <p:nvPr/>
        </p:nvGraphicFramePr>
        <p:xfrm>
          <a:off x="1130400" y="29718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1130400" y="46101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1130400" y="61596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117440" y="76708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76" name="" descr=""/>
          <p:cNvPicPr/>
          <p:nvPr/>
        </p:nvPicPr>
        <p:blipFill>
          <a:blip r:embed="rId12"/>
          <a:stretch/>
        </p:blipFill>
        <p:spPr>
          <a:xfrm>
            <a:off x="3975120" y="7086600"/>
            <a:ext cx="749160" cy="12063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3"/>
          <a:stretch/>
        </p:blipFill>
        <p:spPr>
          <a:xfrm>
            <a:off x="2438280" y="7023240"/>
            <a:ext cx="938160" cy="4633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 flipH="1" flipV="1">
            <a:off x="3860280" y="7213320"/>
            <a:ext cx="163800" cy="11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3809880" y="7505280"/>
            <a:ext cx="201600" cy="1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835440" y="7645320"/>
            <a:ext cx="216000" cy="16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4"/>
          <a:stretch/>
        </p:blipFill>
        <p:spPr>
          <a:xfrm>
            <a:off x="2425680" y="3822840"/>
            <a:ext cx="938160" cy="4633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5"/>
          <a:stretch/>
        </p:blipFill>
        <p:spPr>
          <a:xfrm>
            <a:off x="2425680" y="5372280"/>
            <a:ext cx="938160" cy="463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3488040" y="340344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2026080" y="7683480"/>
            <a:ext cx="34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533840" y="3873600"/>
            <a:ext cx="3703680" cy="3733200"/>
            <a:chOff x="4533840" y="3873600"/>
            <a:chExt cx="3703680" cy="3733200"/>
          </a:xfrm>
        </p:grpSpPr>
        <p:grpSp>
          <p:nvGrpSpPr>
            <p:cNvPr id="586" name=""/>
            <p:cNvGrpSpPr/>
            <p:nvPr/>
          </p:nvGrpSpPr>
          <p:grpSpPr>
            <a:xfrm>
              <a:off x="4533840" y="3873600"/>
              <a:ext cx="3703680" cy="1401120"/>
              <a:chOff x="4533840" y="3873600"/>
              <a:chExt cx="3703680" cy="1401120"/>
            </a:xfrm>
          </p:grpSpPr>
          <p:sp>
            <p:nvSpPr>
              <p:cNvPr id="587" name=""/>
              <p:cNvSpPr/>
              <p:nvPr/>
            </p:nvSpPr>
            <p:spPr>
              <a:xfrm>
                <a:off x="4533840" y="3873600"/>
                <a:ext cx="1330200" cy="1363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981840" y="3922560"/>
                <a:ext cx="1255680" cy="1352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016600" y="5219280"/>
              <a:ext cx="2958840" cy="23875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Differe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caus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failur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A2D3-13C0-49F7-8ABE-EB784B2BB5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aring States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  <a:ea typeface="ヒラギノ角ゴ ProN W6"/>
              </a:rPr>
              <a:t>	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is a program state, anywa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can we compare stat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can we narrow down differenc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86B1F-799B-4D67-8227-1979E3FAF0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3" name=""/>
          <p:cNvSpPr/>
          <p:nvPr/>
        </p:nvSpPr>
        <p:spPr>
          <a:xfrm>
            <a:off x="3056760" y="2959200"/>
            <a:ext cx="314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sample 9 8 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539080" y="36831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Output: 7 8 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44800" y="4889520"/>
            <a:ext cx="4257360" cy="787320"/>
            <a:chOff x="2044800" y="4889520"/>
            <a:chExt cx="4257360" cy="787320"/>
          </a:xfrm>
        </p:grpSpPr>
        <p:sp>
          <p:nvSpPr>
            <p:cNvPr id="597" name=""/>
            <p:cNvSpPr/>
            <p:nvPr/>
          </p:nvSpPr>
          <p:spPr>
            <a:xfrm>
              <a:off x="2986560" y="4889520"/>
              <a:ext cx="331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sample 11 1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44800" y="4902120"/>
              <a:ext cx="457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$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539080" y="56642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Monaco"/>
                <a:ea typeface="Monaco"/>
              </a:rPr>
              <a:t>Output: 0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2336760" y="7112160"/>
            <a:ext cx="7365960" cy="1726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39152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Where is the defec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39152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which causes this failure?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9E45-FE63-44C0-946A-960A2F282C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47640" y="533520"/>
            <a:ext cx="11684160" cy="90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In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Sor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Out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65AB-A5F4-49A1-8D60-D7FF50C8AC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can access the entire state via the debugger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st all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a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and all references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596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til a fixpoint is fou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1037C-7AFE-46DD-B977-346A3E4F91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mo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452CB-C47F-4910-ABED-7EA6731792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ample Stat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520560" y="2844720"/>
            <a:ext cx="11990520" cy="55627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9323640" y="8369280"/>
            <a:ext cx="3338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t shell_sort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266B-CA3F-4EE1-830E-01C07CB494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arrowing State Diff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1200" y="2629080"/>
            <a:ext cx="11984040" cy="641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5AB8-2681-4350-AECC-6A22FC173C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IsolatingCauseEffectChains.ppt_media/AskIgor-19.mov" descr=""/>
          <p:cNvPicPr/>
          <p:nvPr/>
        </p:nvPicPr>
        <p:blipFill>
          <a:blip r:embed="rId2"/>
          <a:stretch/>
        </p:blipFill>
        <p:spPr>
          <a:xfrm>
            <a:off x="2463840" y="888840"/>
            <a:ext cx="8077320" cy="797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0661-49B8-49FB-BBF2-78847A9366F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IsolatingCauseEffectChains.ppt_media/AskIgor-20.mov" descr=""/>
          <p:cNvPicPr/>
          <p:nvPr/>
        </p:nvPicPr>
        <p:blipFill>
          <a:blip r:embed="rId2"/>
          <a:stretch/>
        </p:blipFill>
        <p:spPr>
          <a:xfrm>
            <a:off x="2463840" y="888840"/>
            <a:ext cx="8077320" cy="79758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8242200" y="8508960"/>
            <a:ext cx="1270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9D62-5A3A-425D-8C28-6F7B68A35389}" type="slidenum">
              <a:t>19</a:t>
            </a:fld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70080" y="2476440"/>
            <a:ext cx="104648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ouble bug(double z[], int n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 = 0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 (j = 0; j &lt; n; j++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 = i + j + 1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z[i] = z[i] * (z[0] + 1.0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z[n]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ug.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68DF-E76E-4AF4-8467-8719DE07F1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lex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cessing the state a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ab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not enough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ferences are not handl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iases are not handl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need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ich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represen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B70A2-AC6F-42B6-ABB0-7207B2F99E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Memory Graph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760" y="228600"/>
            <a:ext cx="12877920" cy="8572680"/>
            <a:chOff x="50760" y="228600"/>
            <a:chExt cx="12877920" cy="8572680"/>
          </a:xfrm>
        </p:grpSpPr>
        <p:sp>
          <p:nvSpPr>
            <p:cNvPr id="617" name=""/>
            <p:cNvSpPr/>
            <p:nvPr/>
          </p:nvSpPr>
          <p:spPr>
            <a:xfrm>
              <a:off x="241200" y="2819520"/>
              <a:ext cx="12687480" cy="59817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50760" y="228600"/>
              <a:ext cx="12414240" cy="535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291960" y="3046320"/>
            <a:ext cx="12414240" cy="536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3F43-2C65-4551-B7F9-0F44363B24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-76320" y="0"/>
            <a:ext cx="13576320" cy="10096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-5664240" y="38160"/>
            <a:ext cx="22386960" cy="966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16B4-8C14-4A4D-A396-AA3E6FAD6B23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20760" y="927000"/>
            <a:ext cx="12061800" cy="6222960"/>
            <a:chOff x="320760" y="927000"/>
            <a:chExt cx="12061800" cy="6222960"/>
          </a:xfrm>
        </p:grpSpPr>
        <p:sp>
          <p:nvSpPr>
            <p:cNvPr id="623" name=""/>
            <p:cNvSpPr/>
            <p:nvPr/>
          </p:nvSpPr>
          <p:spPr>
            <a:xfrm>
              <a:off x="622440" y="2590920"/>
              <a:ext cx="11760120" cy="455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14400" y="3504960"/>
              <a:ext cx="2413080" cy="72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320760" y="927000"/>
              <a:ext cx="11113920" cy="30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tructur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27000" y="7861320"/>
            <a:ext cx="11150640" cy="1092240"/>
            <a:chOff x="927000" y="7861320"/>
            <a:chExt cx="11150640" cy="1092240"/>
          </a:xfrm>
        </p:grpSpPr>
        <p:sp>
          <p:nvSpPr>
            <p:cNvPr id="628" name=""/>
            <p:cNvSpPr/>
            <p:nvPr/>
          </p:nvSpPr>
          <p:spPr>
            <a:xfrm>
              <a:off x="927000" y="7924680"/>
              <a:ext cx="1943280" cy="1028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&lt;root&gt;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37160" y="7924680"/>
              <a:ext cx="1942920" cy="1028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0x123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134360" y="7924680"/>
              <a:ext cx="1943280" cy="1028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7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2882880" y="844560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467480" y="844560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2120" y="7861320"/>
              <a:ext cx="235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75560" y="7861320"/>
              <a:ext cx="439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*(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255560" y="4275000"/>
            <a:ext cx="5373720" cy="3687480"/>
            <a:chOff x="4255560" y="4275000"/>
            <a:chExt cx="5373720" cy="3687480"/>
          </a:xfrm>
        </p:grpSpPr>
        <p:sp>
          <p:nvSpPr>
            <p:cNvPr id="636" name=""/>
            <p:cNvSpPr/>
            <p:nvPr/>
          </p:nvSpPr>
          <p:spPr>
            <a:xfrm flipH="1">
              <a:off x="8884800" y="4379760"/>
              <a:ext cx="726840" cy="3524040"/>
            </a:xfrm>
            <a:prstGeom prst="line">
              <a:avLst/>
            </a:prstGeom>
            <a:ln w="25560">
              <a:solidFill>
                <a:srgbClr val="989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255560" y="4275000"/>
              <a:ext cx="5373720" cy="3687480"/>
            </a:xfrm>
            <a:prstGeom prst="line">
              <a:avLst/>
            </a:prstGeom>
            <a:ln w="25560">
              <a:solidFill>
                <a:srgbClr val="989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901520" y="6491160"/>
            <a:ext cx="9061920" cy="1530000"/>
            <a:chOff x="1901520" y="6491160"/>
            <a:chExt cx="9061920" cy="1530000"/>
          </a:xfrm>
        </p:grpSpPr>
        <p:sp>
          <p:nvSpPr>
            <p:cNvPr id="639" name=""/>
            <p:cNvSpPr/>
            <p:nvPr/>
          </p:nvSpPr>
          <p:spPr>
            <a:xfrm>
              <a:off x="6059520" y="6491160"/>
              <a:ext cx="588960" cy="1530000"/>
            </a:xfrm>
            <a:prstGeom prst="line">
              <a:avLst/>
            </a:prstGeom>
            <a:ln w="25560">
              <a:solidFill>
                <a:srgbClr val="989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901520" y="6529320"/>
              <a:ext cx="4157640" cy="1334520"/>
            </a:xfrm>
            <a:prstGeom prst="line">
              <a:avLst/>
            </a:prstGeom>
            <a:ln w="25560">
              <a:solidFill>
                <a:srgbClr val="989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59520" y="6510240"/>
              <a:ext cx="4903920" cy="1432800"/>
            </a:xfrm>
            <a:prstGeom prst="line">
              <a:avLst/>
            </a:prstGeom>
            <a:ln w="25560">
              <a:solidFill>
                <a:srgbClr val="989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0F2B-3448-4E6D-9B09-D2FA24EF6A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stru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&lt;root&gt; node and base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ase variables are on the stack and at fixed loc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and all references, checking for aliases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til all accessible variables are unfold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1EF5-819B-499C-A0BB-EBEBF172989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folding Memo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variable: make new n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uctures: unfold all memb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rays: unfold all elem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inters: unfold object being pointed t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oes p point to something?  And how man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C4F18-C50E-419A-9C17-219E613414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4863960" y="5664240"/>
            <a:ext cx="787428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5105520" y="5702400"/>
            <a:ext cx="7594560" cy="37083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aring Stat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9" name=""/>
          <p:cNvSpPr/>
          <p:nvPr/>
        </p:nvSpPr>
        <p:spPr>
          <a:xfrm>
            <a:off x="203040" y="2146320"/>
            <a:ext cx="787428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254160" y="2373480"/>
            <a:ext cx="7594560" cy="32796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-61920" y="5842080"/>
            <a:ext cx="2881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10223640" y="4965840"/>
            <a:ext cx="28828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65A2-BEDB-4B5C-AE9D-E9ED1A845D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aring Stat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mpute common subgrap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node that is not part of the common subgraph becom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iffere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plying a difference means to create or delete nodes – and adjust refere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this is done within GDB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0326-E837-4A34-A1D3-B4DD482E00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pplying Diff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299880" y="2438280"/>
            <a:ext cx="12420720" cy="703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1B37-2E80-4CFA-A754-D610B44FED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03320" y="981000"/>
            <a:ext cx="12818880" cy="779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F61B-CC9C-4F18-8FD2-481DEA1DAD8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solatingCauseEffectChains.ppt_media/gcc-10.mov" descr=""/>
          <p:cNvPicPr/>
          <p:nvPr/>
        </p:nvPicPr>
        <p:blipFill>
          <a:blip r:embed="rId2"/>
          <a:stretch/>
        </p:blipFill>
        <p:spPr>
          <a:xfrm>
            <a:off x="317520" y="622440"/>
            <a:ext cx="12352320" cy="85089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43400" y="3886200"/>
            <a:ext cx="6108480" cy="19810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cause of this failure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05DC-B764-479A-8165-41EABA3C62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0" y="0"/>
            <a:ext cx="13000320" cy="7329240"/>
            <a:chOff x="0" y="0"/>
            <a:chExt cx="13000320" cy="7329240"/>
          </a:xfrm>
        </p:grpSpPr>
        <p:grpSp>
          <p:nvGrpSpPr>
            <p:cNvPr id="659" name=""/>
            <p:cNvGrpSpPr/>
            <p:nvPr/>
          </p:nvGrpSpPr>
          <p:grpSpPr>
            <a:xfrm>
              <a:off x="0" y="0"/>
              <a:ext cx="13000320" cy="7329240"/>
              <a:chOff x="0" y="0"/>
              <a:chExt cx="13000320" cy="7329240"/>
            </a:xfrm>
          </p:grpSpPr>
          <p:pic>
            <p:nvPicPr>
              <p:cNvPr id="6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6502320" cy="39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6501960" y="3378240"/>
                <a:ext cx="6498360" cy="395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438960" y="2387520"/>
              <a:ext cx="6476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50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56db5b"/>
                  </a:solidFill>
                  <a:latin typeface="Gill Sans"/>
                  <a:ea typeface="Gill Sans"/>
                </a:rPr>
                <a:t>Sane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0" y="1003320"/>
            <a:ext cx="6654960" cy="3956040"/>
            <a:chOff x="0" y="1003320"/>
            <a:chExt cx="6654960" cy="3956040"/>
          </a:xfrm>
        </p:grpSpPr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152280" y="1003320"/>
              <a:ext cx="65026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0" y="2400480"/>
              <a:ext cx="6654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Infect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in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 rot="2640000">
            <a:off x="1763280" y="4887720"/>
            <a:ext cx="2432160" cy="449244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203720" y="6311880"/>
            <a:ext cx="6625800" cy="2538000"/>
            <a:chOff x="4203720" y="6311880"/>
            <a:chExt cx="6625800" cy="2538000"/>
          </a:xfrm>
        </p:grpSpPr>
        <p:sp>
          <p:nvSpPr>
            <p:cNvPr id="671" name=""/>
            <p:cNvSpPr/>
            <p:nvPr/>
          </p:nvSpPr>
          <p:spPr>
            <a:xfrm>
              <a:off x="4203720" y="6388200"/>
              <a:ext cx="2651040" cy="123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34680" y="7569360"/>
              <a:ext cx="51944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e differe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auses GCC to crash!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111800" y="6311880"/>
              <a:ext cx="3717720" cy="1279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 rot="19800000">
            <a:off x="10031400" y="4888080"/>
            <a:ext cx="2432160" cy="44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C461-FE14-4DD0-B54C-E3CCCD4F380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320840" y="1905120"/>
            <a:ext cx="8432640" cy="6896160"/>
            <a:chOff x="1320840" y="1905120"/>
            <a:chExt cx="8432640" cy="6896160"/>
          </a:xfrm>
        </p:grpSpPr>
        <p:sp>
          <p:nvSpPr>
            <p:cNvPr id="682" name=""/>
            <p:cNvSpPr/>
            <p:nvPr/>
          </p:nvSpPr>
          <p:spPr>
            <a:xfrm>
              <a:off x="3098880" y="8077320"/>
              <a:ext cx="6654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ix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320840" y="1905120"/>
              <a:ext cx="7624800" cy="6183000"/>
              <a:chOff x="1320840" y="1905120"/>
              <a:chExt cx="7624800" cy="6183000"/>
            </a:xfrm>
          </p:grpSpPr>
          <p:pic>
            <p:nvPicPr>
              <p:cNvPr id="6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0840" y="1905120"/>
                <a:ext cx="2733480" cy="16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3809880" y="4627440"/>
                <a:ext cx="2290320" cy="3460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869520" y="4521240"/>
                <a:ext cx="2076120" cy="348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0" y="-360"/>
            <a:ext cx="9917280" cy="6345360"/>
            <a:chOff x="0" y="-360"/>
            <a:chExt cx="9917280" cy="6345360"/>
          </a:xfrm>
        </p:grpSpPr>
        <p:sp>
          <p:nvSpPr>
            <p:cNvPr id="688" name=""/>
            <p:cNvSpPr/>
            <p:nvPr/>
          </p:nvSpPr>
          <p:spPr>
            <a:xfrm>
              <a:off x="940608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691" name=""/>
            <p:cNvSpPr/>
            <p:nvPr/>
          </p:nvSpPr>
          <p:spPr>
            <a:xfrm>
              <a:off x="305496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5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"/>
          <p:cNvGrpSpPr/>
          <p:nvPr/>
        </p:nvGrpSpPr>
        <p:grpSpPr>
          <a:xfrm>
            <a:off x="-720" y="-720"/>
            <a:ext cx="8779320" cy="7799760"/>
            <a:chOff x="-720" y="-720"/>
            <a:chExt cx="8779320" cy="7799760"/>
          </a:xfrm>
        </p:grpSpPr>
        <p:sp>
          <p:nvSpPr>
            <p:cNvPr id="695" name=""/>
            <p:cNvSpPr/>
            <p:nvPr/>
          </p:nvSpPr>
          <p:spPr>
            <a:xfrm>
              <a:off x="848664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696" name="" descr=""/>
            <p:cNvPicPr/>
            <p:nvPr/>
          </p:nvPicPr>
          <p:blipFill>
            <a:blip r:embed="rId6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25E77-E433-4B53-9247-6C3E0C350AB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422360" y="2070000"/>
            <a:ext cx="10158480" cy="7110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A637-5FA6-4AD8-9B8D-2699914C781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422360" y="2070000"/>
            <a:ext cx="10158480" cy="7110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/>
            </a:outerShdw>
          </a:effectLst>
        </p:spPr>
      </p:pic>
      <p:sp>
        <p:nvSpPr>
          <p:cNvPr id="701" name=""/>
          <p:cNvSpPr/>
          <p:nvPr/>
        </p:nvSpPr>
        <p:spPr>
          <a:xfrm>
            <a:off x="12600" y="4559400"/>
            <a:ext cx="12979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irst_loop_store_insn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1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1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 fld[3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1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code == PLU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6903-5997-4595-B7CC-090D2CB8C21A}" type="slidenum">
              <a:t>33</a:t>
            </a:fld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708" name=""/>
          <p:cNvGrpSpPr/>
          <p:nvPr/>
        </p:nvGrpSpPr>
        <p:grpSpPr>
          <a:xfrm>
            <a:off x="1320840" y="1905120"/>
            <a:ext cx="8432640" cy="6896160"/>
            <a:chOff x="1320840" y="1905120"/>
            <a:chExt cx="8432640" cy="6896160"/>
          </a:xfrm>
        </p:grpSpPr>
        <p:sp>
          <p:nvSpPr>
            <p:cNvPr id="709" name=""/>
            <p:cNvSpPr/>
            <p:nvPr/>
          </p:nvSpPr>
          <p:spPr>
            <a:xfrm>
              <a:off x="3098880" y="8077320"/>
              <a:ext cx="6654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ix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1320840" y="1905120"/>
              <a:ext cx="7624800" cy="6183000"/>
              <a:chOff x="1320840" y="1905120"/>
              <a:chExt cx="7624800" cy="6183000"/>
            </a:xfrm>
          </p:grpSpPr>
          <p:pic>
            <p:nvPicPr>
              <p:cNvPr id="7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0840" y="1905120"/>
                <a:ext cx="2733480" cy="16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"/>
              <p:cNvSpPr/>
              <p:nvPr/>
            </p:nvSpPr>
            <p:spPr>
              <a:xfrm>
                <a:off x="3809880" y="4627440"/>
                <a:ext cx="2290320" cy="3460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869520" y="4521240"/>
                <a:ext cx="2076120" cy="348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0" y="-360"/>
            <a:ext cx="9917280" cy="6345360"/>
            <a:chOff x="0" y="-360"/>
            <a:chExt cx="9917280" cy="6345360"/>
          </a:xfrm>
        </p:grpSpPr>
        <p:sp>
          <p:nvSpPr>
            <p:cNvPr id="715" name=""/>
            <p:cNvSpPr/>
            <p:nvPr/>
          </p:nvSpPr>
          <p:spPr>
            <a:xfrm>
              <a:off x="940608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7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718" name=""/>
            <p:cNvSpPr/>
            <p:nvPr/>
          </p:nvSpPr>
          <p:spPr>
            <a:xfrm>
              <a:off x="305496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5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"/>
          <p:cNvGrpSpPr/>
          <p:nvPr/>
        </p:nvGrpSpPr>
        <p:grpSpPr>
          <a:xfrm>
            <a:off x="-720" y="-720"/>
            <a:ext cx="8779320" cy="7799760"/>
            <a:chOff x="-720" y="-720"/>
            <a:chExt cx="8779320" cy="7799760"/>
          </a:xfrm>
        </p:grpSpPr>
        <p:sp>
          <p:nvSpPr>
            <p:cNvPr id="722" name=""/>
            <p:cNvSpPr/>
            <p:nvPr/>
          </p:nvSpPr>
          <p:spPr>
            <a:xfrm>
              <a:off x="848664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23" name="" descr=""/>
            <p:cNvPicPr/>
            <p:nvPr/>
          </p:nvPicPr>
          <p:blipFill>
            <a:blip r:embed="rId6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6F36A-AB9D-42B5-8C18-333F93B8DF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5130720" y="6426360"/>
            <a:ext cx="2733840" cy="1663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9405720" y="56134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 rot="16200000">
            <a:off x="7315920" y="4809240"/>
            <a:ext cx="2167200" cy="1943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3054960" y="56260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2781360" y="7289640"/>
            <a:ext cx="10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5"/>
          <a:stretch/>
        </p:blipFill>
        <p:spPr>
          <a:xfrm>
            <a:off x="3581280" y="4737240"/>
            <a:ext cx="1959120" cy="21841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8507520" y="7238880"/>
            <a:ext cx="291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Lucida Grande"/>
                <a:ea typeface="Lucida Grande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6"/>
          <a:stretch/>
        </p:blipFill>
        <p:spPr>
          <a:xfrm rot="1559400">
            <a:off x="7197480" y="7162920"/>
            <a:ext cx="1143000" cy="985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7759800" y="4229280"/>
            <a:ext cx="1041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860280" y="4216320"/>
            <a:ext cx="1103400" cy="19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CE10-9B8E-4B65-8CAC-6D798FCE71D7}" type="slidenum">
              <a:t>35</a:t>
            </a:fld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757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758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873600" y="8166240"/>
            <a:ext cx="4965120" cy="0"/>
            <a:chOff x="3873600" y="8166240"/>
            <a:chExt cx="4965120" cy="0"/>
          </a:xfrm>
        </p:grpSpPr>
        <p:sp>
          <p:nvSpPr>
            <p:cNvPr id="762" name=""/>
            <p:cNvSpPr/>
            <p:nvPr/>
          </p:nvSpPr>
          <p:spPr>
            <a:xfrm>
              <a:off x="7810200" y="8166240"/>
              <a:ext cx="1028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873600" y="8166240"/>
              <a:ext cx="1257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765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94C37-E755-4817-A36E-7DA03377FE67}" type="slidenum">
              <a:t>36</a:t>
            </a:fld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7786800" y="422604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3860280" y="4229280"/>
            <a:ext cx="111780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5006520" y="584208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7799400" y="618156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73600" y="6184800"/>
            <a:ext cx="111744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12600" y="6896160"/>
            <a:ext cx="1297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link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 == lin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54F24-B801-4D8D-850A-D0FCF3538804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802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803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029920" y="7823160"/>
            <a:ext cx="264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Tree cycl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810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022E6-FCD6-4D06-9A54-5EE0261020B7}" type="slidenum">
              <a:t>38</a:t>
            </a:fld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2692440" y="825480"/>
            <a:ext cx="7645320" cy="80136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 rot="19080000">
            <a:off x="7048440" y="6567120"/>
            <a:ext cx="32511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327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Download at AskIgor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EEAF-3179-416D-A12E-BC1DCC449CB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4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270080" y="2641680"/>
            <a:ext cx="5765760" cy="445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-457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programmer creat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– an error in the cod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n executed, the defect creates a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nfection –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error in the stat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propagate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caus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failur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rom Defect to Failur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453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4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460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4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465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467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600200" y="4127040"/>
            <a:ext cx="8457840" cy="4331160"/>
            <a:chOff x="1600200" y="4127040"/>
            <a:chExt cx="8457840" cy="4331160"/>
          </a:xfrm>
        </p:grpSpPr>
        <p:sp>
          <p:nvSpPr>
            <p:cNvPr id="471" name=""/>
            <p:cNvSpPr/>
            <p:nvPr/>
          </p:nvSpPr>
          <p:spPr>
            <a:xfrm>
              <a:off x="1600200" y="7442280"/>
              <a:ext cx="5435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88920">
                <a:lnSpc>
                  <a:spcPct val="100000"/>
                </a:lnSpc>
                <a:tabLst>
                  <a:tab algn="l" pos="0"/>
                  <a:tab algn="l" pos="736560"/>
                  <a:tab algn="l" pos="5454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is infection chain must be traced back – and broken.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8635320" y="4127040"/>
              <a:ext cx="1422720" cy="3804120"/>
              <a:chOff x="8635320" y="4127040"/>
              <a:chExt cx="1422720" cy="3804120"/>
            </a:xfrm>
          </p:grpSpPr>
          <p:sp>
            <p:nvSpPr>
              <p:cNvPr id="473" name=""/>
              <p:cNvSpPr/>
              <p:nvPr/>
            </p:nvSpPr>
            <p:spPr>
              <a:xfrm flipV="1">
                <a:off x="8635320" y="6413400"/>
                <a:ext cx="1414440" cy="1517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10045800" y="4838400"/>
                <a:ext cx="0" cy="1562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613440" y="4127040"/>
                <a:ext cx="444600" cy="684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11841120" y="29462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11971800" y="76453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6D3-A759-4480-BDE7-A354D903236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apturing Stat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for Python progra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1498680" y="3149640"/>
            <a:ext cx="100202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__name__ == "__main__"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3759120"/>
            <a:ext cx="1002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sys.settrace(tracer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5943600"/>
            <a:ext cx="109346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ef tracer(frame, event, arg)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dump_stack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fram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trac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54F3-40C0-44EE-9ACC-33EA82F5CED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pturing Stat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Python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21" name=""/>
          <p:cNvSpPr/>
          <p:nvPr/>
        </p:nvSpPr>
        <p:spPr>
          <a:xfrm>
            <a:off x="1028880" y="2959200"/>
            <a:ext cx="109346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dump_stack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frame)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while frame is not None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ump_frame(fram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rame = frame.f_bac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1028880" y="5892840"/>
            <a:ext cx="109346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dump_fram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frame)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locals = frame.f_loca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globals = frame.f_globa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 locals, globa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C8DD-AB33-4BE6-8A6E-5021815B36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nipulating Stat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Python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24" name=""/>
          <p:cNvSpPr/>
          <p:nvPr/>
        </p:nvSpPr>
        <p:spPr>
          <a:xfrm>
            <a:off x="1028880" y="2933640"/>
            <a:ext cx="109346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dump_fram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frame)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locals = frame.f_loca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locals['a'] = 42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4761000" y="6946920"/>
            <a:ext cx="6340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quivalent to assig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= 42” in fra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>
            <a:off x="5219640" y="4838760"/>
            <a:ext cx="2135160" cy="22017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64B9-7280-44A8-B24D-B071EFE3D9B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vea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642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110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ython frame objects are translated back to internal fram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nly after tracer() has returned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88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rames can b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sp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t any time, bu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hang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nly in tracer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988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utput of variables during tracer() may inhibit their translation at retur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ED0F-10DE-446F-A569-C78EE86DDF1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en Iss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capture an accurate stat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ensure the cause is vali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does a state end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is the cos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he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 we compare stat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8694720" y="7162920"/>
            <a:ext cx="3298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(next lectur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FC9F-FA8A-4974-A605-F3CB6F67087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lta Debugging on program states isolat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-effect chai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rough the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 memory graph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extract and compare program stat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manding, yet effective techniq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21CD6-0A5B-492F-AFE5-34630D978A9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9791-F3F3-4E5F-91C3-19105B6C244C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7480" y="25380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486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1046484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very infection, we must find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arlier infec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 analysis tells u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ossible 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4CC2-A701-4BF9-949F-AC12319B9B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-1745640" y="2425320"/>
          <a:ext cx="14826600" cy="6121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556560"/>
                <a:gridCol w="441720"/>
                <a:gridCol w="9531720"/>
              </a:tblGrid>
              <a:tr h="272880">
                <a:tc gridSpan="11"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4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2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1c1c2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120"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25380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023240" y="58420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642000" y="2730600"/>
            <a:ext cx="1181160" cy="2419200"/>
            <a:chOff x="6642000" y="2730600"/>
            <a:chExt cx="1181160" cy="2419200"/>
          </a:xfrm>
        </p:grpSpPr>
        <p:sp>
          <p:nvSpPr>
            <p:cNvPr id="506" name=""/>
            <p:cNvSpPr/>
            <p:nvPr/>
          </p:nvSpPr>
          <p:spPr>
            <a:xfrm>
              <a:off x="6642000" y="4419720"/>
              <a:ext cx="907920" cy="73008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51480" y="3441960"/>
              <a:ext cx="571680" cy="4060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30840" y="2730600"/>
              <a:ext cx="292320" cy="2030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41BF1-841C-41C3-A01A-F968C0EB7FF2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l Code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  <a:ea typeface="ヒラギノ角ゴ ProN W6"/>
              </a:rPr>
              <a:t>	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paque – e.g. third-party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rallel – threads and proces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tributed – across multiple machi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– e.g. reflection in Jav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ltilingual – say, Python + C + SQ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344A-2F24-4621-AEBA-206AA9DBBD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cure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2" name=""/>
          <p:cNvSpPr/>
          <p:nvPr/>
        </p:nvSpPr>
        <p:spPr>
          <a:xfrm>
            <a:off x="2400480" y="2705040"/>
            <a:ext cx="86486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struct foo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tp, len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union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har        c[1]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        i[1]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struct foo *p[1]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483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270080" y="7848720"/>
          <a:ext cx="10463040" cy="977760"/>
        </p:xfrm>
        <a:graphic>
          <a:graphicData uri="http://schemas.openxmlformats.org/drawingml/2006/table">
            <a:tbl>
              <a:tblPr/>
              <a:tblGrid>
                <a:gridCol w="2615400"/>
                <a:gridCol w="2615760"/>
                <a:gridCol w="1307880"/>
                <a:gridCol w="1308240"/>
                <a:gridCol w="1307520"/>
                <a:gridCol w="1308240"/>
              </a:tblGrid>
              <a:tr h="9777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p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le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[0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[1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[2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…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1270080" y="7848720"/>
          <a:ext cx="10463040" cy="977760"/>
        </p:xfrm>
        <a:graphic>
          <a:graphicData uri="http://schemas.openxmlformats.org/drawingml/2006/table">
            <a:tbl>
              <a:tblPr/>
              <a:tblGrid>
                <a:gridCol w="2615400"/>
                <a:gridCol w="2615760"/>
                <a:gridCol w="2616120"/>
                <a:gridCol w="2615760"/>
              </a:tblGrid>
              <a:tr h="9777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p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le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i[0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i[1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1270080" y="7848720"/>
          <a:ext cx="10463040" cy="977760"/>
        </p:xfrm>
        <a:graphic>
          <a:graphicData uri="http://schemas.openxmlformats.org/drawingml/2006/table">
            <a:tbl>
              <a:tblPr/>
              <a:tblGrid>
                <a:gridCol w="2615400"/>
                <a:gridCol w="2615760"/>
                <a:gridCol w="5231880"/>
              </a:tblGrid>
              <a:tr h="9777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p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le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[0]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727B-16D2-467B-9498-832051835C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In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7" name=""/>
          <p:cNvSpPr/>
          <p:nvPr/>
        </p:nvSpPr>
        <p:spPr>
          <a:xfrm>
            <a:off x="2882880" y="3492360"/>
            <a:ext cx="0" cy="421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104840" y="29718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1092240" y="76708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949560" y="7086600"/>
            <a:ext cx="749520" cy="1206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 flipH="1" flipV="1">
            <a:off x="3835440" y="7213320"/>
            <a:ext cx="163440" cy="11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784680" y="7505280"/>
            <a:ext cx="201600" cy="1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09880" y="7645320"/>
            <a:ext cx="216000" cy="16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1344600" y="4863960"/>
            <a:ext cx="3089160" cy="1524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25" name=""/>
          <p:cNvSpPr/>
          <p:nvPr/>
        </p:nvSpPr>
        <p:spPr>
          <a:xfrm>
            <a:off x="3921120" y="341640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2000880" y="7683480"/>
            <a:ext cx="34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9995040" y="3492360"/>
            <a:ext cx="0" cy="421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217000" y="29718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8204040" y="76708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11061720" y="7086600"/>
            <a:ext cx="749160" cy="1206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 flipV="1">
            <a:off x="10946880" y="7213320"/>
            <a:ext cx="163800" cy="11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10896480" y="7505280"/>
            <a:ext cx="201600" cy="1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0922040" y="7645320"/>
            <a:ext cx="216000" cy="16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8458200" y="4863960"/>
            <a:ext cx="3087720" cy="1524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35" name=""/>
          <p:cNvSpPr/>
          <p:nvPr/>
        </p:nvSpPr>
        <p:spPr>
          <a:xfrm>
            <a:off x="8175600" y="341640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9087120" y="7645320"/>
            <a:ext cx="38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533840" y="3873600"/>
            <a:ext cx="3703680" cy="3733200"/>
            <a:chOff x="4533840" y="3873600"/>
            <a:chExt cx="3703680" cy="3733200"/>
          </a:xfrm>
        </p:grpSpPr>
        <p:grpSp>
          <p:nvGrpSpPr>
            <p:cNvPr id="538" name=""/>
            <p:cNvGrpSpPr/>
            <p:nvPr/>
          </p:nvGrpSpPr>
          <p:grpSpPr>
            <a:xfrm>
              <a:off x="4533840" y="3873600"/>
              <a:ext cx="3703680" cy="1401120"/>
              <a:chOff x="4533840" y="3873600"/>
              <a:chExt cx="3703680" cy="1401120"/>
            </a:xfrm>
          </p:grpSpPr>
          <p:sp>
            <p:nvSpPr>
              <p:cNvPr id="539" name=""/>
              <p:cNvSpPr/>
              <p:nvPr/>
            </p:nvSpPr>
            <p:spPr>
              <a:xfrm>
                <a:off x="4533840" y="3873600"/>
                <a:ext cx="1330200" cy="1363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6981840" y="3922560"/>
                <a:ext cx="1255680" cy="1352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016600" y="5219280"/>
              <a:ext cx="2958840" cy="238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Differenc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caus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failur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35B5-DF8E-451F-BEF4-0BFFFBD558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