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2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8.jpeg" ContentType="image/jpe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7.jpeg" ContentType="image/jpeg"/>
  <Override PartName="/ppt/media/image6.png" ContentType="image/png"/>
  <Override PartName="/ppt/media/image36.png" ContentType="image/png"/>
  <Override PartName="/ppt/media/image12.png" ContentType="image/png"/>
  <Override PartName="/ppt/media/image33.png" ContentType="image/png"/>
  <Override PartName="/ppt/media/image13.png" ContentType="image/png"/>
  <Override PartName="/ppt/media/image37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move the slid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State of the GNU compiler (GCC)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42991 vertices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44290 edges - and 1 is wrong :-)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An actual GCC execution has millions of these states.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n F-16 fighter plane on the northern hemisphere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Why the northern hemisphere, you ask?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FIXME: argv[0] should be “sample”, not “11”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Because </a:t>
            </a:r>
            <a:r>
              <a:rPr b="1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is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 is what an F-16 on the southern hemisphere would look like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(BTW, interesting effect if you drop a bomb :-)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rom risks.digest, volume 3, issue 44: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o Since the F-16 is a fly-by-wire aircraft, the computer keeps the pilot from 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doing dumb things to himself. So if the pilot jerks hard over on the 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joystick, the computer will instruct the flight surfaces to make a nice and 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easy 4 or 5 G flip. But the plane can withstand a much higher flip than that. 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So when they were 'flying' the F-16 in simulation over the equator, the 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computer got confused and instantly flipped the plane over, killing the 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pilot [in simulation].  And since it can fly forever upside down, it would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do so until it ran out of fuel. [...]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o The computer system onboard has a weapons management system that will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attempt to keep the plane flying level by dispersing weapons and empty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fuel tanks in a balanced fashion. So if you ask to drop a bomb, the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computer will figure out whether to drop a port or starboard bomb in order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to keep the load even. One of the early problems with that was the fact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that you could flip the plane over and the computer would gladly let you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drop a bomb or fuel tank. It would drop, dent the wing, and then roll off.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BTW, this adds a new twist to the term “NATO” :-)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From risks.digest, volume 3, issue 44: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o One of the first things the Air Force test pilots tried on an early F-16 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was to tell the computer to raise the landing gear while standing still on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the runway. Guess what happened? Scratch one F-16. (my friend says there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is a new subroutine in the code called 'wait_on_wheels' now...) [weight?]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(Folklore has it that the programmer checked the height above sea level rather than the height above ground -AZ)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Retrieved by a technician from the Harvard Mark II machine on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September 9, 1947.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onaco"/>
                <a:ea typeface="Monaco"/>
              </a:rPr>
              <a:t>Now on display at the Smithsonian, Washington</a:t>
            </a: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7F376-B63C-4EB2-A186-F6AD2E55CFD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80B94-354C-4312-B1F1-11F4F480C4E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1DA32-97B9-476D-922C-DE8D995A5A0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11278-E9F2-47FA-B84E-D208AC4CCC7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01DA1-A312-4101-A0A4-52F3BF83FF29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F8FB1-F8A8-40B7-AA03-945FA295148F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91DAE-9034-4356-99AA-34BE9DCC4851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B9222-0BD0-4FB2-9594-279BF422B9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3F001-E6A1-4547-8C60-AE43624D7B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0C6F4-C1E8-4DCF-9547-D2DFCAFB61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DC24D-7E49-420C-A3E4-B8ECF8FE0B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F777F-46B9-408B-8274-549BF8293B0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2F989-6FC5-45F4-8FCB-810543D2D8C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735F1-A2B6-4C16-8846-69B6F616C85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60844-060B-480C-84F7-9AA4F6CFEEB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DAE47-4887-4028-BEF2-5BA30198F4B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41C5A-D4DD-47E7-BF3F-62E22A16C4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28244-56A3-4E47-93BF-2B6E55159A7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49587-C42C-4E99-B3FA-E2A33DC2001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23382-AEBB-422B-B40F-0ACC846E478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CDA6A-E811-473F-B839-9E7CEC61301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EBDCE-EDF3-47D9-8907-FD67EB06B11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0A137-A7E3-4AE9-81C0-1B97CCF5DED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596EF-F627-4419-AF46-8A69B9DF346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4960-04E7-4F49-971D-DA3ACB69CB4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5B08-B577-4112-B08D-73607058D1C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0559-F3C7-4C9A-B249-917E04113D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A89F-D640-4553-866F-4970823AC40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8804-1338-4C3A-B5F5-245DD879E84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195C-914D-41C9-94B9-F18EF4D61EB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A996-7504-41F3-91DC-2ABA4280E46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F052-6680-4B2A-BB99-DEC2DF3E4E1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B75F-E4BB-4305-B2A1-4E899BE0D4C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494F-D7F6-449B-9D58-8B7A7D4DEBD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14DB-2619-4DFA-986B-AF6D87CB911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5931-5CB0-4512-930D-BEDC5BB484E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1AB484-832B-4569-9319-DDCA36330B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9E9CC-B5CF-46DF-A8B3-D82C5A05482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4D0AA9-7989-42C1-9A35-C8A4392972F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379D41-D910-4D9F-B4A6-8E4261F73B3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1FE7F-6F56-478F-9350-2209AE1C2C1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20D16A-E191-47B0-BD1A-7AEDB9C670A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2A350-4084-485D-8454-2DE76F8E6AD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52617-8528-468B-A585-E138C14AFDC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81C69-2EBA-4222-9F2F-B8E5A0FB645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F8C6BD-6865-4D71-BBCE-23C83D00C99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608190-E0C4-4C76-87BC-1B69F8F738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20DCF-8FBD-4583-A0FC-F570DB3DC37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5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ldNum" idx="1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7B3D-D502-4CF4-89A9-F627B4380DA2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80748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3264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4592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5956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48472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70308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962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47852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6048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2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9561-821F-4FAD-8A65-A777E9E999BB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60012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7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33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9092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3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FD59-15A1-4A09-9702-56A6C6CE894D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Num" idx="4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3FA2-C04F-486E-9A77-9FC452B2471F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80748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3264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4592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5956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48472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5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" descr=""/>
          <p:cNvPicPr/>
          <p:nvPr/>
        </p:nvPicPr>
        <p:blipFill>
          <a:blip r:embed="rId2"/>
          <a:stretch/>
        </p:blipFill>
        <p:spPr>
          <a:xfrm>
            <a:off x="7596360" y="4521240"/>
            <a:ext cx="5814720" cy="579132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Andreas Zeller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482400" y="1638360"/>
            <a:ext cx="12179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How Failures Come to b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he Traffic Principl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aphicFrame>
        <p:nvGraphicFramePr>
          <p:cNvPr id="654" name=""/>
          <p:cNvGraphicFramePr/>
          <p:nvPr/>
        </p:nvGraphicFramePr>
        <p:xfrm>
          <a:off x="3695760" y="2438280"/>
          <a:ext cx="635040" cy="5918400"/>
        </p:xfrm>
        <a:graphic>
          <a:graphicData uri="http://schemas.openxmlformats.org/drawingml/2006/table">
            <a:tbl>
              <a:tblPr/>
              <a:tblGrid>
                <a:gridCol w="635040"/>
              </a:tblGrid>
              <a:tr h="84888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T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628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R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924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A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628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F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924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F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924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I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924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C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4305240" y="2438280"/>
          <a:ext cx="5600880" cy="5918400"/>
        </p:xfrm>
        <a:graphic>
          <a:graphicData uri="http://schemas.openxmlformats.org/drawingml/2006/table">
            <a:tbl>
              <a:tblPr/>
              <a:tblGrid>
                <a:gridCol w="5600880"/>
              </a:tblGrid>
              <a:tr h="84888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rack the problem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628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eproduce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924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utomate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628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ind Origins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924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ocus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924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solate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924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orrect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843DD-6C10-4EC9-8C86-252847DD94A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he Traffic Principl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aphicFrame>
        <p:nvGraphicFramePr>
          <p:cNvPr id="657" name=""/>
          <p:cNvGraphicFramePr/>
          <p:nvPr/>
        </p:nvGraphicFramePr>
        <p:xfrm>
          <a:off x="3695760" y="2438280"/>
          <a:ext cx="635040" cy="5918400"/>
        </p:xfrm>
        <a:graphic>
          <a:graphicData uri="http://schemas.openxmlformats.org/drawingml/2006/table">
            <a:tbl>
              <a:tblPr/>
              <a:tblGrid>
                <a:gridCol w="635040"/>
              </a:tblGrid>
              <a:tr h="84888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T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628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R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924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A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628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F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924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F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924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I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924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C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8" name=""/>
          <p:cNvGraphicFramePr/>
          <p:nvPr/>
        </p:nvGraphicFramePr>
        <p:xfrm>
          <a:off x="4305240" y="2438280"/>
          <a:ext cx="5600880" cy="5918400"/>
        </p:xfrm>
        <a:graphic>
          <a:graphicData uri="http://schemas.openxmlformats.org/drawingml/2006/table">
            <a:tbl>
              <a:tblPr/>
              <a:tblGrid>
                <a:gridCol w="5600880"/>
              </a:tblGrid>
              <a:tr h="84888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rack the problem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628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eproduce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924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utomate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628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ind Origins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924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ocus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924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solate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924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orrect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3B15F-B666-4838-86F4-B4652EEC3B97}" type="slidenum">
              <a:t>11</a:t>
            </a:fld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9372600" y="3505320"/>
            <a:ext cx="0" cy="4214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8877240" y="5384880"/>
            <a:ext cx="965160" cy="474480"/>
          </a:xfrm>
          <a:prstGeom prst="rect">
            <a:avLst/>
          </a:prstGeom>
          <a:ln w="0">
            <a:noFill/>
          </a:ln>
        </p:spPr>
      </p:pic>
      <p:grpSp>
        <p:nvGrpSpPr>
          <p:cNvPr id="661" name=""/>
          <p:cNvGrpSpPr/>
          <p:nvPr/>
        </p:nvGrpSpPr>
        <p:grpSpPr>
          <a:xfrm>
            <a:off x="0" y="0"/>
            <a:ext cx="9762120" cy="4227120"/>
            <a:chOff x="0" y="0"/>
            <a:chExt cx="9762120" cy="4227120"/>
          </a:xfrm>
        </p:grpSpPr>
        <p:pic>
          <p:nvPicPr>
            <p:cNvPr id="66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38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9505440" y="3861000"/>
              <a:ext cx="256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Zapf Dingbats"/>
                  <a:ea typeface="Zapf Dingbats"/>
                </a:rPr>
                <a:t>✘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pic>
        <p:nvPicPr>
          <p:cNvPr id="664" name="" descr=""/>
          <p:cNvPicPr/>
          <p:nvPr/>
        </p:nvPicPr>
        <p:blipFill>
          <a:blip r:embed="rId4"/>
          <a:stretch/>
        </p:blipFill>
        <p:spPr>
          <a:xfrm>
            <a:off x="8902800" y="7035840"/>
            <a:ext cx="938160" cy="463680"/>
          </a:xfrm>
          <a:prstGeom prst="rect">
            <a:avLst/>
          </a:prstGeom>
          <a:ln w="0">
            <a:noFill/>
          </a:ln>
        </p:spPr>
      </p:pic>
      <p:sp>
        <p:nvSpPr>
          <p:cNvPr id="665" name="PlaceHolder 1"/>
          <p:cNvSpPr>
            <a:spLocks noGrp="1"/>
          </p:cNvSpPr>
          <p:nvPr>
            <p:ph/>
          </p:nvPr>
        </p:nvSpPr>
        <p:spPr>
          <a:xfrm>
            <a:off x="1270080" y="2641680"/>
            <a:ext cx="5765760" cy="4457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737280" indent="-45792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AutoNum type="arabicPeriod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e programmer creates a </a:t>
            </a:r>
            <a:r>
              <a:rPr b="0" i="1" lang="en-US" sz="3200" spc="-1" strike="noStrike">
                <a:solidFill>
                  <a:srgbClr val="ffffff"/>
                </a:solidFill>
                <a:latin typeface="Gill Sans"/>
              </a:rPr>
              <a:t>defect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– an error in the code.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737280" indent="-45792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AutoNum type="arabicPeriod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When executed, the defect creates an </a:t>
            </a:r>
            <a:r>
              <a:rPr b="0" i="1" lang="en-US" sz="3200" spc="-1" strike="noStrike">
                <a:solidFill>
                  <a:srgbClr val="ffffff"/>
                </a:solidFill>
                <a:latin typeface="Gill Sans"/>
              </a:rPr>
              <a:t>infection –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n error in the state.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737280" indent="-45792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AutoNum type="arabicPeriod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e infection </a:t>
            </a:r>
            <a:r>
              <a:rPr b="0" i="1" lang="en-US" sz="3200" spc="-1" strike="noStrike">
                <a:solidFill>
                  <a:srgbClr val="ffffff"/>
                </a:solidFill>
                <a:latin typeface="Gill Sans"/>
              </a:rPr>
              <a:t>propagates.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737280" indent="-45792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AutoNum type="arabicPeriod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e infection causes a </a:t>
            </a:r>
            <a:r>
              <a:rPr b="0" i="1" lang="en-US" sz="3200" spc="-1" strike="noStrike">
                <a:solidFill>
                  <a:srgbClr val="ffffff"/>
                </a:solidFill>
                <a:latin typeface="Gill Sans"/>
              </a:rPr>
              <a:t>failure.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0908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From Defect to Failur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aphicFrame>
        <p:nvGraphicFramePr>
          <p:cNvPr id="667" name=""/>
          <p:cNvGraphicFramePr/>
          <p:nvPr/>
        </p:nvGraphicFramePr>
        <p:xfrm>
          <a:off x="7594560" y="2984400"/>
          <a:ext cx="3568320" cy="507960"/>
        </p:xfrm>
        <a:graphic>
          <a:graphicData uri="http://schemas.openxmlformats.org/drawingml/2006/table">
            <a:tbl>
              <a:tblPr/>
              <a:tblGrid>
                <a:gridCol w="714240"/>
                <a:gridCol w="708480"/>
                <a:gridCol w="714600"/>
                <a:gridCol w="714960"/>
                <a:gridCol w="716040"/>
              </a:tblGrid>
              <a:tr h="507960"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7594560" y="4622760"/>
          <a:ext cx="3568320" cy="507960"/>
        </p:xfrm>
        <a:graphic>
          <a:graphicData uri="http://schemas.openxmlformats.org/drawingml/2006/table">
            <a:tbl>
              <a:tblPr/>
              <a:tblGrid>
                <a:gridCol w="714240"/>
                <a:gridCol w="708480"/>
                <a:gridCol w="714600"/>
                <a:gridCol w="714960"/>
                <a:gridCol w="716040"/>
              </a:tblGrid>
              <a:tr h="507960"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9" name=""/>
          <p:cNvGraphicFramePr/>
          <p:nvPr/>
        </p:nvGraphicFramePr>
        <p:xfrm>
          <a:off x="7594560" y="6172200"/>
          <a:ext cx="3568320" cy="507960"/>
        </p:xfrm>
        <a:graphic>
          <a:graphicData uri="http://schemas.openxmlformats.org/drawingml/2006/table">
            <a:tbl>
              <a:tblPr/>
              <a:tblGrid>
                <a:gridCol w="714240"/>
                <a:gridCol w="708480"/>
                <a:gridCol w="714600"/>
                <a:gridCol w="714960"/>
                <a:gridCol w="716040"/>
              </a:tblGrid>
              <a:tr h="507960"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7581960" y="7683480"/>
          <a:ext cx="2146320" cy="495360"/>
        </p:xfrm>
        <a:graphic>
          <a:graphicData uri="http://schemas.openxmlformats.org/drawingml/2006/table">
            <a:tbl>
              <a:tblPr/>
              <a:tblGrid>
                <a:gridCol w="719280"/>
                <a:gridCol w="711000"/>
                <a:gridCol w="716040"/>
              </a:tblGrid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pic>
        <p:nvPicPr>
          <p:cNvPr id="671" name="" descr=""/>
          <p:cNvPicPr/>
          <p:nvPr/>
        </p:nvPicPr>
        <p:blipFill>
          <a:blip r:embed="rId5"/>
          <a:stretch/>
        </p:blipFill>
        <p:spPr>
          <a:xfrm>
            <a:off x="10439280" y="7099200"/>
            <a:ext cx="749520" cy="1206720"/>
          </a:xfrm>
          <a:prstGeom prst="rect">
            <a:avLst/>
          </a:prstGeom>
          <a:ln w="0">
            <a:noFill/>
          </a:ln>
        </p:spPr>
      </p:pic>
      <p:grpSp>
        <p:nvGrpSpPr>
          <p:cNvPr id="672" name=""/>
          <p:cNvGrpSpPr/>
          <p:nvPr/>
        </p:nvGrpSpPr>
        <p:grpSpPr>
          <a:xfrm>
            <a:off x="469800" y="0"/>
            <a:ext cx="10045800" cy="7821720"/>
            <a:chOff x="469800" y="0"/>
            <a:chExt cx="10045800" cy="7821720"/>
          </a:xfrm>
        </p:grpSpPr>
        <p:grpSp>
          <p:nvGrpSpPr>
            <p:cNvPr id="673" name=""/>
            <p:cNvGrpSpPr/>
            <p:nvPr/>
          </p:nvGrpSpPr>
          <p:grpSpPr>
            <a:xfrm>
              <a:off x="469800" y="0"/>
              <a:ext cx="8857800" cy="7584840"/>
              <a:chOff x="469800" y="0"/>
              <a:chExt cx="8857800" cy="7584840"/>
            </a:xfrm>
          </p:grpSpPr>
          <p:pic>
            <p:nvPicPr>
              <p:cNvPr id="67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69800" y="0"/>
                <a:ext cx="938160" cy="46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5" name=""/>
              <p:cNvSpPr/>
              <p:nvPr/>
            </p:nvSpPr>
            <p:spPr>
              <a:xfrm>
                <a:off x="8944200" y="7035840"/>
                <a:ext cx="3834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0000"/>
                    </a:solidFill>
                    <a:latin typeface="Zapf Dingbats"/>
                    <a:ea typeface="Zapf Dingbats"/>
                  </a:rPr>
                  <a:t>✘</a:t>
                </a:r>
                <a:endParaRPr b="0" lang="en-US" sz="36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 flipH="1" flipV="1">
              <a:off x="10324440" y="7226280"/>
              <a:ext cx="163800" cy="114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flipV="1">
              <a:off x="10274040" y="7518240"/>
              <a:ext cx="201600" cy="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10299600" y="7658280"/>
              <a:ext cx="216000" cy="163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0" y="0"/>
            <a:ext cx="10270440" cy="5133600"/>
            <a:chOff x="0" y="0"/>
            <a:chExt cx="10270440" cy="5133600"/>
          </a:xfrm>
        </p:grpSpPr>
        <p:grpSp>
          <p:nvGrpSpPr>
            <p:cNvPr id="680" name=""/>
            <p:cNvGrpSpPr/>
            <p:nvPr/>
          </p:nvGrpSpPr>
          <p:grpSpPr>
            <a:xfrm>
              <a:off x="0" y="0"/>
              <a:ext cx="9486720" cy="4201560"/>
              <a:chOff x="0" y="0"/>
              <a:chExt cx="9486720" cy="4201560"/>
            </a:xfrm>
          </p:grpSpPr>
          <p:pic>
            <p:nvPicPr>
              <p:cNvPr id="68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0"/>
                <a:ext cx="938160" cy="46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2" name=""/>
              <p:cNvSpPr/>
              <p:nvPr/>
            </p:nvSpPr>
            <p:spPr>
              <a:xfrm>
                <a:off x="9230040" y="3835440"/>
                <a:ext cx="2566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Zapf Dingbats"/>
                    <a:ea typeface="Zapf Dingbats"/>
                  </a:rPr>
                  <a:t>✘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sp>
          <p:nvSpPr>
            <p:cNvPr id="683" name=""/>
            <p:cNvSpPr/>
            <p:nvPr/>
          </p:nvSpPr>
          <p:spPr>
            <a:xfrm>
              <a:off x="9887040" y="4584600"/>
              <a:ext cx="3834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Zapf Dingbats"/>
                  <a:ea typeface="Zapf Dingbats"/>
                </a:rPr>
                <a:t>✘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469800" y="0"/>
            <a:ext cx="9813600" cy="6683040"/>
            <a:chOff x="469800" y="0"/>
            <a:chExt cx="9813600" cy="6683040"/>
          </a:xfrm>
        </p:grpSpPr>
        <p:pic>
          <p:nvPicPr>
            <p:cNvPr id="685" name="" descr=""/>
            <p:cNvPicPr/>
            <p:nvPr/>
          </p:nvPicPr>
          <p:blipFill>
            <a:blip r:embed="rId8"/>
            <a:stretch/>
          </p:blipFill>
          <p:spPr>
            <a:xfrm>
              <a:off x="469800" y="0"/>
              <a:ext cx="938160" cy="463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6" name=""/>
            <p:cNvGrpSpPr/>
            <p:nvPr/>
          </p:nvGrpSpPr>
          <p:grpSpPr>
            <a:xfrm>
              <a:off x="8439480" y="6134040"/>
              <a:ext cx="1843920" cy="549000"/>
              <a:chOff x="8439480" y="6134040"/>
              <a:chExt cx="1843920" cy="549000"/>
            </a:xfrm>
          </p:grpSpPr>
          <p:sp>
            <p:nvSpPr>
              <p:cNvPr id="687" name=""/>
              <p:cNvSpPr/>
              <p:nvPr/>
            </p:nvSpPr>
            <p:spPr>
              <a:xfrm>
                <a:off x="8439480" y="6134040"/>
                <a:ext cx="3834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0000"/>
                    </a:solidFill>
                    <a:latin typeface="Zapf Dingbats"/>
                    <a:ea typeface="Zapf Dingbats"/>
                  </a:rPr>
                  <a:t>✘</a:t>
                </a:r>
                <a:endParaRPr b="0" lang="en-US" sz="36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9900000" y="6134040"/>
                <a:ext cx="3834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0000"/>
                    </a:solidFill>
                    <a:latin typeface="Zapf Dingbats"/>
                    <a:ea typeface="Zapf Dingbats"/>
                  </a:rPr>
                  <a:t>✘</a:t>
                </a:r>
                <a:endParaRPr b="0" lang="en-US" sz="36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</p:grpSp>
      <p:sp>
        <p:nvSpPr>
          <p:cNvPr id="689" name=""/>
          <p:cNvSpPr/>
          <p:nvPr/>
        </p:nvSpPr>
        <p:spPr>
          <a:xfrm>
            <a:off x="9952200" y="3416400"/>
            <a:ext cx="131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Variabl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600200" y="4127040"/>
            <a:ext cx="8457840" cy="4331160"/>
            <a:chOff x="1600200" y="4127040"/>
            <a:chExt cx="8457840" cy="4331160"/>
          </a:xfrm>
        </p:grpSpPr>
        <p:sp>
          <p:nvSpPr>
            <p:cNvPr id="691" name=""/>
            <p:cNvSpPr/>
            <p:nvPr/>
          </p:nvSpPr>
          <p:spPr>
            <a:xfrm>
              <a:off x="1600200" y="7442280"/>
              <a:ext cx="54356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88920">
                <a:lnSpc>
                  <a:spcPct val="100000"/>
                </a:lnSpc>
                <a:tabLst>
                  <a:tab algn="l" pos="0"/>
                  <a:tab algn="l" pos="736560"/>
                  <a:tab algn="l" pos="54547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This infection chain must be traced back – and broken.</a:t>
              </a:r>
              <a:endParaRPr b="0" lang="en-US" sz="3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8635320" y="4127040"/>
              <a:ext cx="1422720" cy="3804120"/>
              <a:chOff x="8635320" y="4127040"/>
              <a:chExt cx="1422720" cy="3804120"/>
            </a:xfrm>
          </p:grpSpPr>
          <p:sp>
            <p:nvSpPr>
              <p:cNvPr id="693" name=""/>
              <p:cNvSpPr/>
              <p:nvPr/>
            </p:nvSpPr>
            <p:spPr>
              <a:xfrm flipV="1">
                <a:off x="8635320" y="6413400"/>
                <a:ext cx="1414440" cy="1517760"/>
              </a:xfrm>
              <a:prstGeom prst="line">
                <a:avLst/>
              </a:prstGeom>
              <a:ln w="50760">
                <a:solidFill>
                  <a:srgbClr val="ffffff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10045800" y="4838400"/>
                <a:ext cx="0" cy="1562040"/>
              </a:xfrm>
              <a:prstGeom prst="line">
                <a:avLst/>
              </a:prstGeom>
              <a:ln w="50760">
                <a:solidFill>
                  <a:srgbClr val="ffffff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 flipV="1">
                <a:off x="9613440" y="4127040"/>
                <a:ext cx="444600" cy="684360"/>
              </a:xfrm>
              <a:prstGeom prst="line">
                <a:avLst/>
              </a:prstGeom>
              <a:ln w="50760">
                <a:solidFill>
                  <a:srgbClr val="ffffff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</p:grpSp>
      <p:sp>
        <p:nvSpPr>
          <p:cNvPr id="696" name=""/>
          <p:cNvSpPr/>
          <p:nvPr/>
        </p:nvSpPr>
        <p:spPr>
          <a:xfrm>
            <a:off x="11841120" y="2946240"/>
            <a:ext cx="0" cy="53341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7" name=""/>
          <p:cNvSpPr/>
          <p:nvPr/>
        </p:nvSpPr>
        <p:spPr>
          <a:xfrm>
            <a:off x="11971800" y="7645320"/>
            <a:ext cx="146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6298-8EDC-498F-8286-3B3D9FE4AD1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9372600" y="3505320"/>
            <a:ext cx="0" cy="4214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2"/>
          <a:stretch/>
        </p:blipFill>
        <p:spPr>
          <a:xfrm>
            <a:off x="8877240" y="5384880"/>
            <a:ext cx="965160" cy="474480"/>
          </a:xfrm>
          <a:prstGeom prst="rect">
            <a:avLst/>
          </a:prstGeom>
          <a:ln w="0">
            <a:noFill/>
          </a:ln>
        </p:spPr>
      </p:pic>
      <p:grpSp>
        <p:nvGrpSpPr>
          <p:cNvPr id="700" name=""/>
          <p:cNvGrpSpPr/>
          <p:nvPr/>
        </p:nvGrpSpPr>
        <p:grpSpPr>
          <a:xfrm>
            <a:off x="0" y="0"/>
            <a:ext cx="9762120" cy="4227120"/>
            <a:chOff x="0" y="0"/>
            <a:chExt cx="9762120" cy="4227120"/>
          </a:xfrm>
        </p:grpSpPr>
        <p:pic>
          <p:nvPicPr>
            <p:cNvPr id="70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38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"/>
            <p:cNvSpPr/>
            <p:nvPr/>
          </p:nvSpPr>
          <p:spPr>
            <a:xfrm>
              <a:off x="9505440" y="3861000"/>
              <a:ext cx="256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Zapf Dingbats"/>
                  <a:ea typeface="Zapf Dingbats"/>
                </a:rPr>
                <a:t>✘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pic>
        <p:nvPicPr>
          <p:cNvPr id="703" name="" descr=""/>
          <p:cNvPicPr/>
          <p:nvPr/>
        </p:nvPicPr>
        <p:blipFill>
          <a:blip r:embed="rId4"/>
          <a:stretch/>
        </p:blipFill>
        <p:spPr>
          <a:xfrm>
            <a:off x="8902800" y="7035840"/>
            <a:ext cx="938160" cy="463680"/>
          </a:xfrm>
          <a:prstGeom prst="rect">
            <a:avLst/>
          </a:prstGeom>
          <a:ln w="0">
            <a:noFill/>
          </a:ln>
        </p:spPr>
      </p:pic>
      <p:sp>
        <p:nvSpPr>
          <p:cNvPr id="704" name="PlaceHolder 1"/>
          <p:cNvSpPr>
            <a:spLocks noGrp="1"/>
          </p:cNvSpPr>
          <p:nvPr>
            <p:ph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92000" indent="-47448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Not every defect causes a failure!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792000" indent="-47448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ill Sans"/>
              </a:rPr>
              <a:t>Testing can only show the presence of errors – not their absence.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792000" indent="-47448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(Dijkstra 1972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title"/>
          </p:nvPr>
        </p:nvSpPr>
        <p:spPr>
          <a:xfrm>
            <a:off x="1015920" y="253800"/>
            <a:ext cx="109728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he Curse of Testing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7594560" y="2984400"/>
          <a:ext cx="3568320" cy="507960"/>
        </p:xfrm>
        <a:graphic>
          <a:graphicData uri="http://schemas.openxmlformats.org/drawingml/2006/table">
            <a:tbl>
              <a:tblPr/>
              <a:tblGrid>
                <a:gridCol w="714240"/>
                <a:gridCol w="708480"/>
                <a:gridCol w="714600"/>
                <a:gridCol w="714960"/>
                <a:gridCol w="716040"/>
              </a:tblGrid>
              <a:tr h="507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7" name=""/>
          <p:cNvGraphicFramePr/>
          <p:nvPr/>
        </p:nvGraphicFramePr>
        <p:xfrm>
          <a:off x="7594560" y="4622760"/>
          <a:ext cx="3568320" cy="507960"/>
        </p:xfrm>
        <a:graphic>
          <a:graphicData uri="http://schemas.openxmlformats.org/drawingml/2006/table">
            <a:tbl>
              <a:tblPr/>
              <a:tblGrid>
                <a:gridCol w="714240"/>
                <a:gridCol w="708480"/>
                <a:gridCol w="714600"/>
                <a:gridCol w="714960"/>
                <a:gridCol w="716040"/>
              </a:tblGrid>
              <a:tr h="507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8" name=""/>
          <p:cNvGraphicFramePr/>
          <p:nvPr/>
        </p:nvGraphicFramePr>
        <p:xfrm>
          <a:off x="7594560" y="6172200"/>
          <a:ext cx="3568320" cy="507960"/>
        </p:xfrm>
        <a:graphic>
          <a:graphicData uri="http://schemas.openxmlformats.org/drawingml/2006/table">
            <a:tbl>
              <a:tblPr/>
              <a:tblGrid>
                <a:gridCol w="714240"/>
                <a:gridCol w="708480"/>
                <a:gridCol w="714600"/>
                <a:gridCol w="714960"/>
                <a:gridCol w="716040"/>
              </a:tblGrid>
              <a:tr h="507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9" name=""/>
          <p:cNvGraphicFramePr/>
          <p:nvPr/>
        </p:nvGraphicFramePr>
        <p:xfrm>
          <a:off x="7581960" y="7683480"/>
          <a:ext cx="2146320" cy="495360"/>
        </p:xfrm>
        <a:graphic>
          <a:graphicData uri="http://schemas.openxmlformats.org/drawingml/2006/table">
            <a:tbl>
              <a:tblPr/>
              <a:tblGrid>
                <a:gridCol w="719280"/>
                <a:gridCol w="711000"/>
                <a:gridCol w="716040"/>
              </a:tblGrid>
              <a:tr h="4953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pic>
        <p:nvPicPr>
          <p:cNvPr id="710" name="" descr=""/>
          <p:cNvPicPr/>
          <p:nvPr/>
        </p:nvPicPr>
        <p:blipFill>
          <a:blip r:embed="rId5"/>
          <a:stretch/>
        </p:blipFill>
        <p:spPr>
          <a:xfrm>
            <a:off x="10439280" y="7099200"/>
            <a:ext cx="749520" cy="1206720"/>
          </a:xfrm>
          <a:prstGeom prst="rect">
            <a:avLst/>
          </a:prstGeom>
          <a:ln w="0">
            <a:noFill/>
          </a:ln>
        </p:spPr>
      </p:pic>
      <p:grpSp>
        <p:nvGrpSpPr>
          <p:cNvPr id="711" name=""/>
          <p:cNvGrpSpPr/>
          <p:nvPr/>
        </p:nvGrpSpPr>
        <p:grpSpPr>
          <a:xfrm>
            <a:off x="469800" y="0"/>
            <a:ext cx="10045800" cy="7821720"/>
            <a:chOff x="469800" y="0"/>
            <a:chExt cx="10045800" cy="7821720"/>
          </a:xfrm>
        </p:grpSpPr>
        <p:grpSp>
          <p:nvGrpSpPr>
            <p:cNvPr id="712" name=""/>
            <p:cNvGrpSpPr/>
            <p:nvPr/>
          </p:nvGrpSpPr>
          <p:grpSpPr>
            <a:xfrm>
              <a:off x="469800" y="0"/>
              <a:ext cx="8857800" cy="7584840"/>
              <a:chOff x="469800" y="0"/>
              <a:chExt cx="8857800" cy="7584840"/>
            </a:xfrm>
          </p:grpSpPr>
          <p:pic>
            <p:nvPicPr>
              <p:cNvPr id="71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69800" y="0"/>
                <a:ext cx="938160" cy="46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4" name=""/>
              <p:cNvSpPr/>
              <p:nvPr/>
            </p:nvSpPr>
            <p:spPr>
              <a:xfrm>
                <a:off x="8944200" y="7035840"/>
                <a:ext cx="3834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0000"/>
                    </a:solidFill>
                    <a:latin typeface="Zapf Dingbats"/>
                    <a:ea typeface="Zapf Dingbats"/>
                  </a:rPr>
                  <a:t>✘</a:t>
                </a:r>
                <a:endParaRPr b="0" lang="en-US" sz="36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sp>
          <p:nvSpPr>
            <p:cNvPr id="715" name=""/>
            <p:cNvSpPr/>
            <p:nvPr/>
          </p:nvSpPr>
          <p:spPr>
            <a:xfrm flipH="1" flipV="1">
              <a:off x="10324440" y="7226280"/>
              <a:ext cx="163800" cy="114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 flipV="1">
              <a:off x="10274040" y="7518240"/>
              <a:ext cx="201600" cy="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10299600" y="7658280"/>
              <a:ext cx="216000" cy="163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0" y="0"/>
            <a:ext cx="10270440" cy="5133600"/>
            <a:chOff x="0" y="0"/>
            <a:chExt cx="10270440" cy="5133600"/>
          </a:xfrm>
        </p:grpSpPr>
        <p:grpSp>
          <p:nvGrpSpPr>
            <p:cNvPr id="719" name=""/>
            <p:cNvGrpSpPr/>
            <p:nvPr/>
          </p:nvGrpSpPr>
          <p:grpSpPr>
            <a:xfrm>
              <a:off x="0" y="0"/>
              <a:ext cx="9486720" cy="4201560"/>
              <a:chOff x="0" y="0"/>
              <a:chExt cx="9486720" cy="4201560"/>
            </a:xfrm>
          </p:grpSpPr>
          <p:pic>
            <p:nvPicPr>
              <p:cNvPr id="72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0"/>
                <a:ext cx="938160" cy="46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1" name=""/>
              <p:cNvSpPr/>
              <p:nvPr/>
            </p:nvSpPr>
            <p:spPr>
              <a:xfrm>
                <a:off x="9230040" y="3835440"/>
                <a:ext cx="2566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Zapf Dingbats"/>
                    <a:ea typeface="Zapf Dingbats"/>
                  </a:rPr>
                  <a:t>✘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sp>
          <p:nvSpPr>
            <p:cNvPr id="722" name=""/>
            <p:cNvSpPr/>
            <p:nvPr/>
          </p:nvSpPr>
          <p:spPr>
            <a:xfrm>
              <a:off x="9887040" y="4584600"/>
              <a:ext cx="3834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Zapf Dingbats"/>
                  <a:ea typeface="Zapf Dingbats"/>
                </a:rPr>
                <a:t>✘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469800" y="0"/>
            <a:ext cx="9813600" cy="6683040"/>
            <a:chOff x="469800" y="0"/>
            <a:chExt cx="9813600" cy="6683040"/>
          </a:xfrm>
        </p:grpSpPr>
        <p:pic>
          <p:nvPicPr>
            <p:cNvPr id="724" name="" descr=""/>
            <p:cNvPicPr/>
            <p:nvPr/>
          </p:nvPicPr>
          <p:blipFill>
            <a:blip r:embed="rId8"/>
            <a:stretch/>
          </p:blipFill>
          <p:spPr>
            <a:xfrm>
              <a:off x="469800" y="0"/>
              <a:ext cx="938160" cy="463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5" name=""/>
            <p:cNvGrpSpPr/>
            <p:nvPr/>
          </p:nvGrpSpPr>
          <p:grpSpPr>
            <a:xfrm>
              <a:off x="8439480" y="6134040"/>
              <a:ext cx="1843920" cy="549000"/>
              <a:chOff x="8439480" y="6134040"/>
              <a:chExt cx="1843920" cy="549000"/>
            </a:xfrm>
          </p:grpSpPr>
          <p:sp>
            <p:nvSpPr>
              <p:cNvPr id="726" name=""/>
              <p:cNvSpPr/>
              <p:nvPr/>
            </p:nvSpPr>
            <p:spPr>
              <a:xfrm>
                <a:off x="8439480" y="6134040"/>
                <a:ext cx="3834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0000"/>
                    </a:solidFill>
                    <a:latin typeface="Zapf Dingbats"/>
                    <a:ea typeface="Zapf Dingbats"/>
                  </a:rPr>
                  <a:t>✘</a:t>
                </a:r>
                <a:endParaRPr b="0" lang="en-US" sz="36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900000" y="6134040"/>
                <a:ext cx="3834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0000"/>
                    </a:solidFill>
                    <a:latin typeface="Zapf Dingbats"/>
                    <a:ea typeface="Zapf Dingbats"/>
                  </a:rPr>
                  <a:t>✘</a:t>
                </a:r>
                <a:endParaRPr b="0" lang="en-US" sz="36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</p:grpSp>
      <p:sp>
        <p:nvSpPr>
          <p:cNvPr id="728" name=""/>
          <p:cNvSpPr/>
          <p:nvPr/>
        </p:nvSpPr>
        <p:spPr>
          <a:xfrm>
            <a:off x="9952200" y="3416400"/>
            <a:ext cx="131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Variabl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8635320" y="4127040"/>
            <a:ext cx="1422720" cy="3804120"/>
            <a:chOff x="8635320" y="4127040"/>
            <a:chExt cx="1422720" cy="3804120"/>
          </a:xfrm>
        </p:grpSpPr>
        <p:sp>
          <p:nvSpPr>
            <p:cNvPr id="730" name=""/>
            <p:cNvSpPr/>
            <p:nvPr/>
          </p:nvSpPr>
          <p:spPr>
            <a:xfrm flipV="1">
              <a:off x="8635320" y="6413400"/>
              <a:ext cx="1414440" cy="1517760"/>
            </a:xfrm>
            <a:prstGeom prst="line">
              <a:avLst/>
            </a:prstGeom>
            <a:ln w="50760">
              <a:solidFill>
                <a:srgbClr val="ffffff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10045800" y="4838400"/>
              <a:ext cx="0" cy="1562040"/>
            </a:xfrm>
            <a:prstGeom prst="line">
              <a:avLst/>
            </a:prstGeom>
            <a:ln w="50760">
              <a:solidFill>
                <a:srgbClr val="ffffff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 flipV="1">
              <a:off x="9613440" y="4127040"/>
              <a:ext cx="444600" cy="684360"/>
            </a:xfrm>
            <a:prstGeom prst="line">
              <a:avLst/>
            </a:prstGeom>
            <a:ln w="50760">
              <a:solidFill>
                <a:srgbClr val="ffffff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D60E-9B68-42CF-9065-B72FF607B3B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9372600" y="3505320"/>
            <a:ext cx="0" cy="4214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2"/>
          <a:stretch/>
        </p:blipFill>
        <p:spPr>
          <a:xfrm>
            <a:off x="8877240" y="5384880"/>
            <a:ext cx="965160" cy="474480"/>
          </a:xfrm>
          <a:prstGeom prst="rect">
            <a:avLst/>
          </a:prstGeom>
          <a:ln w="0">
            <a:noFill/>
          </a:ln>
        </p:spPr>
      </p:pic>
      <p:grpSp>
        <p:nvGrpSpPr>
          <p:cNvPr id="735" name=""/>
          <p:cNvGrpSpPr/>
          <p:nvPr/>
        </p:nvGrpSpPr>
        <p:grpSpPr>
          <a:xfrm>
            <a:off x="0" y="0"/>
            <a:ext cx="9762120" cy="4227120"/>
            <a:chOff x="0" y="0"/>
            <a:chExt cx="9762120" cy="4227120"/>
          </a:xfrm>
        </p:grpSpPr>
        <p:pic>
          <p:nvPicPr>
            <p:cNvPr id="736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38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"/>
            <p:cNvSpPr/>
            <p:nvPr/>
          </p:nvSpPr>
          <p:spPr>
            <a:xfrm>
              <a:off x="9505440" y="3861000"/>
              <a:ext cx="256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Zapf Dingbats"/>
                  <a:ea typeface="Zapf Dingbats"/>
                </a:rPr>
                <a:t>✘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pic>
        <p:nvPicPr>
          <p:cNvPr id="738" name="" descr=""/>
          <p:cNvPicPr/>
          <p:nvPr/>
        </p:nvPicPr>
        <p:blipFill>
          <a:blip r:embed="rId4"/>
          <a:stretch/>
        </p:blipFill>
        <p:spPr>
          <a:xfrm>
            <a:off x="8902800" y="7035840"/>
            <a:ext cx="938160" cy="463680"/>
          </a:xfrm>
          <a:prstGeom prst="rect">
            <a:avLst/>
          </a:prstGeom>
          <a:ln w="0">
            <a:noFill/>
          </a:ln>
        </p:spPr>
      </p:pic>
      <p:sp>
        <p:nvSpPr>
          <p:cNvPr id="739" name="PlaceHolder 1"/>
          <p:cNvSpPr>
            <a:spLocks noGrp="1"/>
          </p:cNvSpPr>
          <p:nvPr>
            <p:ph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92000" indent="-47448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very </a:t>
            </a:r>
            <a:r>
              <a:rPr b="0" i="1" lang="en-US" sz="3200" spc="-1" strike="noStrike">
                <a:solidFill>
                  <a:srgbClr val="ffffff"/>
                </a:solidFill>
                <a:latin typeface="Gill Sans"/>
              </a:rPr>
              <a:t>failure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can be traced back to some </a:t>
            </a:r>
            <a:r>
              <a:rPr b="0" i="1" lang="en-US" sz="3200" spc="-1" strike="noStrike">
                <a:solidFill>
                  <a:srgbClr val="ffffff"/>
                </a:solidFill>
                <a:latin typeface="Gill Sans"/>
              </a:rPr>
              <a:t>infection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, and every </a:t>
            </a:r>
            <a:r>
              <a:rPr b="0" i="1" lang="en-US" sz="3200" spc="-1" strike="noStrike">
                <a:solidFill>
                  <a:srgbClr val="ffffff"/>
                </a:solidFill>
                <a:latin typeface="Gill Sans"/>
              </a:rPr>
              <a:t>infection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is caused by some </a:t>
            </a:r>
            <a:r>
              <a:rPr b="0" i="1" lang="en-US" sz="3200" spc="-1" strike="noStrike">
                <a:solidFill>
                  <a:srgbClr val="ffffff"/>
                </a:solidFill>
                <a:latin typeface="Gill Sans"/>
              </a:rPr>
              <a:t>defect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792000" indent="-47448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ill Sans"/>
              </a:rPr>
              <a:t>Debugging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means to </a:t>
            </a:r>
            <a:r>
              <a:rPr b="0" i="1" lang="en-US" sz="3200" spc="-1" strike="noStrike">
                <a:solidFill>
                  <a:srgbClr val="ffffff"/>
                </a:solidFill>
                <a:latin typeface="Gill Sans"/>
              </a:rPr>
              <a:t>relate a given failure to the defect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– and to remove the defect.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Debugging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aphicFrame>
        <p:nvGraphicFramePr>
          <p:cNvPr id="741" name=""/>
          <p:cNvGraphicFramePr/>
          <p:nvPr/>
        </p:nvGraphicFramePr>
        <p:xfrm>
          <a:off x="7594560" y="2984400"/>
          <a:ext cx="3568320" cy="507960"/>
        </p:xfrm>
        <a:graphic>
          <a:graphicData uri="http://schemas.openxmlformats.org/drawingml/2006/table">
            <a:tbl>
              <a:tblPr/>
              <a:tblGrid>
                <a:gridCol w="714240"/>
                <a:gridCol w="708480"/>
                <a:gridCol w="714600"/>
                <a:gridCol w="714960"/>
                <a:gridCol w="716040"/>
              </a:tblGrid>
              <a:tr h="507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2" name=""/>
          <p:cNvGraphicFramePr/>
          <p:nvPr/>
        </p:nvGraphicFramePr>
        <p:xfrm>
          <a:off x="7594560" y="4622760"/>
          <a:ext cx="3568320" cy="507960"/>
        </p:xfrm>
        <a:graphic>
          <a:graphicData uri="http://schemas.openxmlformats.org/drawingml/2006/table">
            <a:tbl>
              <a:tblPr/>
              <a:tblGrid>
                <a:gridCol w="714240"/>
                <a:gridCol w="708480"/>
                <a:gridCol w="714600"/>
                <a:gridCol w="714960"/>
                <a:gridCol w="716040"/>
              </a:tblGrid>
              <a:tr h="507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3" name=""/>
          <p:cNvGraphicFramePr/>
          <p:nvPr/>
        </p:nvGraphicFramePr>
        <p:xfrm>
          <a:off x="7594560" y="6172200"/>
          <a:ext cx="3568320" cy="507960"/>
        </p:xfrm>
        <a:graphic>
          <a:graphicData uri="http://schemas.openxmlformats.org/drawingml/2006/table">
            <a:tbl>
              <a:tblPr/>
              <a:tblGrid>
                <a:gridCol w="714240"/>
                <a:gridCol w="708480"/>
                <a:gridCol w="714600"/>
                <a:gridCol w="714960"/>
                <a:gridCol w="716040"/>
              </a:tblGrid>
              <a:tr h="507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4" name=""/>
          <p:cNvGraphicFramePr/>
          <p:nvPr/>
        </p:nvGraphicFramePr>
        <p:xfrm>
          <a:off x="7581960" y="7683480"/>
          <a:ext cx="2146320" cy="495360"/>
        </p:xfrm>
        <a:graphic>
          <a:graphicData uri="http://schemas.openxmlformats.org/drawingml/2006/table">
            <a:tbl>
              <a:tblPr/>
              <a:tblGrid>
                <a:gridCol w="719280"/>
                <a:gridCol w="711000"/>
                <a:gridCol w="716040"/>
              </a:tblGrid>
              <a:tr h="4953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pic>
        <p:nvPicPr>
          <p:cNvPr id="745" name="" descr=""/>
          <p:cNvPicPr/>
          <p:nvPr/>
        </p:nvPicPr>
        <p:blipFill>
          <a:blip r:embed="rId5"/>
          <a:stretch/>
        </p:blipFill>
        <p:spPr>
          <a:xfrm>
            <a:off x="10439280" y="7099200"/>
            <a:ext cx="749520" cy="1206720"/>
          </a:xfrm>
          <a:prstGeom prst="rect">
            <a:avLst/>
          </a:prstGeom>
          <a:ln w="0">
            <a:noFill/>
          </a:ln>
        </p:spPr>
      </p:pic>
      <p:grpSp>
        <p:nvGrpSpPr>
          <p:cNvPr id="746" name=""/>
          <p:cNvGrpSpPr/>
          <p:nvPr/>
        </p:nvGrpSpPr>
        <p:grpSpPr>
          <a:xfrm>
            <a:off x="469800" y="0"/>
            <a:ext cx="10045800" cy="7821720"/>
            <a:chOff x="469800" y="0"/>
            <a:chExt cx="10045800" cy="7821720"/>
          </a:xfrm>
        </p:grpSpPr>
        <p:grpSp>
          <p:nvGrpSpPr>
            <p:cNvPr id="747" name=""/>
            <p:cNvGrpSpPr/>
            <p:nvPr/>
          </p:nvGrpSpPr>
          <p:grpSpPr>
            <a:xfrm>
              <a:off x="469800" y="0"/>
              <a:ext cx="8857800" cy="7584840"/>
              <a:chOff x="469800" y="0"/>
              <a:chExt cx="8857800" cy="7584840"/>
            </a:xfrm>
          </p:grpSpPr>
          <p:pic>
            <p:nvPicPr>
              <p:cNvPr id="74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69800" y="0"/>
                <a:ext cx="938160" cy="46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9" name=""/>
              <p:cNvSpPr/>
              <p:nvPr/>
            </p:nvSpPr>
            <p:spPr>
              <a:xfrm>
                <a:off x="8944200" y="7035840"/>
                <a:ext cx="3834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0000"/>
                    </a:solidFill>
                    <a:latin typeface="Zapf Dingbats"/>
                    <a:ea typeface="Zapf Dingbats"/>
                  </a:rPr>
                  <a:t>✘</a:t>
                </a:r>
                <a:endParaRPr b="0" lang="en-US" sz="36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sp>
          <p:nvSpPr>
            <p:cNvPr id="750" name=""/>
            <p:cNvSpPr/>
            <p:nvPr/>
          </p:nvSpPr>
          <p:spPr>
            <a:xfrm flipH="1" flipV="1">
              <a:off x="10324440" y="7226280"/>
              <a:ext cx="163800" cy="114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 flipV="1">
              <a:off x="10274040" y="7518240"/>
              <a:ext cx="201600" cy="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10299600" y="7658280"/>
              <a:ext cx="216000" cy="163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0" y="0"/>
            <a:ext cx="10270440" cy="5133600"/>
            <a:chOff x="0" y="0"/>
            <a:chExt cx="10270440" cy="5133600"/>
          </a:xfrm>
        </p:grpSpPr>
        <p:grpSp>
          <p:nvGrpSpPr>
            <p:cNvPr id="754" name=""/>
            <p:cNvGrpSpPr/>
            <p:nvPr/>
          </p:nvGrpSpPr>
          <p:grpSpPr>
            <a:xfrm>
              <a:off x="0" y="0"/>
              <a:ext cx="9486720" cy="4201560"/>
              <a:chOff x="0" y="0"/>
              <a:chExt cx="9486720" cy="4201560"/>
            </a:xfrm>
          </p:grpSpPr>
          <p:pic>
            <p:nvPicPr>
              <p:cNvPr id="7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0"/>
                <a:ext cx="938160" cy="46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6" name=""/>
              <p:cNvSpPr/>
              <p:nvPr/>
            </p:nvSpPr>
            <p:spPr>
              <a:xfrm>
                <a:off x="9230040" y="3835440"/>
                <a:ext cx="2566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Zapf Dingbats"/>
                    <a:ea typeface="Zapf Dingbats"/>
                  </a:rPr>
                  <a:t>✘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sp>
          <p:nvSpPr>
            <p:cNvPr id="757" name=""/>
            <p:cNvSpPr/>
            <p:nvPr/>
          </p:nvSpPr>
          <p:spPr>
            <a:xfrm>
              <a:off x="9887040" y="4584600"/>
              <a:ext cx="3834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Zapf Dingbats"/>
                  <a:ea typeface="Zapf Dingbats"/>
                </a:rPr>
                <a:t>✘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469800" y="0"/>
            <a:ext cx="9813600" cy="6683040"/>
            <a:chOff x="469800" y="0"/>
            <a:chExt cx="9813600" cy="6683040"/>
          </a:xfrm>
        </p:grpSpPr>
        <p:pic>
          <p:nvPicPr>
            <p:cNvPr id="759" name="" descr=""/>
            <p:cNvPicPr/>
            <p:nvPr/>
          </p:nvPicPr>
          <p:blipFill>
            <a:blip r:embed="rId8"/>
            <a:stretch/>
          </p:blipFill>
          <p:spPr>
            <a:xfrm>
              <a:off x="469800" y="0"/>
              <a:ext cx="938160" cy="463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0" name=""/>
            <p:cNvGrpSpPr/>
            <p:nvPr/>
          </p:nvGrpSpPr>
          <p:grpSpPr>
            <a:xfrm>
              <a:off x="8439480" y="6134040"/>
              <a:ext cx="1843920" cy="549000"/>
              <a:chOff x="8439480" y="6134040"/>
              <a:chExt cx="1843920" cy="549000"/>
            </a:xfrm>
          </p:grpSpPr>
          <p:sp>
            <p:nvSpPr>
              <p:cNvPr id="761" name=""/>
              <p:cNvSpPr/>
              <p:nvPr/>
            </p:nvSpPr>
            <p:spPr>
              <a:xfrm>
                <a:off x="8439480" y="6134040"/>
                <a:ext cx="3834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0000"/>
                    </a:solidFill>
                    <a:latin typeface="Zapf Dingbats"/>
                    <a:ea typeface="Zapf Dingbats"/>
                  </a:rPr>
                  <a:t>✘</a:t>
                </a:r>
                <a:endParaRPr b="0" lang="en-US" sz="36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9900000" y="6134040"/>
                <a:ext cx="3834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0000"/>
                    </a:solidFill>
                    <a:latin typeface="Zapf Dingbats"/>
                    <a:ea typeface="Zapf Dingbats"/>
                  </a:rPr>
                  <a:t>✘</a:t>
                </a:r>
                <a:endParaRPr b="0" lang="en-US" sz="36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</p:grpSp>
      <p:sp>
        <p:nvSpPr>
          <p:cNvPr id="763" name=""/>
          <p:cNvSpPr/>
          <p:nvPr/>
        </p:nvSpPr>
        <p:spPr>
          <a:xfrm>
            <a:off x="9952200" y="3416400"/>
            <a:ext cx="131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Variabl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8635320" y="4127040"/>
            <a:ext cx="1422720" cy="3804120"/>
            <a:chOff x="8635320" y="4127040"/>
            <a:chExt cx="1422720" cy="3804120"/>
          </a:xfrm>
        </p:grpSpPr>
        <p:sp>
          <p:nvSpPr>
            <p:cNvPr id="765" name=""/>
            <p:cNvSpPr/>
            <p:nvPr/>
          </p:nvSpPr>
          <p:spPr>
            <a:xfrm flipV="1">
              <a:off x="8635320" y="6413400"/>
              <a:ext cx="1414440" cy="1517760"/>
            </a:xfrm>
            <a:prstGeom prst="line">
              <a:avLst/>
            </a:prstGeom>
            <a:ln w="50760">
              <a:solidFill>
                <a:srgbClr val="ffffff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10045800" y="4838400"/>
              <a:ext cx="0" cy="1562040"/>
            </a:xfrm>
            <a:prstGeom prst="line">
              <a:avLst/>
            </a:prstGeom>
            <a:ln w="50760">
              <a:solidFill>
                <a:srgbClr val="ffffff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 flipV="1">
              <a:off x="9613440" y="4127040"/>
              <a:ext cx="444600" cy="684360"/>
            </a:xfrm>
            <a:prstGeom prst="line">
              <a:avLst/>
            </a:prstGeom>
            <a:ln w="50760">
              <a:solidFill>
                <a:srgbClr val="ffffff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E01E-6977-43F2-B08D-6CC4F70CFE6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440" y="253800"/>
            <a:ext cx="116204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Search in Space + Tim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2"/>
          <a:stretch/>
        </p:blipFill>
        <p:spPr>
          <a:xfrm>
            <a:off x="2298600" y="2451240"/>
            <a:ext cx="6858000" cy="634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B928-FB21-45B1-B999-9FB24791232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he Defec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2"/>
          <a:stretch/>
        </p:blipFill>
        <p:spPr>
          <a:xfrm>
            <a:off x="2019240" y="2336760"/>
            <a:ext cx="7383600" cy="657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22DA-179A-4FFB-B7B2-10072BBA661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2" name="" descr=""/>
          <p:cNvPicPr/>
          <p:nvPr/>
        </p:nvPicPr>
        <p:blipFill>
          <a:blip r:embed="rId1"/>
          <a:stretch/>
        </p:blipFill>
        <p:spPr>
          <a:xfrm>
            <a:off x="290520" y="2019240"/>
            <a:ext cx="12422160" cy="7554960"/>
          </a:xfrm>
          <a:prstGeom prst="rect">
            <a:avLst/>
          </a:prstGeom>
          <a:ln w="0">
            <a:noFill/>
          </a:ln>
        </p:spPr>
      </p:pic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 Program Stat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963E2-CD16-4376-A45D-A3EE4B1D558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 Sample Program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75" name=""/>
          <p:cNvSpPr/>
          <p:nvPr/>
        </p:nvSpPr>
        <p:spPr>
          <a:xfrm>
            <a:off x="3056760" y="2959200"/>
            <a:ext cx="3149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sample 9 8 7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6" name=""/>
          <p:cNvSpPr/>
          <p:nvPr/>
        </p:nvSpPr>
        <p:spPr>
          <a:xfrm>
            <a:off x="2044800" y="2971800"/>
            <a:ext cx="4572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$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7" name=""/>
          <p:cNvSpPr/>
          <p:nvPr/>
        </p:nvSpPr>
        <p:spPr>
          <a:xfrm>
            <a:off x="2539080" y="3683160"/>
            <a:ext cx="3260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6db5c"/>
                </a:solidFill>
                <a:latin typeface="Monaco"/>
                <a:ea typeface="Monaco"/>
              </a:rPr>
              <a:t>Output: 7 8 9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2044800" y="4889520"/>
            <a:ext cx="4257360" cy="787320"/>
            <a:chOff x="2044800" y="4889520"/>
            <a:chExt cx="4257360" cy="787320"/>
          </a:xfrm>
        </p:grpSpPr>
        <p:sp>
          <p:nvSpPr>
            <p:cNvPr id="779" name=""/>
            <p:cNvSpPr/>
            <p:nvPr/>
          </p:nvSpPr>
          <p:spPr>
            <a:xfrm>
              <a:off x="2986560" y="4889520"/>
              <a:ext cx="331560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Monaco"/>
                  <a:ea typeface="Monaco"/>
                </a:rPr>
                <a:t>sample 11 14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044800" y="4902120"/>
              <a:ext cx="4572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Monaco"/>
                  <a:ea typeface="Monaco"/>
                </a:rPr>
                <a:t>$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781" name=""/>
          <p:cNvSpPr/>
          <p:nvPr/>
        </p:nvSpPr>
        <p:spPr>
          <a:xfrm>
            <a:off x="2539080" y="5664240"/>
            <a:ext cx="3260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Monaco"/>
                <a:ea typeface="Monaco"/>
              </a:rPr>
              <a:t>Output: 0 11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561FC-9898-4197-8E95-6651B1C8AF1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647640" y="533520"/>
            <a:ext cx="11684160" cy="86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main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(int argc, char *argv[]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*a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i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a = (int *)malloc((argc - 1) * sizeof(int)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for (i = 0; i &lt; argc - 1; i++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a[i] = atoi(argv[i + 1]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shell_sort(a, argc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printf("Output: "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for (i = 0; i &lt; argc - 1; i++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printf("%d ", a[i]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printf("\n"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free(a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return 0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93ABD-E5A3-4AB4-A5A8-5B0C2A4703B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n F-16</a:t>
            </a:r>
            <a:br>
              <a:rPr sz="7200"/>
            </a:br>
            <a:r>
              <a:rPr b="1" lang="en-US" sz="2400" spc="-1" strike="noStrike">
                <a:solidFill>
                  <a:srgbClr val="ffffff"/>
                </a:solidFill>
                <a:latin typeface="Lucida Grande"/>
              </a:rPr>
              <a:t>(northern hemisphere)</a:t>
            </a:r>
            <a:endParaRPr b="1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2"/>
          <a:stretch/>
        </p:blipFill>
        <p:spPr>
          <a:xfrm>
            <a:off x="2057400" y="3835440"/>
            <a:ext cx="8889840" cy="358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A0298-DE7C-4EE9-83F6-008B03CFBB1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Find Origin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725148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792000" indent="-47448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Gill Sans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printed is the value of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a[0]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.  Where does it come from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792000" indent="-47448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asic idea: Track or deduce </a:t>
            </a:r>
            <a:r>
              <a:rPr b="0" lang="en-US" sz="3200" spc="-1" strike="noStrike">
                <a:solidFill>
                  <a:srgbClr val="6666ff"/>
                </a:solidFill>
                <a:latin typeface="Gill Sans"/>
              </a:rPr>
              <a:t>value origin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792000" indent="-47448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parates </a:t>
            </a:r>
            <a:r>
              <a:rPr b="0" i="1" lang="en-US" sz="3200" spc="-1" strike="noStrike">
                <a:solidFill>
                  <a:srgbClr val="ffffff"/>
                </a:solidFill>
                <a:latin typeface="Gill Sans"/>
              </a:rPr>
              <a:t>relevant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rom </a:t>
            </a:r>
            <a:r>
              <a:rPr b="0" i="1" lang="en-US" sz="3200" spc="-1" strike="noStrike">
                <a:solidFill>
                  <a:srgbClr val="ffffff"/>
                </a:solidFill>
                <a:latin typeface="Gill Sans"/>
              </a:rPr>
              <a:t>irrelevant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792000" indent="-47448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We can trace back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a[0]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to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shell_sor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2"/>
          <a:stretch/>
        </p:blipFill>
        <p:spPr>
          <a:xfrm>
            <a:off x="331920" y="2413080"/>
            <a:ext cx="6197400" cy="575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DD8F-22DB-41A7-8951-2E8BE67B580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977760" y="736560"/>
            <a:ext cx="11023920" cy="82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static void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shell_sort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(int a[], int size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i, j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h = 1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do 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h = h * 3 + 1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 while (h &lt;= size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do 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h /= 3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for (i = h; i &lt; size; i++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v = a[i]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for (j = i; j &gt;= h &amp;&amp; a[j - h] &gt; v; j -= h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a[j] = a[j - h]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f (i != j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a[j] = v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 while (h != 1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DC770-D2C4-4E09-82AB-56F0983807E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Search in Tim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7378560" y="2768400"/>
            <a:ext cx="50421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6000"/>
          </a:bodyPr>
          <a:p>
            <a:pPr marL="833400" indent="-52848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n shell_sort, the state must have become </a:t>
            </a:r>
            <a:r>
              <a:rPr b="0" lang="en-US" sz="4200" spc="-1" strike="noStrike">
                <a:solidFill>
                  <a:srgbClr val="ff0000"/>
                </a:solidFill>
                <a:latin typeface="Gill Sans"/>
              </a:rPr>
              <a:t>infected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33400" indent="-52848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Basic idea: Observe a transition from </a:t>
            </a:r>
            <a:r>
              <a:rPr b="0" lang="en-US" sz="4200" spc="-1" strike="noStrike">
                <a:solidFill>
                  <a:srgbClr val="56db5b"/>
                </a:solidFill>
                <a:latin typeface="Gill Sans"/>
              </a:rPr>
              <a:t>san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to </a:t>
            </a:r>
            <a:r>
              <a:rPr b="0" lang="en-US" sz="4200" spc="-1" strike="noStrike">
                <a:solidFill>
                  <a:srgbClr val="ff0000"/>
                </a:solidFill>
                <a:latin typeface="Gill Sans"/>
              </a:rPr>
              <a:t>infected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789" name="" descr=""/>
          <p:cNvPicPr/>
          <p:nvPr/>
        </p:nvPicPr>
        <p:blipFill>
          <a:blip r:embed="rId2"/>
          <a:stretch/>
        </p:blipFill>
        <p:spPr>
          <a:xfrm>
            <a:off x="647640" y="2387520"/>
            <a:ext cx="6299280" cy="583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46C4-9D21-4606-A7A2-47181809024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69720" y="291960"/>
            <a:ext cx="10464840" cy="17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Observing a Ru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2"/>
          <a:stretch/>
        </p:blipFill>
        <p:spPr>
          <a:xfrm>
            <a:off x="343080" y="2070000"/>
            <a:ext cx="11896560" cy="709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E90D6-2632-465D-ADB2-E765BD84C87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Specific Observati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93" name=""/>
          <p:cNvSpPr/>
          <p:nvPr/>
        </p:nvSpPr>
        <p:spPr>
          <a:xfrm>
            <a:off x="977760" y="2514600"/>
            <a:ext cx="11023920" cy="41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static void shell_sort(int a[], int size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i, j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h = 1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6934320" y="5016600"/>
            <a:ext cx="4742640" cy="2235600"/>
            <a:chOff x="6934320" y="5016600"/>
            <a:chExt cx="4742640" cy="2235600"/>
          </a:xfrm>
        </p:grpSpPr>
        <p:grpSp>
          <p:nvGrpSpPr>
            <p:cNvPr id="795" name=""/>
            <p:cNvGrpSpPr/>
            <p:nvPr/>
          </p:nvGrpSpPr>
          <p:grpSpPr>
            <a:xfrm>
              <a:off x="9245160" y="5016600"/>
              <a:ext cx="2431800" cy="2235600"/>
              <a:chOff x="9245160" y="5016600"/>
              <a:chExt cx="2431800" cy="2235600"/>
            </a:xfrm>
          </p:grpSpPr>
          <p:sp>
            <p:nvSpPr>
              <p:cNvPr id="796" name=""/>
              <p:cNvSpPr/>
              <p:nvPr/>
            </p:nvSpPr>
            <p:spPr>
              <a:xfrm>
                <a:off x="9781920" y="5016600"/>
                <a:ext cx="1895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666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Monaco"/>
                    <a:ea typeface="Monaco"/>
                  </a:rPr>
                  <a:t>sample 11 14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9245160" y="5016600"/>
                <a:ext cx="457200" cy="48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666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Monaco"/>
                    <a:ea typeface="Monaco"/>
                  </a:rPr>
                  <a:t>$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9545760" y="5423040"/>
                <a:ext cx="1864440" cy="182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666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Monaco"/>
                    <a:ea typeface="Monaco"/>
                  </a:rPr>
                  <a:t>a[0] = 11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666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Monaco"/>
                    <a:ea typeface="Monaco"/>
                  </a:rPr>
                  <a:t>a[1] = 14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666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Monaco"/>
                    <a:ea typeface="Monaco"/>
                  </a:rPr>
                  <a:t>a[2] = 0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666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Monaco"/>
                    <a:ea typeface="Monaco"/>
                  </a:rPr>
                  <a:t>size = 3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0666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Monaco"/>
                    <a:ea typeface="Monaco"/>
                  </a:rPr>
                  <a:t>Output: 0 11 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sp>
          <p:nvSpPr>
            <p:cNvPr id="799" name=""/>
            <p:cNvSpPr/>
            <p:nvPr/>
          </p:nvSpPr>
          <p:spPr>
            <a:xfrm>
              <a:off x="6934320" y="5689800"/>
              <a:ext cx="1269720" cy="12700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977760" y="3327480"/>
            <a:ext cx="1102392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fprintf(stderr, “At shell_sort”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for (i = 0; i &lt; size; i++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fprintf(stderr, “a[%d] = %d\n”, i, a[i]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05524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fprintf(stderr, “size = %d\n”, size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1" name=""/>
          <p:cNvSpPr/>
          <p:nvPr/>
        </p:nvSpPr>
        <p:spPr>
          <a:xfrm>
            <a:off x="1217160" y="8102520"/>
            <a:ext cx="105314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The state is infected at the call of 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shell_sort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!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3B278-83CC-4FE7-AE5B-BC9D6A3A2FA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647640" y="6591240"/>
            <a:ext cx="11684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Monaco"/>
                <a:ea typeface="Monaco"/>
              </a:rPr>
              <a:t>shell_sort(a, argc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3" name=""/>
          <p:cNvSpPr/>
          <p:nvPr/>
        </p:nvSpPr>
        <p:spPr>
          <a:xfrm>
            <a:off x="635040" y="6591240"/>
            <a:ext cx="11683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52c857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52c857"/>
                </a:solidFill>
                <a:latin typeface="Monaco"/>
                <a:ea typeface="Monaco"/>
              </a:rPr>
              <a:t>shell_sort(a, argc - 1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4" name=""/>
          <p:cNvSpPr/>
          <p:nvPr/>
        </p:nvSpPr>
        <p:spPr>
          <a:xfrm>
            <a:off x="647640" y="6591240"/>
            <a:ext cx="11684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shell_sort(a, argc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5" name=""/>
          <p:cNvSpPr/>
          <p:nvPr/>
        </p:nvSpPr>
        <p:spPr>
          <a:xfrm>
            <a:off x="647640" y="2895480"/>
            <a:ext cx="11684160" cy="53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main(int argc, char *argv[]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*a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i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a = (int *)malloc((argc - 1) * sizeof(int)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for (i = 0; i &lt; argc - 1; i++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a[i] = atoi(argv[i + 1]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2823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Fixing the Program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7086600" y="6667560"/>
            <a:ext cx="4057200" cy="1270080"/>
            <a:chOff x="7086600" y="6667560"/>
            <a:chExt cx="4057200" cy="1270080"/>
          </a:xfrm>
        </p:grpSpPr>
        <p:grpSp>
          <p:nvGrpSpPr>
            <p:cNvPr id="808" name=""/>
            <p:cNvGrpSpPr/>
            <p:nvPr/>
          </p:nvGrpSpPr>
          <p:grpSpPr>
            <a:xfrm>
              <a:off x="8712000" y="6807240"/>
              <a:ext cx="2431800" cy="772560"/>
              <a:chOff x="8712000" y="6807240"/>
              <a:chExt cx="2431800" cy="772560"/>
            </a:xfrm>
          </p:grpSpPr>
          <p:sp>
            <p:nvSpPr>
              <p:cNvPr id="809" name=""/>
              <p:cNvSpPr/>
              <p:nvPr/>
            </p:nvSpPr>
            <p:spPr>
              <a:xfrm>
                <a:off x="9248760" y="6807240"/>
                <a:ext cx="18950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666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Monaco"/>
                    <a:ea typeface="Monaco"/>
                  </a:rPr>
                  <a:t>sample 11 14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8712000" y="6807240"/>
                <a:ext cx="457200" cy="48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666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Monaco"/>
                    <a:ea typeface="Monaco"/>
                  </a:rPr>
                  <a:t>$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8965080" y="7213680"/>
                <a:ext cx="1959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666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6db5b"/>
                    </a:solidFill>
                    <a:latin typeface="Monaco"/>
                    <a:ea typeface="Monaco"/>
                  </a:rPr>
                  <a:t>Output: 11 14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sp>
          <p:nvSpPr>
            <p:cNvPr id="812" name=""/>
            <p:cNvSpPr/>
            <p:nvPr/>
          </p:nvSpPr>
          <p:spPr>
            <a:xfrm>
              <a:off x="7086600" y="6667560"/>
              <a:ext cx="1270080" cy="1270080"/>
            </a:xfrm>
            <a:prstGeom prst="pie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3E59D-D052-42CF-8F68-A8E6E4F2B05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3" name=""/>
          <p:cNvGrpSpPr/>
          <p:nvPr/>
        </p:nvGrpSpPr>
        <p:grpSpPr>
          <a:xfrm>
            <a:off x="0" y="0"/>
            <a:ext cx="13000320" cy="7329240"/>
            <a:chOff x="0" y="0"/>
            <a:chExt cx="13000320" cy="7329240"/>
          </a:xfrm>
        </p:grpSpPr>
        <p:grpSp>
          <p:nvGrpSpPr>
            <p:cNvPr id="814" name=""/>
            <p:cNvGrpSpPr/>
            <p:nvPr/>
          </p:nvGrpSpPr>
          <p:grpSpPr>
            <a:xfrm>
              <a:off x="0" y="0"/>
              <a:ext cx="13000320" cy="7329240"/>
              <a:chOff x="0" y="0"/>
              <a:chExt cx="13000320" cy="7329240"/>
            </a:xfrm>
          </p:grpSpPr>
          <p:pic>
            <p:nvPicPr>
              <p:cNvPr id="81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6502320" cy="39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6" name=""/>
              <p:cNvSpPr/>
              <p:nvPr/>
            </p:nvSpPr>
            <p:spPr>
              <a:xfrm>
                <a:off x="6501960" y="3378240"/>
                <a:ext cx="6498360" cy="3951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sp>
          <p:nvSpPr>
            <p:cNvPr id="817" name=""/>
            <p:cNvSpPr/>
            <p:nvPr/>
          </p:nvSpPr>
          <p:spPr>
            <a:xfrm>
              <a:off x="6438960" y="2387520"/>
              <a:ext cx="647676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650232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52c857"/>
                  </a:solidFill>
                  <a:latin typeface="Gill Sans"/>
                  <a:ea typeface="Gill Sans"/>
                </a:rPr>
                <a:t>Sane state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0" y="1003320"/>
            <a:ext cx="6654960" cy="3956040"/>
            <a:chOff x="0" y="1003320"/>
            <a:chExt cx="6654960" cy="3956040"/>
          </a:xfrm>
        </p:grpSpPr>
        <p:pic>
          <p:nvPicPr>
            <p:cNvPr id="819" name="" descr=""/>
            <p:cNvPicPr/>
            <p:nvPr/>
          </p:nvPicPr>
          <p:blipFill>
            <a:blip r:embed="rId2"/>
            <a:stretch/>
          </p:blipFill>
          <p:spPr>
            <a:xfrm>
              <a:off x="152280" y="1003320"/>
              <a:ext cx="6502680" cy="39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0" name=""/>
            <p:cNvSpPr/>
            <p:nvPr/>
          </p:nvSpPr>
          <p:spPr>
            <a:xfrm>
              <a:off x="0" y="2400480"/>
              <a:ext cx="665496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66801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0000"/>
                  </a:solidFill>
                  <a:latin typeface="Gill Sans"/>
                  <a:ea typeface="Gill Sans"/>
                </a:rPr>
                <a:t>Infected state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10248840" y="8077320"/>
            <a:ext cx="432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2" name=""/>
          <p:cNvSpPr/>
          <p:nvPr/>
        </p:nvSpPr>
        <p:spPr>
          <a:xfrm>
            <a:off x="546120" y="7340760"/>
            <a:ext cx="469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265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Finding Caus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0" y="0"/>
            <a:ext cx="12877920" cy="8906760"/>
            <a:chOff x="0" y="0"/>
            <a:chExt cx="12877920" cy="8906760"/>
          </a:xfrm>
        </p:grpSpPr>
        <p:pic>
          <p:nvPicPr>
            <p:cNvPr id="825" name="" descr=""/>
            <p:cNvPicPr/>
            <p:nvPr/>
          </p:nvPicPr>
          <p:blipFill>
            <a:blip r:embed="rId3"/>
            <a:stretch/>
          </p:blipFill>
          <p:spPr>
            <a:xfrm rot="2639400">
              <a:off x="1219320" y="306360"/>
              <a:ext cx="2430360" cy="4492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6" name=""/>
            <p:cNvGrpSpPr/>
            <p:nvPr/>
          </p:nvGrpSpPr>
          <p:grpSpPr>
            <a:xfrm>
              <a:off x="3479760" y="6197400"/>
              <a:ext cx="7976520" cy="2709360"/>
              <a:chOff x="3479760" y="6197400"/>
              <a:chExt cx="7976520" cy="2709360"/>
            </a:xfrm>
          </p:grpSpPr>
          <p:sp>
            <p:nvSpPr>
              <p:cNvPr id="827" name=""/>
              <p:cNvSpPr/>
              <p:nvPr/>
            </p:nvSpPr>
            <p:spPr>
              <a:xfrm>
                <a:off x="3479760" y="6283800"/>
                <a:ext cx="3191400" cy="1405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442040" y="7626240"/>
                <a:ext cx="4402080" cy="128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666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200" spc="-1" strike="noStrike">
                    <a:solidFill>
                      <a:srgbClr val="ffffff"/>
                    </a:solidFill>
                    <a:latin typeface="Gill Sans"/>
                    <a:ea typeface="Gill Sans"/>
                  </a:rPr>
                  <a:t>The difference</a:t>
                </a:r>
                <a:endParaRPr b="0" lang="en-US" sz="4200" spc="-1" strike="noStrike">
                  <a:solidFill>
                    <a:srgbClr val="ffffff"/>
                  </a:solidFill>
                  <a:latin typeface="Gill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0666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200" spc="-1" strike="noStrike">
                    <a:solidFill>
                      <a:srgbClr val="ffffff"/>
                    </a:solidFill>
                    <a:latin typeface="Gill Sans"/>
                    <a:ea typeface="Gill Sans"/>
                  </a:rPr>
                  <a:t>causes the failure</a:t>
                </a:r>
                <a:endParaRPr b="0" lang="en-US" sz="4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H="1">
                <a:off x="6980760" y="6197400"/>
                <a:ext cx="4475520" cy="1453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pic>
          <p:nvPicPr>
            <p:cNvPr id="830" name="" descr=""/>
            <p:cNvPicPr/>
            <p:nvPr/>
          </p:nvPicPr>
          <p:blipFill>
            <a:blip r:embed="rId4"/>
            <a:stretch/>
          </p:blipFill>
          <p:spPr>
            <a:xfrm rot="19800000">
              <a:off x="9486720" y="306360"/>
              <a:ext cx="2430360" cy="449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36278-FA5A-4774-BCDF-6557ED9A600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6438960" y="2387520"/>
            <a:ext cx="64771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6502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2c857"/>
                </a:solidFill>
                <a:latin typeface="Gill Sans"/>
                <a:ea typeface="Gill Sans"/>
              </a:rPr>
              <a:t>Sane stat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832" name="" descr=""/>
          <p:cNvPicPr/>
          <p:nvPr/>
        </p:nvPicPr>
        <p:blipFill>
          <a:blip r:embed="rId1"/>
          <a:stretch/>
        </p:blipFill>
        <p:spPr>
          <a:xfrm>
            <a:off x="1955880" y="3403440"/>
            <a:ext cx="2733480" cy="1662120"/>
          </a:xfrm>
          <a:prstGeom prst="rect">
            <a:avLst/>
          </a:prstGeom>
          <a:ln w="0">
            <a:noFill/>
          </a:ln>
        </p:spPr>
      </p:pic>
      <p:sp>
        <p:nvSpPr>
          <p:cNvPr id="833" name=""/>
          <p:cNvSpPr/>
          <p:nvPr/>
        </p:nvSpPr>
        <p:spPr>
          <a:xfrm>
            <a:off x="0" y="2400480"/>
            <a:ext cx="665496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6680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ill Sans"/>
                <a:ea typeface="Gill Sans"/>
              </a:rPr>
              <a:t>Infected stat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4" name=""/>
          <p:cNvSpPr/>
          <p:nvPr/>
        </p:nvSpPr>
        <p:spPr>
          <a:xfrm>
            <a:off x="546120" y="7340760"/>
            <a:ext cx="469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265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Search in Spac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2"/>
          <a:stretch/>
        </p:blipFill>
        <p:spPr>
          <a:xfrm>
            <a:off x="8305920" y="3390840"/>
            <a:ext cx="2733480" cy="1662120"/>
          </a:xfrm>
          <a:prstGeom prst="rect">
            <a:avLst/>
          </a:prstGeom>
          <a:ln w="0">
            <a:noFill/>
          </a:ln>
        </p:spPr>
      </p:pic>
      <p:grpSp>
        <p:nvGrpSpPr>
          <p:cNvPr id="837" name=""/>
          <p:cNvGrpSpPr/>
          <p:nvPr/>
        </p:nvGrpSpPr>
        <p:grpSpPr>
          <a:xfrm>
            <a:off x="1320840" y="1905120"/>
            <a:ext cx="8432640" cy="6896160"/>
            <a:chOff x="1320840" y="1905120"/>
            <a:chExt cx="8432640" cy="6896160"/>
          </a:xfrm>
        </p:grpSpPr>
        <p:sp>
          <p:nvSpPr>
            <p:cNvPr id="838" name=""/>
            <p:cNvSpPr/>
            <p:nvPr/>
          </p:nvSpPr>
          <p:spPr>
            <a:xfrm>
              <a:off x="3098880" y="8077320"/>
              <a:ext cx="665460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66801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Mixed state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839" name=""/>
            <p:cNvGrpSpPr/>
            <p:nvPr/>
          </p:nvGrpSpPr>
          <p:grpSpPr>
            <a:xfrm>
              <a:off x="1320840" y="1905120"/>
              <a:ext cx="7624800" cy="6183000"/>
              <a:chOff x="1320840" y="1905120"/>
              <a:chExt cx="7624800" cy="6183000"/>
            </a:xfrm>
          </p:grpSpPr>
          <p:pic>
            <p:nvPicPr>
              <p:cNvPr id="84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320840" y="1905120"/>
                <a:ext cx="2733480" cy="16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809880" y="4627440"/>
                <a:ext cx="2290320" cy="3460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6869520" y="4521240"/>
                <a:ext cx="2076120" cy="3484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</p:grpSp>
      <p:grpSp>
        <p:nvGrpSpPr>
          <p:cNvPr id="843" name=""/>
          <p:cNvGrpSpPr/>
          <p:nvPr/>
        </p:nvGrpSpPr>
        <p:grpSpPr>
          <a:xfrm>
            <a:off x="0" y="-360"/>
            <a:ext cx="9917280" cy="6345360"/>
            <a:chOff x="0" y="-360"/>
            <a:chExt cx="9917280" cy="6345360"/>
          </a:xfrm>
        </p:grpSpPr>
        <p:sp>
          <p:nvSpPr>
            <p:cNvPr id="844" name=""/>
            <p:cNvSpPr/>
            <p:nvPr/>
          </p:nvSpPr>
          <p:spPr>
            <a:xfrm>
              <a:off x="9406080" y="5613480"/>
              <a:ext cx="51120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2c857"/>
                  </a:solidFill>
                  <a:latin typeface="Zapf Dingbats"/>
                  <a:ea typeface="Zapf Dingbats"/>
                </a:rPr>
                <a:t>✔</a:t>
              </a:r>
              <a:endParaRPr b="0" lang="en-US" sz="4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845" name="" descr=""/>
            <p:cNvPicPr/>
            <p:nvPr/>
          </p:nvPicPr>
          <p:blipFill>
            <a:blip r:embed="rId4"/>
            <a:stretch/>
          </p:blipFill>
          <p:spPr>
            <a:xfrm rot="16200000">
              <a:off x="-110880" y="110520"/>
              <a:ext cx="2165400" cy="194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6" name=""/>
          <p:cNvGrpSpPr/>
          <p:nvPr/>
        </p:nvGrpSpPr>
        <p:grpSpPr>
          <a:xfrm>
            <a:off x="800280" y="0"/>
            <a:ext cx="3047760" cy="8013240"/>
            <a:chOff x="800280" y="0"/>
            <a:chExt cx="3047760" cy="8013240"/>
          </a:xfrm>
        </p:grpSpPr>
        <p:sp>
          <p:nvSpPr>
            <p:cNvPr id="847" name=""/>
            <p:cNvSpPr/>
            <p:nvPr/>
          </p:nvSpPr>
          <p:spPr>
            <a:xfrm>
              <a:off x="3054960" y="5625720"/>
              <a:ext cx="51120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Zapf Dingbats"/>
                  <a:ea typeface="Zapf Dingbats"/>
                </a:rPr>
                <a:t>✘</a:t>
              </a:r>
              <a:endParaRPr b="0" lang="en-US" sz="4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781360" y="7289640"/>
              <a:ext cx="106668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0922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Test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849" name="" descr=""/>
            <p:cNvPicPr/>
            <p:nvPr/>
          </p:nvPicPr>
          <p:blipFill>
            <a:blip r:embed="rId5"/>
            <a:stretch/>
          </p:blipFill>
          <p:spPr>
            <a:xfrm>
              <a:off x="800280" y="0"/>
              <a:ext cx="1958760" cy="218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0" name=""/>
          <p:cNvGrpSpPr/>
          <p:nvPr/>
        </p:nvGrpSpPr>
        <p:grpSpPr>
          <a:xfrm>
            <a:off x="-720" y="-720"/>
            <a:ext cx="8779320" cy="7799760"/>
            <a:chOff x="-720" y="-720"/>
            <a:chExt cx="8779320" cy="7799760"/>
          </a:xfrm>
        </p:grpSpPr>
        <p:sp>
          <p:nvSpPr>
            <p:cNvPr id="851" name=""/>
            <p:cNvSpPr/>
            <p:nvPr/>
          </p:nvSpPr>
          <p:spPr>
            <a:xfrm>
              <a:off x="8486640" y="7067520"/>
              <a:ext cx="29196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8000"/>
                  </a:solidFill>
                  <a:latin typeface="Lucida Grande"/>
                  <a:ea typeface="Lucida Grande"/>
                </a:rPr>
                <a:t>?</a:t>
              </a:r>
              <a:endParaRPr b="0" lang="en-US" sz="4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852" name="" descr=""/>
            <p:cNvPicPr/>
            <p:nvPr/>
          </p:nvPicPr>
          <p:blipFill>
            <a:blip r:embed="rId6"/>
            <a:stretch/>
          </p:blipFill>
          <p:spPr>
            <a:xfrm rot="1560000">
              <a:off x="157320" y="200160"/>
              <a:ext cx="1144440" cy="98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3" name=""/>
          <p:cNvGrpSpPr/>
          <p:nvPr/>
        </p:nvGrpSpPr>
        <p:grpSpPr>
          <a:xfrm>
            <a:off x="2095560" y="3911760"/>
            <a:ext cx="8712000" cy="4863600"/>
            <a:chOff x="2095560" y="3911760"/>
            <a:chExt cx="8712000" cy="4863600"/>
          </a:xfrm>
        </p:grpSpPr>
        <p:grpSp>
          <p:nvGrpSpPr>
            <p:cNvPr id="854" name=""/>
            <p:cNvGrpSpPr/>
            <p:nvPr/>
          </p:nvGrpSpPr>
          <p:grpSpPr>
            <a:xfrm>
              <a:off x="2095560" y="3911760"/>
              <a:ext cx="8712000" cy="4863600"/>
              <a:chOff x="2095560" y="3911760"/>
              <a:chExt cx="8712000" cy="4863600"/>
            </a:xfrm>
          </p:grpSpPr>
          <p:grpSp>
            <p:nvGrpSpPr>
              <p:cNvPr id="855" name=""/>
              <p:cNvGrpSpPr/>
              <p:nvPr/>
            </p:nvGrpSpPr>
            <p:grpSpPr>
              <a:xfrm>
                <a:off x="3860280" y="3911760"/>
                <a:ext cx="4939920" cy="549000"/>
                <a:chOff x="3860280" y="3911760"/>
                <a:chExt cx="4939920" cy="549000"/>
              </a:xfrm>
            </p:grpSpPr>
            <p:sp>
              <p:nvSpPr>
                <p:cNvPr id="856" name=""/>
                <p:cNvSpPr/>
                <p:nvPr/>
              </p:nvSpPr>
              <p:spPr>
                <a:xfrm>
                  <a:off x="5652000" y="3911760"/>
                  <a:ext cx="170928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066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00"/>
                      </a:solidFill>
                      <a:latin typeface="Gill Sans"/>
                      <a:ea typeface="Gill Sans"/>
                    </a:rPr>
                    <a:t>argc = 3</a:t>
                  </a:r>
                  <a:endParaRPr b="0" lang="en-US" sz="3600" spc="-1" strike="noStrike">
                    <a:solidFill>
                      <a:srgbClr val="ffffff"/>
                    </a:solidFill>
                    <a:latin typeface="Gill Sans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7479720" y="4229280"/>
                  <a:ext cx="132048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Gill Sans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 flipH="1">
                  <a:off x="3860280" y="4229280"/>
                  <a:ext cx="157428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Gill Sans"/>
                  </a:endParaRPr>
                </a:p>
              </p:txBody>
            </p:sp>
          </p:grpSp>
          <p:grpSp>
            <p:nvGrpSpPr>
              <p:cNvPr id="859" name=""/>
              <p:cNvGrpSpPr/>
              <p:nvPr/>
            </p:nvGrpSpPr>
            <p:grpSpPr>
              <a:xfrm>
                <a:off x="2095560" y="4483440"/>
                <a:ext cx="8712000" cy="4291920"/>
                <a:chOff x="2095560" y="4483440"/>
                <a:chExt cx="8712000" cy="429192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2095560" y="5143320"/>
                  <a:ext cx="8712000" cy="3632040"/>
                </a:xfrm>
                <a:prstGeom prst="rect">
                  <a:avLst/>
                </a:prstGeom>
                <a:solidFill>
                  <a:srgbClr val="0000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Gill Sans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3822480" y="4597560"/>
                  <a:ext cx="599760" cy="540720"/>
                </a:xfrm>
                <a:prstGeom prst="line">
                  <a:avLst/>
                </a:prstGeom>
                <a:ln w="25560">
                  <a:solidFill>
                    <a:srgbClr val="000000">
                      <a:alpha val="7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Gill Sans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 flipH="1">
                  <a:off x="8330400" y="4483440"/>
                  <a:ext cx="664920" cy="641160"/>
                </a:xfrm>
                <a:prstGeom prst="line">
                  <a:avLst/>
                </a:prstGeom>
                <a:ln w="25560">
                  <a:solidFill>
                    <a:srgbClr val="000000">
                      <a:alpha val="7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Gill Sans"/>
                  </a:endParaRPr>
                </a:p>
              </p:txBody>
            </p:sp>
          </p:grpSp>
        </p:grpSp>
        <p:sp>
          <p:nvSpPr>
            <p:cNvPr id="863" name=""/>
            <p:cNvSpPr/>
            <p:nvPr/>
          </p:nvSpPr>
          <p:spPr>
            <a:xfrm>
              <a:off x="3517560" y="4876920"/>
              <a:ext cx="151920" cy="304920"/>
            </a:xfrm>
            <a:prstGeom prst="triangle">
              <a:avLst>
                <a:gd name="adj" fmla="val 50000"/>
              </a:avLst>
            </a:prstGeom>
            <a:solidFill>
              <a:srgbClr val="00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9245160" y="4876920"/>
              <a:ext cx="152280" cy="304920"/>
            </a:xfrm>
            <a:prstGeom prst="triangle">
              <a:avLst>
                <a:gd name="adj" fmla="val 50000"/>
              </a:avLst>
            </a:prstGeom>
            <a:solidFill>
              <a:srgbClr val="00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1B463-DD50-42F8-9BF4-DE009EEC493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6438960" y="2387520"/>
            <a:ext cx="64771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6502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2c857"/>
                </a:solidFill>
                <a:latin typeface="Gill Sans"/>
                <a:ea typeface="Gill Sans"/>
              </a:rPr>
              <a:t>Passing ru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866" name="" descr=""/>
          <p:cNvPicPr/>
          <p:nvPr/>
        </p:nvPicPr>
        <p:blipFill>
          <a:blip r:embed="rId1"/>
          <a:stretch/>
        </p:blipFill>
        <p:spPr>
          <a:xfrm>
            <a:off x="1955880" y="3403440"/>
            <a:ext cx="2733480" cy="1662120"/>
          </a:xfrm>
          <a:prstGeom prst="rect">
            <a:avLst/>
          </a:prstGeom>
          <a:ln w="0">
            <a:noFill/>
          </a:ln>
        </p:spPr>
      </p:pic>
      <p:sp>
        <p:nvSpPr>
          <p:cNvPr id="867" name=""/>
          <p:cNvSpPr/>
          <p:nvPr/>
        </p:nvSpPr>
        <p:spPr>
          <a:xfrm>
            <a:off x="0" y="2400480"/>
            <a:ext cx="665496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6680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ill Sans"/>
                <a:ea typeface="Gill Sans"/>
              </a:rPr>
              <a:t>Failing ru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8" name=""/>
          <p:cNvSpPr/>
          <p:nvPr/>
        </p:nvSpPr>
        <p:spPr>
          <a:xfrm>
            <a:off x="10248840" y="8077320"/>
            <a:ext cx="432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9" name=""/>
          <p:cNvSpPr/>
          <p:nvPr/>
        </p:nvSpPr>
        <p:spPr>
          <a:xfrm>
            <a:off x="546120" y="7340760"/>
            <a:ext cx="469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265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Search in Tim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871" name="" descr=""/>
          <p:cNvPicPr/>
          <p:nvPr/>
        </p:nvPicPr>
        <p:blipFill>
          <a:blip r:embed="rId2"/>
          <a:stretch/>
        </p:blipFill>
        <p:spPr>
          <a:xfrm>
            <a:off x="1955880" y="5346720"/>
            <a:ext cx="2733480" cy="1662120"/>
          </a:xfrm>
          <a:prstGeom prst="rect">
            <a:avLst/>
          </a:prstGeom>
          <a:ln w="0">
            <a:noFill/>
          </a:ln>
        </p:spPr>
      </p:pic>
      <p:pic>
        <p:nvPicPr>
          <p:cNvPr id="872" name="" descr=""/>
          <p:cNvPicPr/>
          <p:nvPr/>
        </p:nvPicPr>
        <p:blipFill>
          <a:blip r:embed="rId3"/>
          <a:stretch/>
        </p:blipFill>
        <p:spPr>
          <a:xfrm>
            <a:off x="1955880" y="7315200"/>
            <a:ext cx="2733480" cy="166212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/>
          <p:nvPr/>
        </p:nvSpPr>
        <p:spPr>
          <a:xfrm>
            <a:off x="11855520" y="2946240"/>
            <a:ext cx="0" cy="6191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4" name=""/>
          <p:cNvSpPr/>
          <p:nvPr/>
        </p:nvSpPr>
        <p:spPr>
          <a:xfrm>
            <a:off x="11984400" y="8508960"/>
            <a:ext cx="146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875" name="" descr=""/>
          <p:cNvPicPr/>
          <p:nvPr/>
        </p:nvPicPr>
        <p:blipFill>
          <a:blip r:embed="rId4"/>
          <a:stretch/>
        </p:blipFill>
        <p:spPr>
          <a:xfrm>
            <a:off x="8305920" y="3390840"/>
            <a:ext cx="2733480" cy="1662120"/>
          </a:xfrm>
          <a:prstGeom prst="rect">
            <a:avLst/>
          </a:prstGeom>
          <a:ln w="0">
            <a:noFill/>
          </a:ln>
        </p:spPr>
      </p:pic>
      <p:pic>
        <p:nvPicPr>
          <p:cNvPr id="876" name="" descr=""/>
          <p:cNvPicPr/>
          <p:nvPr/>
        </p:nvPicPr>
        <p:blipFill>
          <a:blip r:embed="rId5"/>
          <a:stretch/>
        </p:blipFill>
        <p:spPr>
          <a:xfrm>
            <a:off x="8305920" y="5334120"/>
            <a:ext cx="2733480" cy="1662120"/>
          </a:xfrm>
          <a:prstGeom prst="rect">
            <a:avLst/>
          </a:prstGeom>
          <a:ln w="0">
            <a:noFill/>
          </a:ln>
        </p:spPr>
      </p:pic>
      <p:pic>
        <p:nvPicPr>
          <p:cNvPr id="877" name="" descr=""/>
          <p:cNvPicPr/>
          <p:nvPr/>
        </p:nvPicPr>
        <p:blipFill>
          <a:blip r:embed="rId6"/>
          <a:stretch/>
        </p:blipFill>
        <p:spPr>
          <a:xfrm>
            <a:off x="8305920" y="7302600"/>
            <a:ext cx="2733480" cy="1662120"/>
          </a:xfrm>
          <a:prstGeom prst="rect">
            <a:avLst/>
          </a:prstGeom>
          <a:ln w="0">
            <a:noFill/>
          </a:ln>
        </p:spPr>
      </p:pic>
      <p:grpSp>
        <p:nvGrpSpPr>
          <p:cNvPr id="878" name=""/>
          <p:cNvGrpSpPr/>
          <p:nvPr/>
        </p:nvGrpSpPr>
        <p:grpSpPr>
          <a:xfrm>
            <a:off x="3860640" y="3911760"/>
            <a:ext cx="4940280" cy="549000"/>
            <a:chOff x="3860640" y="3911760"/>
            <a:chExt cx="4940280" cy="549000"/>
          </a:xfrm>
        </p:grpSpPr>
        <p:sp>
          <p:nvSpPr>
            <p:cNvPr id="879" name=""/>
            <p:cNvSpPr/>
            <p:nvPr/>
          </p:nvSpPr>
          <p:spPr>
            <a:xfrm>
              <a:off x="5652360" y="3911760"/>
              <a:ext cx="17092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Gill Sans"/>
                  <a:ea typeface="Gill Sans"/>
                </a:rPr>
                <a:t>argc = 3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480080" y="4228920"/>
              <a:ext cx="1320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3860640" y="4228920"/>
              <a:ext cx="1574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3860640" y="5842080"/>
            <a:ext cx="4927680" cy="549000"/>
            <a:chOff x="3860640" y="5842080"/>
            <a:chExt cx="4927680" cy="549000"/>
          </a:xfrm>
        </p:grpSpPr>
        <p:sp>
          <p:nvSpPr>
            <p:cNvPr id="883" name=""/>
            <p:cNvSpPr/>
            <p:nvPr/>
          </p:nvSpPr>
          <p:spPr>
            <a:xfrm>
              <a:off x="5639760" y="5842080"/>
              <a:ext cx="17092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Gill Sans"/>
                  <a:ea typeface="Gill Sans"/>
                </a:rPr>
                <a:t>argc = 3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467480" y="6184800"/>
              <a:ext cx="1320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3860640" y="6184800"/>
              <a:ext cx="1574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3860640" y="7810560"/>
            <a:ext cx="4927680" cy="549000"/>
            <a:chOff x="3860640" y="7810560"/>
            <a:chExt cx="4927680" cy="549000"/>
          </a:xfrm>
        </p:grpSpPr>
        <p:sp>
          <p:nvSpPr>
            <p:cNvPr id="887" name=""/>
            <p:cNvSpPr/>
            <p:nvPr/>
          </p:nvSpPr>
          <p:spPr>
            <a:xfrm>
              <a:off x="5693400" y="7810560"/>
              <a:ext cx="1582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Gill Sans"/>
                  <a:ea typeface="Gill Sans"/>
                </a:rPr>
                <a:t>a[2] = 0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467480" y="8153280"/>
              <a:ext cx="1320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3860640" y="8153280"/>
              <a:ext cx="1574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3537000" y="6515280"/>
            <a:ext cx="5895720" cy="1333440"/>
            <a:chOff x="3537000" y="6515280"/>
            <a:chExt cx="5895720" cy="1333440"/>
          </a:xfrm>
        </p:grpSpPr>
        <p:sp>
          <p:nvSpPr>
            <p:cNvPr id="891" name=""/>
            <p:cNvSpPr/>
            <p:nvPr/>
          </p:nvSpPr>
          <p:spPr>
            <a:xfrm>
              <a:off x="3537000" y="6845400"/>
              <a:ext cx="5895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Transition from </a:t>
              </a:r>
              <a:r>
                <a:rPr b="0" lang="en-US" sz="3600" spc="-1" strike="noStrike">
                  <a:solidFill>
                    <a:srgbClr val="ffff00"/>
                  </a:solidFill>
                  <a:latin typeface="Gill Sans"/>
                  <a:ea typeface="Gill Sans"/>
                </a:rPr>
                <a:t>argc</a:t>
              </a:r>
              <a:r>
                <a:rPr b="0" lang="en-US" sz="36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 to </a:t>
              </a:r>
              <a:r>
                <a:rPr b="0" lang="en-US" sz="3600" spc="-1" strike="noStrike">
                  <a:solidFill>
                    <a:srgbClr val="ffff00"/>
                  </a:solidFill>
                  <a:latin typeface="Gill Sans"/>
                  <a:ea typeface="Gill Sans"/>
                </a:rPr>
                <a:t>a[2]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438600" y="6515280"/>
              <a:ext cx="0" cy="35568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438600" y="7493040"/>
              <a:ext cx="0" cy="35568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EA9B3-53E5-4DF2-B9AC-22C9705D6AE0}" type="slidenum">
              <a:t>28</a:t>
            </a:fld>
          </a:p>
        </p:txBody>
      </p:sp>
    </p:spTree>
  </p:cSld>
  <p:transition spd="med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647640" y="533520"/>
            <a:ext cx="11684160" cy="90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main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(int argc, char *argv[]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*a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// Input arra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a = (int *)malloc((argc - 1) * sizeof(int)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for (int i = 0; i &lt; argc - 1; i++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a[i] = atoi(argv[i + 1]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// Sort arra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shell_sort(a, argc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// Output arra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printf("Output: "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for (int i = 0; i &lt; argc - 1; i++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printf("%d ", a[i]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printf("\n"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free(a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return 0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5" name=""/>
          <p:cNvSpPr/>
          <p:nvPr/>
        </p:nvSpPr>
        <p:spPr>
          <a:xfrm>
            <a:off x="6300000" y="4330800"/>
            <a:ext cx="4060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ill Sans"/>
                <a:ea typeface="Gill Sans"/>
              </a:rPr>
              <a:t>Should be </a:t>
            </a:r>
            <a:r>
              <a:rPr b="0" lang="en-US" sz="3200" spc="-1" strike="noStrike">
                <a:solidFill>
                  <a:srgbClr val="ff0000"/>
                </a:solidFill>
                <a:latin typeface="Monaco"/>
                <a:ea typeface="Monaco"/>
              </a:rPr>
              <a:t>argc - 1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6" name=""/>
          <p:cNvSpPr/>
          <p:nvPr/>
        </p:nvSpPr>
        <p:spPr>
          <a:xfrm>
            <a:off x="888840" y="4076640"/>
            <a:ext cx="4680000" cy="1270080"/>
          </a:xfrm>
          <a:prstGeom prst="pi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ACF620-345C-4C87-B34A-75707CE2582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2823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n F-16</a:t>
            </a:r>
            <a:br>
              <a:rPr sz="7200"/>
            </a:br>
            <a:r>
              <a:rPr b="1" lang="en-US" sz="2400" spc="-1" strike="noStrike">
                <a:solidFill>
                  <a:srgbClr val="ffffff"/>
                </a:solidFill>
                <a:latin typeface="Lucida Grande"/>
              </a:rPr>
              <a:t>(southern hemisphere)</a:t>
            </a:r>
            <a:endParaRPr b="1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2"/>
          <a:stretch/>
        </p:blipFill>
        <p:spPr>
          <a:xfrm>
            <a:off x="2057400" y="3835440"/>
            <a:ext cx="8889840" cy="358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99043-F346-428A-9F02-A3D267C154A7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" descr=""/>
          <p:cNvPicPr/>
          <p:nvPr/>
        </p:nvPicPr>
        <p:blipFill>
          <a:blip r:embed="rId2"/>
          <a:stretch/>
        </p:blipFill>
        <p:spPr>
          <a:xfrm>
            <a:off x="2006640" y="507960"/>
            <a:ext cx="9472680" cy="8742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B9C91-59FD-40F2-936E-13D8344620D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ncep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84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785880" indent="-496800">
              <a:lnSpc>
                <a:spcPct val="100000"/>
              </a:lnSpc>
              <a:buSzPct val="132639"/>
              <a:buBlip>
                <a:blip r:embed="rId2"/>
              </a:buBlip>
              <a:tabLst>
                <a:tab algn="l" pos="1511280"/>
                <a:tab algn="l" pos="1828800"/>
                <a:tab algn="l" pos="203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 failure comes to be in three stages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61080" indent="-5562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AutoNum type="arabicPeriod"/>
              <a:tabLst>
                <a:tab algn="l" pos="1511280"/>
                <a:tab algn="l" pos="1828800"/>
                <a:tab algn="l" pos="203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programmer creates a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defec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61080" indent="-5562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AutoNum type="arabicPeriod"/>
              <a:tabLst>
                <a:tab algn="l" pos="1511280"/>
                <a:tab algn="l" pos="1828800"/>
                <a:tab algn="l" pos="203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defect causes an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infec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61080" indent="-5562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AutoNum type="arabicPeriod"/>
              <a:tabLst>
                <a:tab algn="l" pos="1511280"/>
                <a:tab algn="l" pos="1828800"/>
                <a:tab algn="l" pos="203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infection causes a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failure --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n externally visible error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85880" indent="-496800">
              <a:lnSpc>
                <a:spcPct val="100000"/>
              </a:lnSpc>
              <a:spcBef>
                <a:spcPts val="2599"/>
              </a:spcBef>
              <a:buSzPct val="132639"/>
              <a:buBlip>
                <a:blip r:embed="rId3"/>
              </a:buBlip>
              <a:tabLst>
                <a:tab algn="l" pos="1511280"/>
                <a:tab algn="l" pos="1828800"/>
                <a:tab algn="l" pos="203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Not every defect results in an infection, and not every infection results in a failure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ABA20-AD6F-42F8-A818-90BF0291F6CA}" type="slidenum">
              <a:t>31</a:t>
            </a:fld>
          </a:p>
        </p:txBody>
      </p:sp>
    </p:spTree>
  </p:cSld>
  <p:transition spd="med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ncepts (2)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546120">
              <a:lnSpc>
                <a:spcPct val="100000"/>
              </a:lnSpc>
              <a:buSzPct val="132639"/>
              <a:buBlip>
                <a:blip r:embed="rId2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o debug a program, proceed in 7 steps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902" name=""/>
          <p:cNvGraphicFramePr/>
          <p:nvPr/>
        </p:nvGraphicFramePr>
        <p:xfrm>
          <a:off x="5130720" y="4254480"/>
          <a:ext cx="558720" cy="4280040"/>
        </p:xfrm>
        <a:graphic>
          <a:graphicData uri="http://schemas.openxmlformats.org/drawingml/2006/table">
            <a:tbl>
              <a:tblPr/>
              <a:tblGrid>
                <a:gridCol w="558720"/>
              </a:tblGrid>
              <a:tr h="62532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532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532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532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532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532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532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6666ff"/>
                          </a:solidFill>
                          <a:latin typeface="Gill Sans"/>
                          <a:ea typeface="ヒラギノ角ゴ ProN W3"/>
                        </a:rPr>
                        <a:t>C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3" name=""/>
          <p:cNvGraphicFramePr/>
          <p:nvPr/>
        </p:nvGraphicFramePr>
        <p:xfrm>
          <a:off x="5562720" y="4254480"/>
          <a:ext cx="3429000" cy="428004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117396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rack the problem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532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eproduc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532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utomat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532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ind Origin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532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ocu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532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solat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532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560088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orrec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28571-A33A-4949-8D32-2ED150955DE2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ncepts (3)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10464840" cy="618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marL="855000" indent="-540360">
              <a:lnSpc>
                <a:spcPct val="100000"/>
              </a:lnSpc>
              <a:buSzPct val="132639"/>
              <a:buBlip>
                <a:blip r:embed="rId2"/>
              </a:buBlip>
              <a:tabLst>
                <a:tab algn="l" pos="151128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 variety of tools and techniques is available to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automate debugging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12200" indent="-54504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128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rogram Slicing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12200" indent="-54504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128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bserving &amp; Watching Stat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12200" indent="-54504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128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sserting Invariant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12200" indent="-54504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128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etecting Anomali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12200" indent="-54504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128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solating Cause-Effect Chai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B6207-5787-48F6-9590-871FBA5838C3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1816200" y="7772400"/>
            <a:ext cx="100202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Gill Sans"/>
                <a:ea typeface="Gill Sans"/>
              </a:rPr>
              <a:t>This work is licensed under the Creative Commons Attribution License.  To view a copy of this license, visit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Gill Sans"/>
                <a:ea typeface="Gill Sans"/>
              </a:rPr>
              <a:t>http://creativecommons.org/licenses/by/1.0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Gill Sans"/>
                <a:ea typeface="Gill Sans"/>
              </a:rPr>
              <a:t>or send a letter to Creative Commons, 559 Abbott Way, Stanford, California 94305, USA.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AA7DC-3D12-4692-96AB-C5E6BD8B50A9}" type="slidenum">
              <a:t>34</a:t>
            </a:fld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F-16 Landing Gear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1473120" y="2639880"/>
            <a:ext cx="10053720" cy="59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79069-4CAC-412F-8764-A8F408F7FC5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he First Bug</a:t>
            </a:r>
            <a:br>
              <a:rPr sz="7200"/>
            </a:br>
            <a:r>
              <a:rPr b="1" lang="en-US" sz="2400" spc="-1" strike="noStrike">
                <a:solidFill>
                  <a:srgbClr val="ffffff"/>
                </a:solidFill>
                <a:latin typeface="Lucida Grande"/>
              </a:rPr>
              <a:t>September 9, 1947</a:t>
            </a:r>
            <a:endParaRPr b="1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2"/>
          <a:stretch/>
        </p:blipFill>
        <p:spPr>
          <a:xfrm>
            <a:off x="863640" y="3467160"/>
            <a:ext cx="11275920" cy="281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1A483-D125-4696-9285-6B70BDF75C4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" descr=""/>
          <p:cNvPicPr/>
          <p:nvPr/>
        </p:nvPicPr>
        <p:blipFill>
          <a:blip r:embed="rId2"/>
          <a:stretch/>
        </p:blipFill>
        <p:spPr>
          <a:xfrm>
            <a:off x="3632040" y="3962520"/>
            <a:ext cx="6375600" cy="332712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3"/>
          <a:stretch/>
        </p:blipFill>
        <p:spPr>
          <a:xfrm>
            <a:off x="2463840" y="6172200"/>
            <a:ext cx="10718640" cy="759456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4"/>
          <a:stretch/>
        </p:blipFill>
        <p:spPr>
          <a:xfrm>
            <a:off x="5207040" y="6896160"/>
            <a:ext cx="3962520" cy="2552760"/>
          </a:xfrm>
          <a:prstGeom prst="rect">
            <a:avLst/>
          </a:prstGeom>
          <a:ln w="0">
            <a:noFill/>
          </a:ln>
        </p:spPr>
      </p:pic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More Bug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5"/>
          <a:stretch/>
        </p:blipFill>
        <p:spPr>
          <a:xfrm>
            <a:off x="1130400" y="812880"/>
            <a:ext cx="10718640" cy="759456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6"/>
          <a:stretch/>
        </p:blipFill>
        <p:spPr>
          <a:xfrm>
            <a:off x="3098880" y="-139680"/>
            <a:ext cx="10718640" cy="759456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7"/>
          <a:stretch/>
        </p:blipFill>
        <p:spPr>
          <a:xfrm>
            <a:off x="-1320840" y="266760"/>
            <a:ext cx="10719000" cy="7594560"/>
          </a:xfrm>
          <a:prstGeom prst="rect">
            <a:avLst/>
          </a:prstGeom>
          <a:ln w="0">
            <a:noFill/>
          </a:ln>
        </p:spPr>
      </p:pic>
      <p:pic>
        <p:nvPicPr>
          <p:cNvPr id="630" name="" descr=""/>
          <p:cNvPicPr/>
          <p:nvPr/>
        </p:nvPicPr>
        <p:blipFill>
          <a:blip r:embed="rId8"/>
          <a:stretch/>
        </p:blipFill>
        <p:spPr>
          <a:xfrm>
            <a:off x="7823160" y="2374920"/>
            <a:ext cx="10719000" cy="759456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9"/>
          <a:stretch/>
        </p:blipFill>
        <p:spPr>
          <a:xfrm>
            <a:off x="1143000" y="2044800"/>
            <a:ext cx="10718640" cy="759456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10"/>
          <a:stretch/>
        </p:blipFill>
        <p:spPr>
          <a:xfrm>
            <a:off x="2184480" y="2044800"/>
            <a:ext cx="10718640" cy="759456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11"/>
          <a:stretch/>
        </p:blipFill>
        <p:spPr>
          <a:xfrm>
            <a:off x="2019240" y="1701720"/>
            <a:ext cx="10719000" cy="759456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12"/>
          <a:stretch/>
        </p:blipFill>
        <p:spPr>
          <a:xfrm>
            <a:off x="4178160" y="4241880"/>
            <a:ext cx="10719000" cy="759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0F273-85C4-480B-9323-5F3C1EEF6B8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Facts on Debugging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789840" indent="-5011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oftware bugs are costing ~60 bln US$/y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89840" indent="-5011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mprovements could reduce cost by 30%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89840" indent="-5011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Validation (including debugging) can easily take up to 50-75% of the development tim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89840" indent="-5011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hen debugging, some people are three times as efficient than other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358D6-76C2-4145-8B77-C10215954B64}" type="slidenum">
              <a:t>7</a:t>
            </a:fld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 Sample Program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38" name=""/>
          <p:cNvSpPr/>
          <p:nvPr/>
        </p:nvSpPr>
        <p:spPr>
          <a:xfrm>
            <a:off x="3056760" y="2959200"/>
            <a:ext cx="3149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sample 9 8 7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9" name=""/>
          <p:cNvSpPr/>
          <p:nvPr/>
        </p:nvSpPr>
        <p:spPr>
          <a:xfrm>
            <a:off x="2044800" y="2971800"/>
            <a:ext cx="4572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$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0" name=""/>
          <p:cNvSpPr/>
          <p:nvPr/>
        </p:nvSpPr>
        <p:spPr>
          <a:xfrm>
            <a:off x="2539080" y="3683160"/>
            <a:ext cx="3260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6db5c"/>
                </a:solidFill>
                <a:latin typeface="Monaco"/>
                <a:ea typeface="Monaco"/>
              </a:rPr>
              <a:t>Output: 7 8 9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2044800" y="4889520"/>
            <a:ext cx="4257360" cy="787320"/>
            <a:chOff x="2044800" y="4889520"/>
            <a:chExt cx="4257360" cy="787320"/>
          </a:xfrm>
        </p:grpSpPr>
        <p:sp>
          <p:nvSpPr>
            <p:cNvPr id="642" name=""/>
            <p:cNvSpPr/>
            <p:nvPr/>
          </p:nvSpPr>
          <p:spPr>
            <a:xfrm>
              <a:off x="2986560" y="4889520"/>
              <a:ext cx="331560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Monaco"/>
                  <a:ea typeface="Monaco"/>
                </a:rPr>
                <a:t>sample 11 14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044800" y="4902120"/>
              <a:ext cx="4572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Monaco"/>
                  <a:ea typeface="Monaco"/>
                </a:rPr>
                <a:t>$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2539080" y="5664240"/>
            <a:ext cx="3260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Monaco"/>
                <a:ea typeface="Monaco"/>
              </a:rPr>
              <a:t>Output: 0 11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B6327-880B-4B82-BDC6-A23A70851A4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How to Debug</a:t>
            </a:r>
            <a:br>
              <a:rPr sz="7200"/>
            </a:br>
            <a:r>
              <a:rPr b="1" lang="en-US" sz="2400" spc="-1" strike="noStrike">
                <a:solidFill>
                  <a:srgbClr val="ffffff"/>
                </a:solidFill>
                <a:latin typeface="Lucida Grande"/>
              </a:rPr>
              <a:t>(Sommerville 2004)</a:t>
            </a:r>
            <a:endParaRPr b="1" lang="en-US" sz="2400" spc="-1" strike="noStrike">
              <a:solidFill>
                <a:srgbClr val="ffffff"/>
              </a:solidFill>
              <a:latin typeface="Lucida Grande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46" name=""/>
          <p:cNvSpPr/>
          <p:nvPr/>
        </p:nvSpPr>
        <p:spPr>
          <a:xfrm>
            <a:off x="520560" y="4102200"/>
            <a:ext cx="2540160" cy="1549440"/>
          </a:xfrm>
          <a:prstGeom prst="roundRect">
            <a:avLst>
              <a:gd name="adj" fmla="val 28606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Locate error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7" name=""/>
          <p:cNvSpPr/>
          <p:nvPr/>
        </p:nvSpPr>
        <p:spPr>
          <a:xfrm>
            <a:off x="3708360" y="4102200"/>
            <a:ext cx="2540160" cy="1549440"/>
          </a:xfrm>
          <a:prstGeom prst="roundRect">
            <a:avLst>
              <a:gd name="adj" fmla="val 28606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Design error repair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8" name=""/>
          <p:cNvSpPr/>
          <p:nvPr/>
        </p:nvSpPr>
        <p:spPr>
          <a:xfrm>
            <a:off x="6883560" y="4102200"/>
            <a:ext cx="2539800" cy="1549440"/>
          </a:xfrm>
          <a:prstGeom prst="roundRect">
            <a:avLst>
              <a:gd name="adj" fmla="val 28606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Repair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rror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9" name=""/>
          <p:cNvSpPr/>
          <p:nvPr/>
        </p:nvSpPr>
        <p:spPr>
          <a:xfrm>
            <a:off x="10083960" y="4102200"/>
            <a:ext cx="2539800" cy="1549440"/>
          </a:xfrm>
          <a:prstGeom prst="roundRect">
            <a:avLst>
              <a:gd name="adj" fmla="val 28606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Re-tes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program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2932200" y="4878360"/>
            <a:ext cx="83016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6083280" y="4876920"/>
            <a:ext cx="82872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9283680" y="4876920"/>
            <a:ext cx="82872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03A65-58F8-413A-9BFC-A68F5118256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