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media/image12.pct" ContentType="image/x-pict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ke this an interactive session - discuss why people should focus on these firs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Just cleaning up the previous slide, such that we can sum it u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is what we can focus upon, and this is how we isolate the chain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 tell whether something is an error means to have a </a:t>
            </a:r>
            <a:r>
              <a:rPr b="1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rrection 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 mind - but these examples are not corrections, they just fix the problem at hand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rrecting the code can be a great moment.  After having reproduce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failure, observed the execution, carefully tracked back th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fection chain, and having gained complete understanding of what wa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oing on---all this has prepared us for this very moment, the actua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rrecting of the code.  (And there was much rejoicing.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F0F5E-B038-4C9E-A218-AEC1A172CD8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1A414-A50E-4E43-B752-8485FCB6771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E3315-2E1A-4EBA-A1FA-8D2D52CA09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07028-DB8B-4CB4-A572-42330EA05E6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E9938-2EC1-4382-8DBC-C2716E7D6A0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CF14A-FABD-4279-9B60-56539BED6FE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7E884-3065-409A-A5A2-BAFCE02A0B7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C7E7F-3ADB-4675-8FA1-728EE55CAF1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861AD-2191-447F-8B58-81F9F40FCDF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315BB-F6BA-4BDD-A854-EF864E943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D029-745C-4604-A699-521F3DD96D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E0CE-D17E-41DB-B27B-A12FF5BB22B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54F2-7CB7-4490-B174-B6180BAC52A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9B67-1ACF-4840-9BB2-3B9D1E09C8C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37CF-7EB1-4E5A-8DA1-76A4DF26F68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F7A5-22DC-4474-AE44-3E5935ABF40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F08F-9648-4C36-AC95-890F97EF5CB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DA2C-9982-4B20-8295-304E3B7BE42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2F3F-4746-4F5A-9C00-C6551E2D10D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30EBF-A4CB-4B70-B378-E36B4913F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1753A-8A25-482B-BA58-A98ED1F5126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1988C7-3519-460D-A385-55DA1844A5C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54121-F0C3-4BCC-ADFB-67D471E0FDE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2BB92A-1835-4DB8-B352-92C55DBF51E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1EE99-4436-4A3A-9410-8CC82679C0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61F7A-FB16-4F55-AFBA-5F96E00C0EF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F0D425-B863-490C-B70B-C10FDBF3754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DF63B-9CB2-4DD7-AB61-9E7021D7986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025C2-6F73-4218-8A1C-87E76B44A3F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5550B-02CE-4635-B50E-BE73E6EC5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E080-4637-49CD-9DAE-8BD1DC88A08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D3D64-BF27-4A40-9C6F-F0855A3ECCF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E5947F-51BD-4128-879F-353181C8C21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0A0B8-DBB4-462A-80C6-671D38150C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9813-9138-4C43-B2A0-B336B2F964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45BD-6C26-419D-A810-FECEA7F05B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B09A-523D-4354-92FA-BD191AC028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4842-92CD-418D-9CCC-8234F886BE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032F-89CC-4F2A-A62C-AFF3FFFAE3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13F3-63F9-41EA-A7B0-D8FAA55BCD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FF36-B3D0-4CEB-A1A9-7421B1077A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DAC9-49F0-4D4E-912F-9DBAC69473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B7CB-90E5-40FC-85BD-791288E47D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BD01-8021-4808-8657-8B2CE06E63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0629-C2D5-4D10-AF76-0FD136FE74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D882-CDE4-4870-B2D2-224CFEBF52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030A-3EAE-41A7-9B3D-0F129A48D4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2C11-ED2A-48CE-8BD7-503897D400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9346-791A-4E38-9686-7ACD2FCD39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B5D4-8C2C-4059-A461-3CCA4D048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8934-67CB-49CB-A447-4738E7CC2A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A8DD-6404-463E-848C-D3A82305FA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EE3D-6650-488C-AC6E-3E7356B9A6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95CD-FD39-482E-A1EA-B060A89207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AE8F-7EBE-4B8A-BB25-27D78D0C97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EC21-DBBF-4EB7-AF4E-4FC0029870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40ED-1B2A-4328-B5E7-2CE1E2DB0F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80C-A250-4597-91F9-6EFC4BB92F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9A9-7541-4BD8-A57A-2063F7D996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682-E288-47E9-BF0D-F8182C335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B04-367F-4BAB-9B27-BF7320C4B5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4D5-BD7D-4461-93D7-666D83164E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336-140D-4CBC-96CD-4F0C1DFE4E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2F6-050F-43F5-A19F-69A05B63FE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A38-C443-4F80-9E23-F6C00C8284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64B-BF43-408B-8D68-6F5318DE0A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593-C1F3-4474-9D44-30927DC7E2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5CE-6775-4B84-A129-8836860D1E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FBA-7133-44DD-B2D3-D5166ACAEB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1EB9F-FF1D-4425-8097-99CE4EAAF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B865D-15DF-45E9-A490-4EDCA28A50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59A14-02CE-45F9-8E66-52D1F19849E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A5488-3DC2-4312-8F08-4AEA11CEE0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6A018-E4C4-4A23-944D-86D2C74957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B33CD-6D89-4F4B-B7FB-9E60BF52F46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84A2D-0E2C-49FD-B9AE-3D2D20BCE67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2D95C-252B-4B75-9BF3-9148C61A24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F0130-C8E9-442F-8E71-6D6ED5335F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4B592-807F-4BE6-BD32-77455351CF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C803E-AAB1-427D-958B-0EF930C83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2D73B-3CEA-4404-881C-F917CAADCF1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9395C-0A0E-4D2C-B618-3EB6B832C2D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9E52C-9626-4BE2-BA42-F65617AAECE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6F30E-12C7-4BCA-BDFF-C3C385E302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29C9F-531F-4322-978C-821B8F13BB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D251E-7C99-495D-B717-EC274BD5C9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15EE4-4AED-4AD7-AB4E-1659EB80986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A8C0E-3412-4490-9854-B2A6791AF8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D0524-EC1B-47B5-AA7A-4057973AC65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3B077-E00C-44C5-A5C6-863450EFC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63B3D-36EF-42F6-8C95-81168409D6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3629F-A134-4D34-8E2E-554F17C9FA2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0A3E5-2B8D-43FB-8069-5938D5962E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8329-9D17-4358-A4B4-B479CCCC67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AD65-9DCC-4DD1-8FC1-B619B95ECE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022F-2FD9-4896-9800-B84C532548B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AA75-889D-4995-96A2-DE3DC44885A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02CC-8A87-49F2-BA3D-69A67DC76EE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69D0-CFAE-4FD7-B384-5E27D33EBA2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48B5-F16E-4D8B-B85D-637B280D0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5ECA-2C1E-4CA9-81CA-809B601A8E9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20DC-A569-41C0-8088-BE92DAA754C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D764-968B-42D4-BBC8-BC405904D4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E73A-6EF8-4E13-9036-1CA9FB6EEF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16B2-1691-467B-9B0E-14226EF4FC1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C67E18-97D5-4855-BE00-439A2F007D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8AE4D-5B57-43C6-AE2E-86531EC740C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35FA8-8DC6-4315-BD84-82E4AE49B45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787B73-78EB-4560-8264-719FDF152C2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B233CB-D24E-4F13-8F0D-556F7F80A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D47D4C-263E-4DA6-98B5-0D47DA37B33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0CB0E-0E07-4F5D-96A1-7ADB134E06F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0609ED-9608-412E-8F6F-5F8B0131C85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78D1E-54BF-4150-9483-409D352B04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F38A1-E976-409C-A27A-2B236436C35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B9AC57-AFEE-4FA0-B1A5-EBA0690538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D5B70F-FE0F-4E53-AE6B-C7B351E5472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58D5B-26E5-4DDB-8C49-4EABDB85562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C718B-72C0-4163-B623-84ED90D64D7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FBEFE-66CF-4B80-98A8-A6D1451FC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1A29-53D5-4E4B-9EFF-3B7A5203CB0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8448-7943-4A6B-9A61-DF7E1FEF82A3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87B6-2EA2-4225-9EAC-73A081251BA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FD45-EE74-491C-9993-841444BA4AA0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ADD1-C18E-4242-9C9B-B1157A4115E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9C5F-4CD3-4E25-B79B-18AFC8FC69AE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1338-3833-459C-A014-53A2D4FC3C47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0A15-2E77-426E-BD52-3B99834BAA8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E390-8D64-473C-8BDA-69C85A100D3C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DF73-6EAE-4D4E-B9EB-9DF372D2F2C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9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27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1268280" y="-6794640"/>
            <a:ext cx="5435640" cy="133257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xing the Defec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1270080" y="2781360"/>
          <a:ext cx="10464480" cy="5689440"/>
        </p:xfrm>
        <a:graphic>
          <a:graphicData uri="http://schemas.openxmlformats.org/drawingml/2006/table">
            <a:tbl>
              <a:tblPr/>
              <a:tblGrid>
                <a:gridCol w="1162800"/>
                <a:gridCol w="1162800"/>
                <a:gridCol w="1162800"/>
                <a:gridCol w="1162800"/>
                <a:gridCol w="1162800"/>
                <a:gridCol w="1162800"/>
                <a:gridCol w="1162080"/>
                <a:gridCol w="1162800"/>
                <a:gridCol w="1162800"/>
              </a:tblGrid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6666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5918040" y="5613480"/>
            <a:ext cx="1143000" cy="71100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nomal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75" name=""/>
          <p:cNvSpPr/>
          <p:nvPr/>
        </p:nvSpPr>
        <p:spPr>
          <a:xfrm flipH="1" flipV="1">
            <a:off x="5511960" y="7441920"/>
            <a:ext cx="712800" cy="6778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"/>
          <p:cNvSpPr/>
          <p:nvPr/>
        </p:nvSpPr>
        <p:spPr>
          <a:xfrm>
            <a:off x="757692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"/>
          <p:cNvSpPr/>
          <p:nvPr/>
        </p:nvSpPr>
        <p:spPr>
          <a:xfrm>
            <a:off x="990108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1105704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>
            <a:off x="87390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"/>
          <p:cNvSpPr/>
          <p:nvPr/>
        </p:nvSpPr>
        <p:spPr>
          <a:xfrm>
            <a:off x="758340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1" name=""/>
          <p:cNvSpPr/>
          <p:nvPr/>
        </p:nvSpPr>
        <p:spPr>
          <a:xfrm>
            <a:off x="64152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2" name=""/>
          <p:cNvSpPr/>
          <p:nvPr/>
        </p:nvSpPr>
        <p:spPr>
          <a:xfrm>
            <a:off x="5259240" y="4863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3" name=""/>
          <p:cNvSpPr/>
          <p:nvPr/>
        </p:nvSpPr>
        <p:spPr>
          <a:xfrm>
            <a:off x="641520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4" name=""/>
          <p:cNvSpPr/>
          <p:nvPr/>
        </p:nvSpPr>
        <p:spPr>
          <a:xfrm>
            <a:off x="4091040" y="2730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5" name=""/>
          <p:cNvSpPr/>
          <p:nvPr/>
        </p:nvSpPr>
        <p:spPr>
          <a:xfrm>
            <a:off x="409104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6912720" y="6932520"/>
            <a:ext cx="746280" cy="1092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6856560" y="6951240"/>
            <a:ext cx="3101760" cy="995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2196720" y="6108480"/>
            <a:ext cx="2954520" cy="12063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4254120" y="6134040"/>
            <a:ext cx="839880" cy="12384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552280" y="6210360"/>
            <a:ext cx="947880" cy="12016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7851600" y="4722840"/>
            <a:ext cx="811440" cy="1884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10137600" y="4040280"/>
            <a:ext cx="1046160" cy="25286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9038520" y="4155840"/>
            <a:ext cx="2011320" cy="401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7697520" y="3935160"/>
            <a:ext cx="996840" cy="795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759000" y="407808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702480" y="4115880"/>
            <a:ext cx="938160" cy="1801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5488920" y="473832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4282200" y="550044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6491160" y="4807080"/>
            <a:ext cx="20880" cy="938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2162160" y="4672080"/>
            <a:ext cx="728640" cy="12700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"/>
          <p:cNvSpPr/>
          <p:nvPr/>
        </p:nvSpPr>
        <p:spPr>
          <a:xfrm flipH="1" flipV="1">
            <a:off x="3274920" y="4749480"/>
            <a:ext cx="860400" cy="10335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191040" y="3331800"/>
            <a:ext cx="753840" cy="1149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4414680" y="3376440"/>
            <a:ext cx="851040" cy="1640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"/>
          <p:cNvSpPr/>
          <p:nvPr/>
        </p:nvSpPr>
        <p:spPr>
          <a:xfrm>
            <a:off x="5084640" y="69976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>
            <a:off x="2792520" y="41911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>
            <a:off x="1624320" y="56134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"/>
          <p:cNvSpPr/>
          <p:nvPr/>
        </p:nvSpPr>
        <p:spPr>
          <a:xfrm>
            <a:off x="6253200" y="557532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"/>
          <p:cNvSpPr/>
          <p:nvPr/>
        </p:nvSpPr>
        <p:spPr>
          <a:xfrm>
            <a:off x="12001680" y="2755800"/>
            <a:ext cx="0" cy="5708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"/>
          <p:cNvSpPr/>
          <p:nvPr/>
        </p:nvSpPr>
        <p:spPr>
          <a:xfrm>
            <a:off x="12149280" y="78357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E657-5351-4909-BBC2-4EBCB538F5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1270080" y="2781360"/>
          <a:ext cx="10464480" cy="5689440"/>
        </p:xfrm>
        <a:graphic>
          <a:graphicData uri="http://schemas.openxmlformats.org/drawingml/2006/table">
            <a:tbl>
              <a:tblPr/>
              <a:tblGrid>
                <a:gridCol w="1162800"/>
                <a:gridCol w="1162800"/>
                <a:gridCol w="1162800"/>
                <a:gridCol w="1162800"/>
                <a:gridCol w="1162800"/>
                <a:gridCol w="1162800"/>
                <a:gridCol w="1162080"/>
                <a:gridCol w="1162800"/>
                <a:gridCol w="1162800"/>
              </a:tblGrid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6666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"/>
          <p:cNvSpPr/>
          <p:nvPr/>
        </p:nvSpPr>
        <p:spPr>
          <a:xfrm>
            <a:off x="5918040" y="5613480"/>
            <a:ext cx="1143000" cy="71100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nomal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5511960" y="7441920"/>
            <a:ext cx="712800" cy="6778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" name=""/>
          <p:cNvSpPr/>
          <p:nvPr/>
        </p:nvSpPr>
        <p:spPr>
          <a:xfrm>
            <a:off x="757692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" name=""/>
          <p:cNvSpPr/>
          <p:nvPr/>
        </p:nvSpPr>
        <p:spPr>
          <a:xfrm>
            <a:off x="990108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6" name=""/>
          <p:cNvSpPr/>
          <p:nvPr/>
        </p:nvSpPr>
        <p:spPr>
          <a:xfrm>
            <a:off x="1105704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"/>
          <p:cNvSpPr/>
          <p:nvPr/>
        </p:nvSpPr>
        <p:spPr>
          <a:xfrm>
            <a:off x="87390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8" name=""/>
          <p:cNvSpPr/>
          <p:nvPr/>
        </p:nvSpPr>
        <p:spPr>
          <a:xfrm>
            <a:off x="758340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"/>
          <p:cNvSpPr/>
          <p:nvPr/>
        </p:nvSpPr>
        <p:spPr>
          <a:xfrm>
            <a:off x="64152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0" name=""/>
          <p:cNvSpPr/>
          <p:nvPr/>
        </p:nvSpPr>
        <p:spPr>
          <a:xfrm>
            <a:off x="5259240" y="4863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1" name=""/>
          <p:cNvSpPr/>
          <p:nvPr/>
        </p:nvSpPr>
        <p:spPr>
          <a:xfrm>
            <a:off x="4091040" y="2730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2" name=""/>
          <p:cNvSpPr/>
          <p:nvPr/>
        </p:nvSpPr>
        <p:spPr>
          <a:xfrm>
            <a:off x="409104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912720" y="6932520"/>
            <a:ext cx="746280" cy="1092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6560" y="6951240"/>
            <a:ext cx="3101760" cy="995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196720" y="6108480"/>
            <a:ext cx="2954520" cy="12063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4254120" y="6134040"/>
            <a:ext cx="839880" cy="1238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552280" y="6210360"/>
            <a:ext cx="947880" cy="12016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7851600" y="4722840"/>
            <a:ext cx="811440" cy="1884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0137600" y="4040280"/>
            <a:ext cx="1046160" cy="25286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9038520" y="4155840"/>
            <a:ext cx="2011320" cy="401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7697520" y="3935160"/>
            <a:ext cx="996840" cy="795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759000" y="407808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6702480" y="4115880"/>
            <a:ext cx="938160" cy="1801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88920" y="4738320"/>
            <a:ext cx="747720" cy="555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282200" y="5500440"/>
            <a:ext cx="747720" cy="555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6491160" y="4807080"/>
            <a:ext cx="20880" cy="938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162160" y="4672080"/>
            <a:ext cx="728640" cy="12700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3274920" y="4749480"/>
            <a:ext cx="860400" cy="10335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191040" y="3331800"/>
            <a:ext cx="753840" cy="1149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4414680" y="3376440"/>
            <a:ext cx="851040" cy="16401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1" name=""/>
          <p:cNvSpPr/>
          <p:nvPr/>
        </p:nvSpPr>
        <p:spPr>
          <a:xfrm>
            <a:off x="5084640" y="69976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2" name=""/>
          <p:cNvSpPr/>
          <p:nvPr/>
        </p:nvSpPr>
        <p:spPr>
          <a:xfrm>
            <a:off x="2792520" y="41911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3" name=""/>
          <p:cNvSpPr/>
          <p:nvPr/>
        </p:nvSpPr>
        <p:spPr>
          <a:xfrm>
            <a:off x="1624320" y="56134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"/>
          <p:cNvSpPr/>
          <p:nvPr/>
        </p:nvSpPr>
        <p:spPr>
          <a:xfrm>
            <a:off x="6253200" y="557532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"/>
          <p:cNvSpPr/>
          <p:nvPr/>
        </p:nvSpPr>
        <p:spPr>
          <a:xfrm>
            <a:off x="12001680" y="2755800"/>
            <a:ext cx="0" cy="5708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"/>
          <p:cNvSpPr/>
          <p:nvPr/>
        </p:nvSpPr>
        <p:spPr>
          <a:xfrm>
            <a:off x="12149280" y="78357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3C0B-116B-4A4F-97D8-FA17CA9692A4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"/>
          <p:cNvGraphicFramePr/>
          <p:nvPr/>
        </p:nvGraphicFramePr>
        <p:xfrm>
          <a:off x="1270080" y="2781360"/>
          <a:ext cx="10464480" cy="5689440"/>
        </p:xfrm>
        <a:graphic>
          <a:graphicData uri="http://schemas.openxmlformats.org/drawingml/2006/table">
            <a:tbl>
              <a:tblPr/>
              <a:tblGrid>
                <a:gridCol w="1162800"/>
                <a:gridCol w="1162800"/>
                <a:gridCol w="1162800"/>
                <a:gridCol w="1162800"/>
                <a:gridCol w="1162800"/>
                <a:gridCol w="1162800"/>
                <a:gridCol w="1162080"/>
                <a:gridCol w="1162800"/>
                <a:gridCol w="1162800"/>
              </a:tblGrid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6666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48" name=""/>
          <p:cNvGrpSpPr/>
          <p:nvPr/>
        </p:nvGrpSpPr>
        <p:grpSpPr>
          <a:xfrm>
            <a:off x="5931000" y="3479760"/>
            <a:ext cx="2298600" cy="1422360"/>
            <a:chOff x="5931000" y="3479760"/>
            <a:chExt cx="2298600" cy="1422360"/>
          </a:xfrm>
        </p:grpSpPr>
        <p:sp>
          <p:nvSpPr>
            <p:cNvPr id="749" name=""/>
            <p:cNvSpPr/>
            <p:nvPr/>
          </p:nvSpPr>
          <p:spPr>
            <a:xfrm>
              <a:off x="5931000" y="4191120"/>
              <a:ext cx="1143000" cy="711000"/>
            </a:xfrm>
            <a:prstGeom prst="rect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86600" y="3479760"/>
              <a:ext cx="1143000" cy="711360"/>
            </a:xfrm>
            <a:prstGeom prst="rect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ause Transi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5511960" y="7441920"/>
            <a:ext cx="712800" cy="6778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3" name=""/>
          <p:cNvSpPr/>
          <p:nvPr/>
        </p:nvSpPr>
        <p:spPr>
          <a:xfrm>
            <a:off x="757692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4" name=""/>
          <p:cNvSpPr/>
          <p:nvPr/>
        </p:nvSpPr>
        <p:spPr>
          <a:xfrm>
            <a:off x="990108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5" name=""/>
          <p:cNvSpPr/>
          <p:nvPr/>
        </p:nvSpPr>
        <p:spPr>
          <a:xfrm>
            <a:off x="1105704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6" name=""/>
          <p:cNvSpPr/>
          <p:nvPr/>
        </p:nvSpPr>
        <p:spPr>
          <a:xfrm>
            <a:off x="87390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"/>
          <p:cNvSpPr/>
          <p:nvPr/>
        </p:nvSpPr>
        <p:spPr>
          <a:xfrm>
            <a:off x="758340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8" name=""/>
          <p:cNvSpPr/>
          <p:nvPr/>
        </p:nvSpPr>
        <p:spPr>
          <a:xfrm>
            <a:off x="64152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9" name=""/>
          <p:cNvSpPr/>
          <p:nvPr/>
        </p:nvSpPr>
        <p:spPr>
          <a:xfrm>
            <a:off x="5259240" y="4863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0" name=""/>
          <p:cNvSpPr/>
          <p:nvPr/>
        </p:nvSpPr>
        <p:spPr>
          <a:xfrm>
            <a:off x="4091040" y="2730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1" name=""/>
          <p:cNvSpPr/>
          <p:nvPr/>
        </p:nvSpPr>
        <p:spPr>
          <a:xfrm>
            <a:off x="409104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912720" y="6932520"/>
            <a:ext cx="746280" cy="1092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856560" y="6951240"/>
            <a:ext cx="3101760" cy="995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2196720" y="6108480"/>
            <a:ext cx="2954520" cy="12063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4254120" y="6134040"/>
            <a:ext cx="839880" cy="1238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552280" y="6210360"/>
            <a:ext cx="947880" cy="12016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851600" y="4722840"/>
            <a:ext cx="811440" cy="1884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0137600" y="4040280"/>
            <a:ext cx="1046160" cy="25286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9038520" y="4155840"/>
            <a:ext cx="2011320" cy="401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7697520" y="3935160"/>
            <a:ext cx="996840" cy="795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6759000" y="407808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2480" y="4115880"/>
            <a:ext cx="938160" cy="1801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488920" y="4738320"/>
            <a:ext cx="747720" cy="555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282200" y="5500440"/>
            <a:ext cx="747720" cy="555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6491160" y="4807080"/>
            <a:ext cx="20880" cy="938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2162160" y="4672080"/>
            <a:ext cx="728640" cy="12700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3274920" y="4749480"/>
            <a:ext cx="860400" cy="10335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191040" y="3331800"/>
            <a:ext cx="753840" cy="1149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4414680" y="3376440"/>
            <a:ext cx="851040" cy="16401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0" name=""/>
          <p:cNvSpPr/>
          <p:nvPr/>
        </p:nvSpPr>
        <p:spPr>
          <a:xfrm>
            <a:off x="5084640" y="69976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1" name=""/>
          <p:cNvSpPr/>
          <p:nvPr/>
        </p:nvSpPr>
        <p:spPr>
          <a:xfrm>
            <a:off x="2792520" y="41911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"/>
          <p:cNvSpPr/>
          <p:nvPr/>
        </p:nvSpPr>
        <p:spPr>
          <a:xfrm>
            <a:off x="1624320" y="56134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3" name=""/>
          <p:cNvSpPr/>
          <p:nvPr/>
        </p:nvSpPr>
        <p:spPr>
          <a:xfrm>
            <a:off x="6253200" y="557532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"/>
          <p:cNvSpPr/>
          <p:nvPr/>
        </p:nvSpPr>
        <p:spPr>
          <a:xfrm>
            <a:off x="7440840" y="34797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5" name=""/>
          <p:cNvSpPr/>
          <p:nvPr/>
        </p:nvSpPr>
        <p:spPr>
          <a:xfrm>
            <a:off x="6240600" y="415296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"/>
          <p:cNvSpPr/>
          <p:nvPr/>
        </p:nvSpPr>
        <p:spPr>
          <a:xfrm>
            <a:off x="12001680" y="2755800"/>
            <a:ext cx="0" cy="5708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7" name=""/>
          <p:cNvSpPr/>
          <p:nvPr/>
        </p:nvSpPr>
        <p:spPr>
          <a:xfrm>
            <a:off x="12149280" y="78357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913F-EAE4-498A-99B1-566BC037CB2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"/>
          <p:cNvGraphicFramePr/>
          <p:nvPr/>
        </p:nvGraphicFramePr>
        <p:xfrm>
          <a:off x="1270080" y="2781360"/>
          <a:ext cx="10464480" cy="5689440"/>
        </p:xfrm>
        <a:graphic>
          <a:graphicData uri="http://schemas.openxmlformats.org/drawingml/2006/table">
            <a:tbl>
              <a:tblPr/>
              <a:tblGrid>
                <a:gridCol w="1162800"/>
                <a:gridCol w="1162800"/>
                <a:gridCol w="1162800"/>
                <a:gridCol w="1162800"/>
                <a:gridCol w="1162800"/>
                <a:gridCol w="1162800"/>
                <a:gridCol w="1162080"/>
                <a:gridCol w="1162800"/>
                <a:gridCol w="1162800"/>
              </a:tblGrid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6666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5918040" y="3505320"/>
            <a:ext cx="2311560" cy="1422360"/>
          </a:xfrm>
          <a:prstGeom prst="rect">
            <a:avLst/>
          </a:prstGeom>
          <a:noFill/>
          <a:ln w="7632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Defec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5511960" y="7441920"/>
            <a:ext cx="712800" cy="6778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2" name=""/>
          <p:cNvSpPr/>
          <p:nvPr/>
        </p:nvSpPr>
        <p:spPr>
          <a:xfrm>
            <a:off x="757692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3" name=""/>
          <p:cNvSpPr/>
          <p:nvPr/>
        </p:nvSpPr>
        <p:spPr>
          <a:xfrm>
            <a:off x="990108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4" name=""/>
          <p:cNvSpPr/>
          <p:nvPr/>
        </p:nvSpPr>
        <p:spPr>
          <a:xfrm>
            <a:off x="1105704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5" name=""/>
          <p:cNvSpPr/>
          <p:nvPr/>
        </p:nvSpPr>
        <p:spPr>
          <a:xfrm>
            <a:off x="87390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6" name=""/>
          <p:cNvSpPr/>
          <p:nvPr/>
        </p:nvSpPr>
        <p:spPr>
          <a:xfrm>
            <a:off x="5259240" y="4863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7" name=""/>
          <p:cNvSpPr/>
          <p:nvPr/>
        </p:nvSpPr>
        <p:spPr>
          <a:xfrm>
            <a:off x="4091040" y="2730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8" name=""/>
          <p:cNvSpPr/>
          <p:nvPr/>
        </p:nvSpPr>
        <p:spPr>
          <a:xfrm>
            <a:off x="409104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912720" y="6932520"/>
            <a:ext cx="746280" cy="1092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6856560" y="6951240"/>
            <a:ext cx="3101760" cy="995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2196720" y="6108480"/>
            <a:ext cx="2954520" cy="12063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4254120" y="6134040"/>
            <a:ext cx="839880" cy="1238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5552280" y="6210360"/>
            <a:ext cx="947880" cy="12016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7851600" y="4722840"/>
            <a:ext cx="811440" cy="1884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0137600" y="4040280"/>
            <a:ext cx="1046160" cy="25286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9038520" y="4155840"/>
            <a:ext cx="2011320" cy="401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7" name=""/>
          <p:cNvSpPr/>
          <p:nvPr/>
        </p:nvSpPr>
        <p:spPr>
          <a:xfrm flipH="1" flipV="1">
            <a:off x="7697520" y="3935160"/>
            <a:ext cx="996840" cy="795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6759000" y="407808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7184160" y="3773160"/>
            <a:ext cx="938520" cy="18018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488920" y="4738320"/>
            <a:ext cx="747720" cy="555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4282200" y="5500440"/>
            <a:ext cx="747720" cy="555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6491160" y="4807080"/>
            <a:ext cx="20880" cy="938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162160" y="4672080"/>
            <a:ext cx="728640" cy="12700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4" name=""/>
          <p:cNvSpPr/>
          <p:nvPr/>
        </p:nvSpPr>
        <p:spPr>
          <a:xfrm flipH="1" flipV="1">
            <a:off x="3274920" y="4749480"/>
            <a:ext cx="860400" cy="10335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3191040" y="3331800"/>
            <a:ext cx="753840" cy="1149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4414680" y="3376440"/>
            <a:ext cx="851040" cy="16401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7" name=""/>
          <p:cNvSpPr/>
          <p:nvPr/>
        </p:nvSpPr>
        <p:spPr>
          <a:xfrm>
            <a:off x="5084640" y="69976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"/>
          <p:cNvSpPr/>
          <p:nvPr/>
        </p:nvSpPr>
        <p:spPr>
          <a:xfrm>
            <a:off x="2792520" y="41911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9" name=""/>
          <p:cNvSpPr/>
          <p:nvPr/>
        </p:nvSpPr>
        <p:spPr>
          <a:xfrm>
            <a:off x="1624320" y="56134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0" name=""/>
          <p:cNvSpPr/>
          <p:nvPr/>
        </p:nvSpPr>
        <p:spPr>
          <a:xfrm>
            <a:off x="6253200" y="557532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1" name=""/>
          <p:cNvSpPr/>
          <p:nvPr/>
        </p:nvSpPr>
        <p:spPr>
          <a:xfrm>
            <a:off x="7440840" y="34797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2" name=""/>
          <p:cNvSpPr/>
          <p:nvPr/>
        </p:nvSpPr>
        <p:spPr>
          <a:xfrm>
            <a:off x="6240600" y="415296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"/>
          <p:cNvSpPr/>
          <p:nvPr/>
        </p:nvSpPr>
        <p:spPr>
          <a:xfrm>
            <a:off x="12001680" y="2755800"/>
            <a:ext cx="0" cy="5708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4" name=""/>
          <p:cNvSpPr/>
          <p:nvPr/>
        </p:nvSpPr>
        <p:spPr>
          <a:xfrm>
            <a:off x="12149280" y="78357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AB36-6B32-4BA5-B38D-BEE37F2F055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1270080" y="2781360"/>
          <a:ext cx="10464480" cy="5689440"/>
        </p:xfrm>
        <a:graphic>
          <a:graphicData uri="http://schemas.openxmlformats.org/drawingml/2006/table">
            <a:tbl>
              <a:tblPr/>
              <a:tblGrid>
                <a:gridCol w="1162800"/>
                <a:gridCol w="1162800"/>
                <a:gridCol w="1162800"/>
                <a:gridCol w="1162800"/>
                <a:gridCol w="1162800"/>
                <a:gridCol w="1162800"/>
                <a:gridCol w="1162080"/>
                <a:gridCol w="1162800"/>
                <a:gridCol w="1162800"/>
              </a:tblGrid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6666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>
            <a:off x="5918040" y="3505320"/>
            <a:ext cx="2311560" cy="1422360"/>
          </a:xfrm>
          <a:prstGeom prst="rect">
            <a:avLst/>
          </a:prstGeom>
          <a:noFill/>
          <a:ln w="7632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Defec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5511960" y="7441920"/>
            <a:ext cx="712800" cy="6778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9" name=""/>
          <p:cNvSpPr/>
          <p:nvPr/>
        </p:nvSpPr>
        <p:spPr>
          <a:xfrm>
            <a:off x="757692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0" name=""/>
          <p:cNvSpPr/>
          <p:nvPr/>
        </p:nvSpPr>
        <p:spPr>
          <a:xfrm>
            <a:off x="990108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1" name=""/>
          <p:cNvSpPr/>
          <p:nvPr/>
        </p:nvSpPr>
        <p:spPr>
          <a:xfrm>
            <a:off x="1105704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2" name=""/>
          <p:cNvSpPr/>
          <p:nvPr/>
        </p:nvSpPr>
        <p:spPr>
          <a:xfrm>
            <a:off x="87390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3" name=""/>
          <p:cNvSpPr/>
          <p:nvPr/>
        </p:nvSpPr>
        <p:spPr>
          <a:xfrm>
            <a:off x="5259240" y="4863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4" name=""/>
          <p:cNvSpPr/>
          <p:nvPr/>
        </p:nvSpPr>
        <p:spPr>
          <a:xfrm>
            <a:off x="4091040" y="2730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5" name=""/>
          <p:cNvSpPr/>
          <p:nvPr/>
        </p:nvSpPr>
        <p:spPr>
          <a:xfrm>
            <a:off x="409104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6912720" y="6932520"/>
            <a:ext cx="746280" cy="1092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6856560" y="6951240"/>
            <a:ext cx="3101760" cy="995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2196720" y="6108480"/>
            <a:ext cx="2954520" cy="12063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4254120" y="6134040"/>
            <a:ext cx="839880" cy="1238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552280" y="6210360"/>
            <a:ext cx="947880" cy="12016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851600" y="4722840"/>
            <a:ext cx="811440" cy="1884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10137600" y="4040280"/>
            <a:ext cx="1046160" cy="25286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9038520" y="4155840"/>
            <a:ext cx="2011320" cy="401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7697520" y="3935160"/>
            <a:ext cx="996840" cy="795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6759000" y="407808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184160" y="3773160"/>
            <a:ext cx="938520" cy="18018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488920" y="4738320"/>
            <a:ext cx="747720" cy="555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4282200" y="5500440"/>
            <a:ext cx="747720" cy="555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6491160" y="4807080"/>
            <a:ext cx="20880" cy="938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2162160" y="4672080"/>
            <a:ext cx="728640" cy="12700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3274920" y="4749480"/>
            <a:ext cx="860400" cy="10335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3191040" y="3331800"/>
            <a:ext cx="753840" cy="1149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3" name=""/>
          <p:cNvSpPr/>
          <p:nvPr/>
        </p:nvSpPr>
        <p:spPr>
          <a:xfrm flipH="1" flipV="1">
            <a:off x="4414680" y="3376440"/>
            <a:ext cx="851040" cy="16401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4" name=""/>
          <p:cNvSpPr/>
          <p:nvPr/>
        </p:nvSpPr>
        <p:spPr>
          <a:xfrm>
            <a:off x="5084640" y="69976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Gill San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5" name=""/>
          <p:cNvSpPr/>
          <p:nvPr/>
        </p:nvSpPr>
        <p:spPr>
          <a:xfrm>
            <a:off x="2792520" y="41911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6" name=""/>
          <p:cNvSpPr/>
          <p:nvPr/>
        </p:nvSpPr>
        <p:spPr>
          <a:xfrm>
            <a:off x="1624320" y="56134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7" name=""/>
          <p:cNvSpPr/>
          <p:nvPr/>
        </p:nvSpPr>
        <p:spPr>
          <a:xfrm>
            <a:off x="6253200" y="557532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Gill San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8" name=""/>
          <p:cNvSpPr/>
          <p:nvPr/>
        </p:nvSpPr>
        <p:spPr>
          <a:xfrm>
            <a:off x="7440840" y="347976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"/>
          <p:cNvSpPr/>
          <p:nvPr/>
        </p:nvSpPr>
        <p:spPr>
          <a:xfrm>
            <a:off x="6240600" y="415296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0" name=""/>
          <p:cNvSpPr/>
          <p:nvPr/>
        </p:nvSpPr>
        <p:spPr>
          <a:xfrm>
            <a:off x="3048120" y="5626080"/>
            <a:ext cx="6933960" cy="213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f1016"/>
                </a:solidFill>
                <a:latin typeface="Gill Sans"/>
                <a:ea typeface="Gill Sans"/>
              </a:rPr>
              <a:t>Which techniqu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f1016"/>
                </a:solidFill>
                <a:latin typeface="Gill Sans"/>
                <a:ea typeface="Gill Sans"/>
              </a:rPr>
              <a:t>do we use firs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1" name=""/>
          <p:cNvSpPr/>
          <p:nvPr/>
        </p:nvSpPr>
        <p:spPr>
          <a:xfrm>
            <a:off x="12001680" y="2755800"/>
            <a:ext cx="0" cy="5708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2" name=""/>
          <p:cNvSpPr/>
          <p:nvPr/>
        </p:nvSpPr>
        <p:spPr>
          <a:xfrm>
            <a:off x="12149280" y="78357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6BC8-29B8-463F-B005-346493805A1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905440" y="469800"/>
            <a:ext cx="1270080" cy="1270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1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4" name=""/>
          <p:cNvSpPr/>
          <p:nvPr/>
        </p:nvSpPr>
        <p:spPr>
          <a:xfrm>
            <a:off x="7340760" y="469800"/>
            <a:ext cx="1269720" cy="1270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2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5" name=""/>
          <p:cNvSpPr/>
          <p:nvPr/>
        </p:nvSpPr>
        <p:spPr>
          <a:xfrm>
            <a:off x="8712360" y="469800"/>
            <a:ext cx="1269720" cy="12700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3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6" name=""/>
          <p:cNvSpPr/>
          <p:nvPr/>
        </p:nvSpPr>
        <p:spPr>
          <a:xfrm>
            <a:off x="10058400" y="469800"/>
            <a:ext cx="1270080" cy="1270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4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7" name=""/>
          <p:cNvSpPr/>
          <p:nvPr/>
        </p:nvSpPr>
        <p:spPr>
          <a:xfrm>
            <a:off x="11404440" y="469800"/>
            <a:ext cx="1270080" cy="1270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5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8" name=""/>
          <p:cNvSpPr/>
          <p:nvPr/>
        </p:nvSpPr>
        <p:spPr>
          <a:xfrm>
            <a:off x="1193760" y="2781360"/>
            <a:ext cx="7201080" cy="57531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9" name=""/>
          <p:cNvSpPr/>
          <p:nvPr/>
        </p:nvSpPr>
        <p:spPr>
          <a:xfrm>
            <a:off x="7480440" y="4330800"/>
            <a:ext cx="1269720" cy="1270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5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0" name=""/>
          <p:cNvSpPr/>
          <p:nvPr/>
        </p:nvSpPr>
        <p:spPr>
          <a:xfrm>
            <a:off x="419040" y="4330800"/>
            <a:ext cx="1270080" cy="12700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4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1" name=""/>
          <p:cNvSpPr/>
          <p:nvPr/>
        </p:nvSpPr>
        <p:spPr>
          <a:xfrm>
            <a:off x="1968480" y="7112160"/>
            <a:ext cx="1270080" cy="12697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3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"/>
          <p:cNvSpPr/>
          <p:nvPr/>
        </p:nvSpPr>
        <p:spPr>
          <a:xfrm>
            <a:off x="4165560" y="2095560"/>
            <a:ext cx="1270080" cy="1270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1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3" name=""/>
          <p:cNvSpPr/>
          <p:nvPr/>
        </p:nvSpPr>
        <p:spPr>
          <a:xfrm>
            <a:off x="6908760" y="7112160"/>
            <a:ext cx="1270080" cy="126972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2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rder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5" name=""/>
          <p:cNvSpPr/>
          <p:nvPr/>
        </p:nvSpPr>
        <p:spPr>
          <a:xfrm>
            <a:off x="4588920" y="2324160"/>
            <a:ext cx="4069800" cy="13413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Infection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a failed asser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6" name=""/>
          <p:cNvSpPr/>
          <p:nvPr/>
        </p:nvSpPr>
        <p:spPr>
          <a:xfrm>
            <a:off x="7354800" y="7327800"/>
            <a:ext cx="3362760" cy="1828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Cause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a[2] = 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causes the fail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7" name=""/>
          <p:cNvSpPr/>
          <p:nvPr/>
        </p:nvSpPr>
        <p:spPr>
          <a:xfrm>
            <a:off x="2946240" y="7327800"/>
            <a:ext cx="3137040" cy="1828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Anomalie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f() execu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only in failing ru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8" name=""/>
          <p:cNvSpPr/>
          <p:nvPr/>
        </p:nvSpPr>
        <p:spPr>
          <a:xfrm>
            <a:off x="852840" y="4572000"/>
            <a:ext cx="4758480" cy="13413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Code smell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uninitialized variab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9" name=""/>
          <p:cNvSpPr/>
          <p:nvPr/>
        </p:nvSpPr>
        <p:spPr>
          <a:xfrm>
            <a:off x="8076960" y="4572000"/>
            <a:ext cx="4764600" cy="13413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Dependence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a[2] comes from a[0]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DB1A-BB16-42FA-8362-14AA430E0F4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193760" y="2781360"/>
            <a:ext cx="7201080" cy="5753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1" name=""/>
          <p:cNvSpPr/>
          <p:nvPr/>
        </p:nvSpPr>
        <p:spPr>
          <a:xfrm>
            <a:off x="736560" y="4178160"/>
            <a:ext cx="1270080" cy="1270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5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2" name=""/>
          <p:cNvSpPr/>
          <p:nvPr/>
        </p:nvSpPr>
        <p:spPr>
          <a:xfrm>
            <a:off x="1434960" y="6972480"/>
            <a:ext cx="1270080" cy="12697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4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3" name=""/>
          <p:cNvSpPr/>
          <p:nvPr/>
        </p:nvSpPr>
        <p:spPr>
          <a:xfrm>
            <a:off x="6680160" y="6972480"/>
            <a:ext cx="1270080" cy="12697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3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4" name=""/>
          <p:cNvSpPr/>
          <p:nvPr/>
        </p:nvSpPr>
        <p:spPr>
          <a:xfrm>
            <a:off x="4165560" y="2095560"/>
            <a:ext cx="1270080" cy="1270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1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5" name=""/>
          <p:cNvSpPr/>
          <p:nvPr/>
        </p:nvSpPr>
        <p:spPr>
          <a:xfrm>
            <a:off x="7543800" y="4229280"/>
            <a:ext cx="1270080" cy="1269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2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rder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87" name=""/>
          <p:cNvSpPr/>
          <p:nvPr/>
        </p:nvSpPr>
        <p:spPr>
          <a:xfrm>
            <a:off x="4588920" y="2324160"/>
            <a:ext cx="4069800" cy="13413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Infection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a failed asser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8" name=""/>
          <p:cNvSpPr/>
          <p:nvPr/>
        </p:nvSpPr>
        <p:spPr>
          <a:xfrm>
            <a:off x="7989840" y="4444920"/>
            <a:ext cx="3362760" cy="1828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Cause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a[2] = 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causes the fail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9" name=""/>
          <p:cNvSpPr/>
          <p:nvPr/>
        </p:nvSpPr>
        <p:spPr>
          <a:xfrm>
            <a:off x="7658280" y="7188120"/>
            <a:ext cx="3136680" cy="1828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Anomalie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f() execu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only in failing ru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0" name=""/>
          <p:cNvSpPr/>
          <p:nvPr/>
        </p:nvSpPr>
        <p:spPr>
          <a:xfrm>
            <a:off x="1843560" y="7175520"/>
            <a:ext cx="4758480" cy="13413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Code smell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uninitialized variab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"/>
          <p:cNvSpPr/>
          <p:nvPr/>
        </p:nvSpPr>
        <p:spPr>
          <a:xfrm>
            <a:off x="1333440" y="4419720"/>
            <a:ext cx="4764600" cy="13413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Dependence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a[2] comes from a[0]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CAB7-8B0A-4C6E-AD5F-419058A629F5}" type="slidenum">
              <a:t>16</a:t>
            </a:fld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2" name=""/>
          <p:cNvGraphicFramePr/>
          <p:nvPr/>
        </p:nvGraphicFramePr>
        <p:xfrm>
          <a:off x="3772080" y="5854680"/>
          <a:ext cx="5447880" cy="876240"/>
        </p:xfrm>
        <a:graphic>
          <a:graphicData uri="http://schemas.openxmlformats.org/drawingml/2006/table">
            <a:tbl>
              <a:tblPr/>
              <a:tblGrid>
                <a:gridCol w="1090440"/>
                <a:gridCol w="1081800"/>
                <a:gridCol w="1090800"/>
                <a:gridCol w="1090800"/>
                <a:gridCol w="1094040"/>
              </a:tblGrid>
              <a:tr h="876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3" name=""/>
          <p:cNvGraphicFramePr/>
          <p:nvPr/>
        </p:nvGraphicFramePr>
        <p:xfrm>
          <a:off x="-1745640" y="2425320"/>
          <a:ext cx="14826600" cy="6121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556560"/>
                <a:gridCol w="441720"/>
                <a:gridCol w="9531720"/>
              </a:tblGrid>
              <a:tr h="272880">
                <a:tc gridSpan="11" rowSpan="2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4" rowSpan="3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2" rowSpan="3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1c1c21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1120"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57480" y="25380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cing Infec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5943600" y="7696080"/>
          <a:ext cx="1079640" cy="86364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8636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96" name=""/>
          <p:cNvSpPr/>
          <p:nvPr/>
        </p:nvSpPr>
        <p:spPr>
          <a:xfrm>
            <a:off x="6268320" y="777240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5320800" y="6591240"/>
            <a:ext cx="1089000" cy="12096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6591240" y="6553080"/>
            <a:ext cx="844560" cy="1252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6769080" y="6565680"/>
            <a:ext cx="1812960" cy="12222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165240" y="0"/>
            <a:ext cx="7746120" cy="8393040"/>
            <a:chOff x="165240" y="0"/>
            <a:chExt cx="7746120" cy="8393040"/>
          </a:xfrm>
        </p:grpSpPr>
        <p:pic>
          <p:nvPicPr>
            <p:cNvPr id="901" name="" descr=""/>
            <p:cNvPicPr/>
            <p:nvPr/>
          </p:nvPicPr>
          <p:blipFill>
            <a:blip r:embed="rId2"/>
            <a:stretch/>
          </p:blipFill>
          <p:spPr>
            <a:xfrm>
              <a:off x="165240" y="0"/>
              <a:ext cx="7491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 flipH="1" flipV="1">
              <a:off x="7721640" y="7797600"/>
              <a:ext cx="163440" cy="11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7670880" y="808956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695720" y="8229600"/>
              <a:ext cx="21564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7023240" y="5842080"/>
            <a:ext cx="1092240" cy="8888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642000" y="2730600"/>
            <a:ext cx="1181160" cy="2419200"/>
            <a:chOff x="6642000" y="2730600"/>
            <a:chExt cx="1181160" cy="2419200"/>
          </a:xfrm>
        </p:grpSpPr>
        <p:sp>
          <p:nvSpPr>
            <p:cNvPr id="907" name=""/>
            <p:cNvSpPr/>
            <p:nvPr/>
          </p:nvSpPr>
          <p:spPr>
            <a:xfrm>
              <a:off x="6642000" y="4419720"/>
              <a:ext cx="907920" cy="730080"/>
            </a:xfrm>
            <a:prstGeom prst="rect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51480" y="3441960"/>
              <a:ext cx="571680" cy="4060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530840" y="2730600"/>
              <a:ext cx="292320" cy="2030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2E2-351C-40CF-B15D-AE02FCF2624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Traffic Principl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3695760" y="2438280"/>
          <a:ext cx="635040" cy="5918400"/>
        </p:xfrm>
        <a:graphic>
          <a:graphicData uri="http://schemas.openxmlformats.org/drawingml/2006/table">
            <a:tbl>
              <a:tblPr/>
              <a:tblGrid>
                <a:gridCol w="635040"/>
              </a:tblGrid>
              <a:tr h="8488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R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A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F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F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I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C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2" name=""/>
          <p:cNvGraphicFramePr/>
          <p:nvPr/>
        </p:nvGraphicFramePr>
        <p:xfrm>
          <a:off x="4305240" y="2438280"/>
          <a:ext cx="5600880" cy="5918400"/>
        </p:xfrm>
        <a:graphic>
          <a:graphicData uri="http://schemas.openxmlformats.org/drawingml/2006/table">
            <a:tbl>
              <a:tblPr/>
              <a:tblGrid>
                <a:gridCol w="5600880"/>
              </a:tblGrid>
              <a:tr h="8488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ack the problem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eproduc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utomat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d Origin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cu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olat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rec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8181-4317-4EDA-A740-57464AC0F2F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Validating the Defec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30456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y element of the infection chain must b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224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fected –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.e., have an incorrect valu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2240" indent="-5284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 failure cause </a:t>
            </a:r>
            <a:r>
              <a:rPr b="0" i="1" lang="en-US" sz="4100" spc="-1" strike="noStrike">
                <a:solidFill>
                  <a:srgbClr val="ffffff"/>
                </a:solidFill>
                <a:latin typeface="Gill Sans"/>
              </a:rPr>
              <a:t>– </a:t>
            </a:r>
            <a:r>
              <a:rPr b="0" lang="en-US" sz="4100" spc="-1" strike="noStrike">
                <a:solidFill>
                  <a:srgbClr val="ffffff"/>
                </a:solidFill>
                <a:latin typeface="Gill Sans"/>
              </a:rPr>
              <a:t>i.e., changing it causes the failure to no longer occur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  <a:p>
            <a:pPr marL="30456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Gill Sans"/>
              </a:rPr>
              <a:t>Demonstrate by experiments and observation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A4A-B85E-4AA3-87AB-BE4BE07908D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372600" y="3505320"/>
            <a:ext cx="0" cy="4214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8877240" y="5384880"/>
            <a:ext cx="965160" cy="474480"/>
          </a:xfrm>
          <a:prstGeom prst="rect">
            <a:avLst/>
          </a:prstGeom>
          <a:ln w="0">
            <a:noFill/>
          </a:ln>
        </p:spPr>
      </p:pic>
      <p:grpSp>
        <p:nvGrpSpPr>
          <p:cNvPr id="436" name=""/>
          <p:cNvGrpSpPr/>
          <p:nvPr/>
        </p:nvGrpSpPr>
        <p:grpSpPr>
          <a:xfrm>
            <a:off x="0" y="0"/>
            <a:ext cx="9762120" cy="4227120"/>
            <a:chOff x="0" y="0"/>
            <a:chExt cx="9762120" cy="4227120"/>
          </a:xfrm>
        </p:grpSpPr>
        <p:pic>
          <p:nvPicPr>
            <p:cNvPr id="43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9505440" y="3861000"/>
              <a:ext cx="25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439" name="" descr=""/>
          <p:cNvPicPr/>
          <p:nvPr/>
        </p:nvPicPr>
        <p:blipFill>
          <a:blip r:embed="rId4"/>
          <a:stretch/>
        </p:blipFill>
        <p:spPr>
          <a:xfrm>
            <a:off x="8902800" y="7035840"/>
            <a:ext cx="938160" cy="4636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270080" y="2641680"/>
            <a:ext cx="5765760" cy="4457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37280" indent="-4579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programmer creates a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efect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– an error in the cod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37280" indent="-4579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en executed, the defect creates an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infection –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n error in the stat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37280" indent="-4579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infection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propagates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37280" indent="-4579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infection causes a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failur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09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rom Defect to Failur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7594560" y="29844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7594560" y="462276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594560" y="61722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7581960" y="7683480"/>
          <a:ext cx="2146320" cy="495360"/>
        </p:xfrm>
        <a:graphic>
          <a:graphicData uri="http://schemas.openxmlformats.org/drawingml/2006/table">
            <a:tbl>
              <a:tblPr/>
              <a:tblGrid>
                <a:gridCol w="719280"/>
                <a:gridCol w="711000"/>
                <a:gridCol w="716040"/>
              </a:tblGrid>
              <a:tr h="4953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46" name="" descr=""/>
          <p:cNvPicPr/>
          <p:nvPr/>
        </p:nvPicPr>
        <p:blipFill>
          <a:blip r:embed="rId5"/>
          <a:stretch/>
        </p:blipFill>
        <p:spPr>
          <a:xfrm>
            <a:off x="10439280" y="7099200"/>
            <a:ext cx="7495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469800" y="0"/>
            <a:ext cx="10045800" cy="7821720"/>
            <a:chOff x="469800" y="0"/>
            <a:chExt cx="10045800" cy="7821720"/>
          </a:xfrm>
        </p:grpSpPr>
        <p:grpSp>
          <p:nvGrpSpPr>
            <p:cNvPr id="448" name=""/>
            <p:cNvGrpSpPr/>
            <p:nvPr/>
          </p:nvGrpSpPr>
          <p:grpSpPr>
            <a:xfrm>
              <a:off x="469800" y="0"/>
              <a:ext cx="8857800" cy="7584840"/>
              <a:chOff x="469800" y="0"/>
              <a:chExt cx="8857800" cy="7584840"/>
            </a:xfrm>
          </p:grpSpPr>
          <p:pic>
            <p:nvPicPr>
              <p:cNvPr id="4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980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8944200" y="70358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 flipH="1" flipV="1">
              <a:off x="10324440" y="7226280"/>
              <a:ext cx="163800" cy="114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10274040" y="751824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10299600" y="7658280"/>
              <a:ext cx="21600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0" y="0"/>
            <a:ext cx="10270440" cy="5133600"/>
            <a:chOff x="0" y="0"/>
            <a:chExt cx="10270440" cy="5133600"/>
          </a:xfrm>
        </p:grpSpPr>
        <p:grpSp>
          <p:nvGrpSpPr>
            <p:cNvPr id="455" name=""/>
            <p:cNvGrpSpPr/>
            <p:nvPr/>
          </p:nvGrpSpPr>
          <p:grpSpPr>
            <a:xfrm>
              <a:off x="0" y="0"/>
              <a:ext cx="9486720" cy="4201560"/>
              <a:chOff x="0" y="0"/>
              <a:chExt cx="9486720" cy="4201560"/>
            </a:xfrm>
          </p:grpSpPr>
          <p:pic>
            <p:nvPicPr>
              <p:cNvPr id="4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9230040" y="3835440"/>
                <a:ext cx="256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9887040" y="4584600"/>
              <a:ext cx="38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9800" y="0"/>
            <a:ext cx="9813600" cy="6683040"/>
            <a:chOff x="469800" y="0"/>
            <a:chExt cx="9813600" cy="6683040"/>
          </a:xfrm>
        </p:grpSpPr>
        <p:pic>
          <p:nvPicPr>
            <p:cNvPr id="460" name="" descr=""/>
            <p:cNvPicPr/>
            <p:nvPr/>
          </p:nvPicPr>
          <p:blipFill>
            <a:blip r:embed="rId8"/>
            <a:stretch/>
          </p:blipFill>
          <p:spPr>
            <a:xfrm>
              <a:off x="46980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1" name=""/>
            <p:cNvGrpSpPr/>
            <p:nvPr/>
          </p:nvGrpSpPr>
          <p:grpSpPr>
            <a:xfrm>
              <a:off x="8439480" y="6134040"/>
              <a:ext cx="1843920" cy="549000"/>
              <a:chOff x="8439480" y="6134040"/>
              <a:chExt cx="1843920" cy="549000"/>
            </a:xfrm>
          </p:grpSpPr>
          <p:sp>
            <p:nvSpPr>
              <p:cNvPr id="462" name=""/>
              <p:cNvSpPr/>
              <p:nvPr/>
            </p:nvSpPr>
            <p:spPr>
              <a:xfrm>
                <a:off x="843948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0000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952200" y="3416400"/>
            <a:ext cx="131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600200" y="4127040"/>
            <a:ext cx="8457840" cy="4331160"/>
            <a:chOff x="1600200" y="4127040"/>
            <a:chExt cx="8457840" cy="4331160"/>
          </a:xfrm>
        </p:grpSpPr>
        <p:sp>
          <p:nvSpPr>
            <p:cNvPr id="466" name=""/>
            <p:cNvSpPr/>
            <p:nvPr/>
          </p:nvSpPr>
          <p:spPr>
            <a:xfrm>
              <a:off x="1600200" y="7442280"/>
              <a:ext cx="5435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88920">
                <a:lnSpc>
                  <a:spcPct val="100000"/>
                </a:lnSpc>
                <a:tabLst>
                  <a:tab algn="l" pos="0"/>
                  <a:tab algn="l" pos="736560"/>
                  <a:tab algn="l" pos="54547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his infection chain must be traced back – and broken.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8635320" y="4127040"/>
              <a:ext cx="1422720" cy="3804120"/>
              <a:chOff x="8635320" y="4127040"/>
              <a:chExt cx="1422720" cy="3804120"/>
            </a:xfrm>
          </p:grpSpPr>
          <p:sp>
            <p:nvSpPr>
              <p:cNvPr id="468" name=""/>
              <p:cNvSpPr/>
              <p:nvPr/>
            </p:nvSpPr>
            <p:spPr>
              <a:xfrm flipV="1">
                <a:off x="8635320" y="6413400"/>
                <a:ext cx="1414440" cy="151776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10045800" y="4838400"/>
                <a:ext cx="0" cy="156204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9613440" y="4127040"/>
                <a:ext cx="444600" cy="68436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11841120" y="2946240"/>
            <a:ext cx="0" cy="5334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>
            <a:off x="11971800" y="764532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B7F0-A96B-4115-8E5D-228C5407843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 the Error a Cause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16" name=""/>
          <p:cNvSpPr/>
          <p:nvPr/>
        </p:nvSpPr>
        <p:spPr>
          <a:xfrm>
            <a:off x="3920400" y="3632040"/>
            <a:ext cx="51444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a = compute_value()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printf("a = %d\n", a)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7" name=""/>
          <p:cNvSpPr/>
          <p:nvPr/>
        </p:nvSpPr>
        <p:spPr>
          <a:xfrm>
            <a:off x="3390840" y="6680160"/>
            <a:ext cx="6210360" cy="1270080"/>
          </a:xfrm>
          <a:prstGeom prst="roundRect">
            <a:avLst>
              <a:gd name="adj" fmla="val 1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Monaco"/>
                <a:ea typeface="Monaco"/>
              </a:rPr>
              <a:t>a = 0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CB9D-DFB7-46ED-9798-0B534B47F67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 the Cause an Error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19" name=""/>
          <p:cNvSpPr/>
          <p:nvPr/>
        </p:nvSpPr>
        <p:spPr>
          <a:xfrm>
            <a:off x="971640" y="2921040"/>
            <a:ext cx="110487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balance[account] = 0.0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n; i++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balance[account] += deposit[i]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0" name=""/>
          <p:cNvSpPr/>
          <p:nvPr/>
        </p:nvSpPr>
        <p:spPr>
          <a:xfrm>
            <a:off x="971640" y="6032520"/>
            <a:ext cx="110487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// account 123 is wrong - fix 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if (account == 123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balance[123] += 45.67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542A-FDB3-4360-91E7-E7BD601A5F4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990720" y="977760"/>
            <a:ext cx="11023560" cy="77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tatic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shell_sort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[], int siz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i, j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h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= h * 3 +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&lt;= siz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/= 3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v = a[i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j = i; j &gt;= h &amp;&amp; a[j - h] &gt; v; j -= h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a[j - h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i != j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v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!= 1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2" name=""/>
          <p:cNvSpPr/>
          <p:nvPr/>
        </p:nvSpPr>
        <p:spPr>
          <a:xfrm>
            <a:off x="1003320" y="977760"/>
            <a:ext cx="11023560" cy="77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h; i &lt; size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3" name=""/>
          <p:cNvSpPr/>
          <p:nvPr/>
        </p:nvSpPr>
        <p:spPr>
          <a:xfrm>
            <a:off x="1003320" y="977760"/>
            <a:ext cx="11023560" cy="77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h; i &lt;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size - 1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4" name=""/>
          <p:cNvSpPr/>
          <p:nvPr/>
        </p:nvSpPr>
        <p:spPr>
          <a:xfrm>
            <a:off x="6362640" y="2158920"/>
            <a:ext cx="532152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38032" dir="2446666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gnorant Surgery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054B-1AE4-49AB-87BD-92715CB5054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Validating Causalit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63920" indent="-4845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principle, we must show causality for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ach element of the infection chai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63920" indent="-4845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ever, a successful correctio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trospectively validates causality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66400" indent="-4845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nce the failure has gone, we have proven that the defect caused the fail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63920" indent="-4845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et, we must not fall into ignorant surge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F99-9BEF-40FA-B866-5369EB4FC95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04480" y="253800"/>
            <a:ext cx="107823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ink before you co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288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efore applying a fix, you must understa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your code change will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break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infection chain, a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this will make the failure (as well as other failures) no longer occu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88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fact, you have a theory about the def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AE2-1A6F-4622-957D-9E64B0ACE1B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372680" y="1498680"/>
            <a:ext cx="10248120" cy="13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0" spc="-1" strike="noStrike">
                <a:solidFill>
                  <a:srgbClr val="ffffff"/>
                </a:solidFill>
                <a:latin typeface="Apple Symbols"/>
                <a:ea typeface="Apple Symbols"/>
              </a:rPr>
              <a:t>☠</a:t>
            </a:r>
            <a:endParaRPr b="0" lang="en-US" sz="90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28224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Find the defect by guessing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793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catter debugging statements everywhe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793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ry changing code until something work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793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n’t back up old versions of the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793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n’t bother understanding what the program should d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Devil’s Guide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o 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FF71-736D-4C2E-A909-F8E8AEB68759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DFB-9EE0-4AE0-B09C-B2C416C8EA7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Devil’s Guide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o Debugging (2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503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Don’t waste time understanding the proble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st problems are trivial, anywa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5" name=""/>
          <p:cNvSpPr/>
          <p:nvPr/>
        </p:nvSpPr>
        <p:spPr>
          <a:xfrm>
            <a:off x="1372680" y="1498680"/>
            <a:ext cx="10248120" cy="13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0" spc="-1" strike="noStrike">
                <a:solidFill>
                  <a:srgbClr val="ffffff"/>
                </a:solidFill>
                <a:latin typeface="Apple Symbols"/>
                <a:ea typeface="Apple Symbols"/>
              </a:rPr>
              <a:t>☠</a:t>
            </a:r>
            <a:endParaRPr b="0" lang="en-US" sz="90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197-B526-419A-BB61-0B554F8855A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Devil’s Guide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o Debugging (3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7" name=""/>
          <p:cNvSpPr/>
          <p:nvPr/>
        </p:nvSpPr>
        <p:spPr>
          <a:xfrm>
            <a:off x="1372680" y="1498680"/>
            <a:ext cx="10248120" cy="13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0" spc="-1" strike="noStrike">
                <a:solidFill>
                  <a:srgbClr val="ffffff"/>
                </a:solidFill>
                <a:latin typeface="Apple Symbols"/>
                <a:ea typeface="Apple Symbols"/>
              </a:rPr>
              <a:t>☠</a:t>
            </a:r>
            <a:endParaRPr b="0" lang="en-US" sz="90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503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Use the most obvious fix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ust fix what you se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219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x = compute(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19320" indent="0">
              <a:lnSpc>
                <a:spcPct val="100000"/>
              </a:lnSpc>
              <a:buNone/>
              <a:tabLst>
                <a:tab algn="l" pos="0"/>
                <a:tab algn="l" pos="1193760"/>
                <a:tab algn="l" pos="197316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// compute(17) is wrong – fix 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19320" indent="0">
              <a:lnSpc>
                <a:spcPct val="100000"/>
              </a:lnSpc>
              <a:buNone/>
              <a:tabLst>
                <a:tab algn="l" pos="0"/>
                <a:tab algn="l" pos="1193760"/>
                <a:tab algn="l" pos="197316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if (y == 17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19320" indent="0">
              <a:lnSpc>
                <a:spcPct val="100000"/>
              </a:lnSpc>
              <a:buNone/>
              <a:tabLst>
                <a:tab algn="l" pos="0"/>
                <a:tab algn="l" pos="1193760"/>
                <a:tab algn="l" pos="197316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x = 25.15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19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09556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y bother going into compute()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25B-4C07-4135-921B-B51873828E1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08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FixingTheDefect.ppt_media/PICT1140-2.mov" descr=""/>
          <p:cNvPicPr/>
          <p:nvPr/>
        </p:nvPicPr>
        <p:blipFill>
          <a:blip r:embed="rId1"/>
          <a:stretch/>
        </p:blipFill>
        <p:spPr>
          <a:xfrm>
            <a:off x="406440" y="304920"/>
            <a:ext cx="12192120" cy="9144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rrecting the Defec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817D-ABE4-45D0-8A4C-2104297D6BB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omework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27936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Does the failure no longer occur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66400" indent="-4845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f the failure is still there, this shou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57360" indent="-4845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eave you astonish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57360" indent="-4845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use self-doubt + deep soul-search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57360" indent="-4845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appen rare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66400" indent="-4845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te that there may be a second cau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D48-30BC-429E-A6F4-B3EE75E2959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echniq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4" name=""/>
          <p:cNvSpPr/>
          <p:nvPr/>
        </p:nvSpPr>
        <p:spPr>
          <a:xfrm>
            <a:off x="1193760" y="2781360"/>
            <a:ext cx="7201080" cy="5753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4588920" y="2324160"/>
            <a:ext cx="4069800" cy="13413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Infection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a failed asser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7354800" y="7327800"/>
            <a:ext cx="3362760" cy="1828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Cause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a[2] = 0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causes the fail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2946240" y="7327800"/>
            <a:ext cx="3137040" cy="18288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Anomalie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f() execu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only in failing ru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852840" y="4572000"/>
            <a:ext cx="4758480" cy="13413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Code smell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uninitialized variab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8076960" y="4572000"/>
            <a:ext cx="4764600" cy="134136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  <a:ea typeface="Gill Sans"/>
              </a:rPr>
              <a:t>Dependences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e.g. a[2] comes from a[0]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3441600" y="4533840"/>
            <a:ext cx="6121440" cy="218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50734" dir="288983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How do we integr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hese technique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F59B-34FB-41F1-8BE1-22E34A1102F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omework (2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Did the correction introduce new problem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ave corrections peer-review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ave a regression test to detect unintended changes in behavi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eck each correction individual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69B-0F66-4A04-9E06-32B0DBFC00C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omework (3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Was the same mistake made elsewher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eck for other defects caused by the same mistak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01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ther code of the same develop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01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de involving the same AP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0F0-CC03-4246-9CCF-F0D743D51D3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omework (4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Did I commit the chang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e sure to commit your change t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01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version control syst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01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bug tracking syst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4BB-9924-4760-BB59-EC63665083B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orkaround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29520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rrecting the defect may be impossibl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able to chan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isk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sign flaw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9520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workaroun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olves the problem at hand – but mark it as a temporary solu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197-13FF-4CB2-A1DD-FB2E10F3FAE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Bl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52" name=""/>
          <p:cNvSpPr/>
          <p:nvPr/>
        </p:nvSpPr>
        <p:spPr>
          <a:xfrm>
            <a:off x="2435040" y="4508640"/>
            <a:ext cx="8123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here’s the next open problem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B238-DF4A-49A5-9467-BE7B7957B87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269720" y="265428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11800" indent="-51300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7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isolate the infection chain, transitively work backwards along the infection origin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1800" indent="-5130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7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find the most likely origins, focus 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44360" indent="-316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511280"/>
                <a:tab algn="l" pos="17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ailing asser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44360" indent="-316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511280"/>
                <a:tab algn="l" pos="17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uses in state, code, and in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44360" indent="-316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511280"/>
                <a:tab algn="l" pos="17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omal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44360" indent="-316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511280"/>
                <a:tab algn="l" pos="17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de smel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EC8-93B0-49C9-B771-5EFE6039475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2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269720" y="2654280"/>
            <a:ext cx="10464840" cy="657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correct the defect, wait until you have a theory about how the failure came to b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eck that the correction solves the problem and does not introduce new on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avoid introducing new problems, use code review and regression tes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5B1-C5B9-479A-B728-66FD6A9418F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39EDD-9AA2-403D-A798-749492690E1C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ll Techniq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270080" y="2781360"/>
          <a:ext cx="10464480" cy="5689440"/>
        </p:xfrm>
        <a:graphic>
          <a:graphicData uri="http://schemas.openxmlformats.org/drawingml/2006/table">
            <a:tbl>
              <a:tblPr/>
              <a:tblGrid>
                <a:gridCol w="1162800"/>
                <a:gridCol w="1162800"/>
                <a:gridCol w="1162800"/>
                <a:gridCol w="1162800"/>
                <a:gridCol w="1162800"/>
                <a:gridCol w="1162800"/>
                <a:gridCol w="1162080"/>
                <a:gridCol w="1162800"/>
                <a:gridCol w="1162800"/>
              </a:tblGrid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6666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"/>
          <p:cNvSpPr/>
          <p:nvPr/>
        </p:nvSpPr>
        <p:spPr>
          <a:xfrm>
            <a:off x="12001680" y="2755800"/>
            <a:ext cx="0" cy="5708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12149280" y="78357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5573-5CD0-430F-99F0-64904D86D6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pendenci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270080" y="2781360"/>
          <a:ext cx="10464480" cy="5689440"/>
        </p:xfrm>
        <a:graphic>
          <a:graphicData uri="http://schemas.openxmlformats.org/drawingml/2006/table">
            <a:tbl>
              <a:tblPr/>
              <a:tblGrid>
                <a:gridCol w="1162800"/>
                <a:gridCol w="1162800"/>
                <a:gridCol w="1162800"/>
                <a:gridCol w="1162800"/>
                <a:gridCol w="1162800"/>
                <a:gridCol w="1162800"/>
                <a:gridCol w="1162080"/>
                <a:gridCol w="1162800"/>
                <a:gridCol w="1162800"/>
              </a:tblGrid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6666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5253120" y="6997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5511960" y="7441920"/>
            <a:ext cx="712800" cy="6778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757692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990108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1105704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87390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>
            <a:off x="758340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64152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5259240" y="4863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641520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4091040" y="2730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293508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176688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409104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912720" y="6932520"/>
            <a:ext cx="746280" cy="10922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856560" y="6951240"/>
            <a:ext cx="3101760" cy="9954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2196720" y="6108480"/>
            <a:ext cx="2954520" cy="12063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4254120" y="6134040"/>
            <a:ext cx="839880" cy="12384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52280" y="6210360"/>
            <a:ext cx="947880" cy="12016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851600" y="4722840"/>
            <a:ext cx="811440" cy="18842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0137600" y="4040280"/>
            <a:ext cx="1046160" cy="25286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9038520" y="4155840"/>
            <a:ext cx="2011320" cy="4014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7697520" y="3935160"/>
            <a:ext cx="996840" cy="7952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6759000" y="407808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702480" y="4115880"/>
            <a:ext cx="938160" cy="1801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488920" y="473832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282200" y="550044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491160" y="4807080"/>
            <a:ext cx="20880" cy="938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162160" y="4672080"/>
            <a:ext cx="728640" cy="12700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274920" y="4749480"/>
            <a:ext cx="860400" cy="10335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191040" y="3331800"/>
            <a:ext cx="753840" cy="1149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414680" y="3376440"/>
            <a:ext cx="851040" cy="1640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12001680" y="2755800"/>
            <a:ext cx="0" cy="5708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12149280" y="78357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6519-BC49-4BB7-958A-2023863C17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1270080" y="2781360"/>
          <a:ext cx="10464480" cy="5689440"/>
        </p:xfrm>
        <a:graphic>
          <a:graphicData uri="http://schemas.openxmlformats.org/drawingml/2006/table">
            <a:tbl>
              <a:tblPr/>
              <a:tblGrid>
                <a:gridCol w="1162800"/>
                <a:gridCol w="1162800"/>
                <a:gridCol w="1162800"/>
                <a:gridCol w="1162800"/>
                <a:gridCol w="1162800"/>
                <a:gridCol w="1162800"/>
                <a:gridCol w="1162080"/>
                <a:gridCol w="1162800"/>
                <a:gridCol w="1162800"/>
              </a:tblGrid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6666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"/>
          <p:cNvSpPr/>
          <p:nvPr/>
        </p:nvSpPr>
        <p:spPr>
          <a:xfrm>
            <a:off x="4788000" y="7035840"/>
            <a:ext cx="1092240" cy="72396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serv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5511960" y="7441920"/>
            <a:ext cx="712800" cy="6778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757692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990108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1105704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87390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758340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64152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5259240" y="4863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641520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091040" y="2730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293508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176688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409104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912720" y="6932520"/>
            <a:ext cx="746280" cy="10922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856560" y="6951240"/>
            <a:ext cx="3101760" cy="9954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2196720" y="6108480"/>
            <a:ext cx="2954520" cy="12063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4254120" y="6134040"/>
            <a:ext cx="839880" cy="12384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552280" y="6210360"/>
            <a:ext cx="947880" cy="12016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7851600" y="4722840"/>
            <a:ext cx="811440" cy="18842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0137600" y="4040280"/>
            <a:ext cx="1046160" cy="25286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9038520" y="4155840"/>
            <a:ext cx="2011320" cy="4014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7697520" y="3935160"/>
            <a:ext cx="996840" cy="7952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759000" y="407808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702480" y="4115880"/>
            <a:ext cx="938160" cy="1801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88920" y="473832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282200" y="550044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91160" y="4807080"/>
            <a:ext cx="20880" cy="938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162160" y="4672080"/>
            <a:ext cx="728640" cy="12700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3274920" y="4749480"/>
            <a:ext cx="860400" cy="10335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91040" y="3331800"/>
            <a:ext cx="753840" cy="1149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4414680" y="3376440"/>
            <a:ext cx="851040" cy="1640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5253120" y="6997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5084640" y="69976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12001680" y="2755800"/>
            <a:ext cx="0" cy="5708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12149280" y="78357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DF77-D1D5-4ADC-AA23-27D90AEB5A6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270080" y="2781360"/>
          <a:ext cx="10464480" cy="5689440"/>
        </p:xfrm>
        <a:graphic>
          <a:graphicData uri="http://schemas.openxmlformats.org/drawingml/2006/table">
            <a:tbl>
              <a:tblPr/>
              <a:tblGrid>
                <a:gridCol w="1162800"/>
                <a:gridCol w="1162800"/>
                <a:gridCol w="1162800"/>
                <a:gridCol w="1162800"/>
                <a:gridCol w="1162800"/>
                <a:gridCol w="1162800"/>
                <a:gridCol w="1162080"/>
                <a:gridCol w="1162800"/>
                <a:gridCol w="1162800"/>
              </a:tblGrid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6666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>
            <a:off x="4788000" y="7035840"/>
            <a:ext cx="1092240" cy="72396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serv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5511960" y="7441920"/>
            <a:ext cx="712800" cy="6778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757692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>
            <a:off x="990108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1105704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87390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758340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64152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5259240" y="4863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641520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4091040" y="2730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293508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>
            <a:off x="176688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409104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6912720" y="6932520"/>
            <a:ext cx="746280" cy="1092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856560" y="6951240"/>
            <a:ext cx="3101760" cy="995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2196720" y="6108480"/>
            <a:ext cx="2954520" cy="12063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4254120" y="6134040"/>
            <a:ext cx="839880" cy="12384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552280" y="6210360"/>
            <a:ext cx="947880" cy="12016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851600" y="4722840"/>
            <a:ext cx="811440" cy="1884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10137600" y="4040280"/>
            <a:ext cx="1046160" cy="25286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9038520" y="4155840"/>
            <a:ext cx="2011320" cy="401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7697520" y="3935160"/>
            <a:ext cx="996840" cy="795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759000" y="407808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702480" y="4115880"/>
            <a:ext cx="938160" cy="1801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488920" y="473832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282200" y="550044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491160" y="4807080"/>
            <a:ext cx="20880" cy="938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2162160" y="4672080"/>
            <a:ext cx="728640" cy="12700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3274920" y="4749480"/>
            <a:ext cx="860400" cy="10335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191040" y="3331800"/>
            <a:ext cx="753840" cy="1149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4414680" y="3376440"/>
            <a:ext cx="851040" cy="1640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5084640" y="69976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12001680" y="2755800"/>
            <a:ext cx="0" cy="5708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12149280" y="78357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B54A-86C5-4CEF-964C-2C1872EDF01C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1270080" y="2781360"/>
          <a:ext cx="10464480" cy="5689440"/>
        </p:xfrm>
        <a:graphic>
          <a:graphicData uri="http://schemas.openxmlformats.org/drawingml/2006/table">
            <a:tbl>
              <a:tblPr/>
              <a:tblGrid>
                <a:gridCol w="1162800"/>
                <a:gridCol w="1162800"/>
                <a:gridCol w="1162800"/>
                <a:gridCol w="1162800"/>
                <a:gridCol w="1162800"/>
                <a:gridCol w="1162800"/>
                <a:gridCol w="1162080"/>
                <a:gridCol w="1162800"/>
                <a:gridCol w="1162800"/>
              </a:tblGrid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6666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1295280" y="2768760"/>
            <a:ext cx="2286000" cy="57020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sser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511960" y="7441920"/>
            <a:ext cx="712800" cy="6778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757692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990108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1105704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87390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758340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64152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5259240" y="4863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641520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4091040" y="2730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293508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176688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409104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912720" y="6932520"/>
            <a:ext cx="746280" cy="1092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856560" y="6951240"/>
            <a:ext cx="3101760" cy="995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2196720" y="6108480"/>
            <a:ext cx="2954520" cy="12063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4254120" y="6134040"/>
            <a:ext cx="839880" cy="12384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552280" y="6210360"/>
            <a:ext cx="947880" cy="12016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851600" y="4722840"/>
            <a:ext cx="811440" cy="1884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0137600" y="4040280"/>
            <a:ext cx="1046160" cy="25286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9038520" y="4155840"/>
            <a:ext cx="2011320" cy="401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7697520" y="3935160"/>
            <a:ext cx="996840" cy="795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59000" y="407808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6702480" y="4115880"/>
            <a:ext cx="938160" cy="1801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488920" y="473832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4282200" y="550044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491160" y="4807080"/>
            <a:ext cx="20880" cy="938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162160" y="4672080"/>
            <a:ext cx="728640" cy="12700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3274920" y="4749480"/>
            <a:ext cx="860400" cy="10335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3191040" y="3331800"/>
            <a:ext cx="753840" cy="1149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414680" y="3376440"/>
            <a:ext cx="851040" cy="1640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5084640" y="69976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2792520" y="41911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1624320" y="56134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12001680" y="2755800"/>
            <a:ext cx="0" cy="5708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12149280" y="78357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2D31-0312-4944-8817-9E0F547E588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1270080" y="2781360"/>
          <a:ext cx="10464480" cy="5689440"/>
        </p:xfrm>
        <a:graphic>
          <a:graphicData uri="http://schemas.openxmlformats.org/drawingml/2006/table">
            <a:tbl>
              <a:tblPr/>
              <a:tblGrid>
                <a:gridCol w="1162800"/>
                <a:gridCol w="1162800"/>
                <a:gridCol w="1162800"/>
                <a:gridCol w="1162800"/>
                <a:gridCol w="1162800"/>
                <a:gridCol w="1162800"/>
                <a:gridCol w="1162080"/>
                <a:gridCol w="1162800"/>
                <a:gridCol w="1162800"/>
              </a:tblGrid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6666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1295280" y="2768760"/>
            <a:ext cx="2286000" cy="57020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sser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5511960" y="7441920"/>
            <a:ext cx="712800" cy="6778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757692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9901080" y="628668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1105704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87390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7583400" y="3441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6415200" y="4152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259240" y="486396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641520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4091040" y="273060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4091040" y="5575320"/>
            <a:ext cx="17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Lucida Grande"/>
                <a:ea typeface="Lucida Grande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6912720" y="6932520"/>
            <a:ext cx="746280" cy="1092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856560" y="6951240"/>
            <a:ext cx="3101760" cy="995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2196720" y="6108480"/>
            <a:ext cx="2954520" cy="12063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254120" y="6134040"/>
            <a:ext cx="839880" cy="12384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552280" y="6210360"/>
            <a:ext cx="947880" cy="12016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851600" y="4722840"/>
            <a:ext cx="811440" cy="1884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10137600" y="4040280"/>
            <a:ext cx="1046160" cy="25286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9038520" y="4155840"/>
            <a:ext cx="2011320" cy="40140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7697520" y="3935160"/>
            <a:ext cx="996840" cy="79524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6759000" y="407808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702480" y="4115880"/>
            <a:ext cx="938160" cy="1801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488920" y="473832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282200" y="5500440"/>
            <a:ext cx="747720" cy="5554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491160" y="4807080"/>
            <a:ext cx="20880" cy="938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162160" y="4672080"/>
            <a:ext cx="728640" cy="12700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3274920" y="4749480"/>
            <a:ext cx="860400" cy="103356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191040" y="3331800"/>
            <a:ext cx="753840" cy="114948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414680" y="3376440"/>
            <a:ext cx="851040" cy="164016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"/>
          <p:cNvSpPr/>
          <p:nvPr/>
        </p:nvSpPr>
        <p:spPr>
          <a:xfrm>
            <a:off x="5084640" y="69976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>
            <a:off x="2792520" y="419112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"/>
          <p:cNvSpPr/>
          <p:nvPr/>
        </p:nvSpPr>
        <p:spPr>
          <a:xfrm>
            <a:off x="1624320" y="5613480"/>
            <a:ext cx="44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ff33"/>
                </a:solidFill>
                <a:latin typeface="Zapf Dingbats"/>
                <a:ea typeface="Zapf Dingbats"/>
              </a:rPr>
              <a:t>✔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"/>
          <p:cNvSpPr/>
          <p:nvPr/>
        </p:nvSpPr>
        <p:spPr>
          <a:xfrm>
            <a:off x="12001680" y="2755800"/>
            <a:ext cx="0" cy="5708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"/>
          <p:cNvSpPr/>
          <p:nvPr/>
        </p:nvSpPr>
        <p:spPr>
          <a:xfrm>
            <a:off x="12149280" y="78357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0BA4-26D5-4143-9339-068B2A26F15A}" type="slidenum">
              <a:t>9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