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lymorphic variables: treat “object x” like “int x” if possib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rived values: have “size(…)” as extra value to compare agains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dundant invariants: like x &gt; 0 =&gt; x &gt;= 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atistical threshold: to eliminate random occurrenc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rify correctness: to make sure invariants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ways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ol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N (Nearest Neighbor) @Brown by Manos Renieris + Stephen Reis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T (Cause Transitions) @Saarland by Holger Cleve + Andreas Zell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D (Statistical Debugging) @Berkeley by Ben Liblit (now Wisconsin), Mayur Naik (Stanford), Alice Zheng, Alex Aiken (now Stanford), Michael Jorda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BER @Urbana-Champaign + Purdue by Liu, Yan, Fei, Han, Midkif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533AD-B54E-4459-AE0A-EDFA558680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7A24B-8AD2-48B9-AAC8-4DEAD98390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069F1-5304-4DBC-B503-A0FD7F53FB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802B1-D86F-46C1-904E-F7B7F4BDD1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D6024-F336-4F0B-9186-70186E280A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40964-352A-4E3F-832E-305F647014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FC7F5-D1ED-4C06-97FE-10B8D6105A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23A0E-614B-4804-B573-1A9C41A5308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E5CE-03D2-4466-A5FB-DF894509C1E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203F-8CCF-4160-8B6D-63C3E9A36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9A83-D6AB-40B3-869E-2E45C86507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42FF-2FAC-4875-951D-BFC5513C75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090E-26FA-435C-B0F6-688749754D8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75C7-EB12-48AD-BF5E-83C32D7E8E9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AA80-EE07-40B6-A7C9-084283D65F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112B-A099-4B85-952C-A3D9B3FC0F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5DCC-8214-4E8C-8C64-E093F739D8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23D4-715B-4362-B4EB-173DABF6E58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8DE9-2884-43BC-85DF-82B6EB6B66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117A-9EFB-4D01-9E51-A4E6919C9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571A-C6EC-4E8E-85EF-A3EA9791BE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C0B0A-C797-4ABC-BA7A-9E236E41B5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76DBE-7A6D-47B1-87C6-A079C5543E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85A03-2DA5-4DAC-9576-C7189E06F6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CFF82-D79E-4E0B-8C74-8ADE336E70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EF6B1-2BD9-41AC-83A8-C936045F57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F2CD9-F261-434B-84FB-4FAF9A0A6F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1E3B2-84AD-4F01-A211-64C3256DE3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E1022-63E2-456C-BEAA-861AE7CFCE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A1DDE-B70C-4324-ADA0-B73BE52AD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C761-98D9-48C2-B7BA-475C76E2477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64C4A-201E-4415-9186-E2C808E3289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8B134-644B-46C5-A35D-7C9276989F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2022D-3501-425E-A862-9BDFF82B5A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6CCD-E93C-4171-809B-D3201E410B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EC98-42C4-4053-B977-B74A83CC1C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AEB7-DB6F-4D5F-B8D7-B693D0788C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8CBD-2FFD-4EF4-924B-245E240045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A74B-E014-46DB-8035-85D7811A46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81F2-BAD4-45CC-8462-F089E6650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8715-3173-4FB5-A273-1B3A07616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E609-7D63-40C6-8C47-41D82A3DD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9140-0DB0-4204-AFF7-A11407232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211B-6538-418E-BA25-793EA8F011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4AB0-02C3-465B-BE74-CF313600DF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826B-5219-4BF3-A03B-789CE3F38C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394D-FD5A-4149-8AD4-EC81CF175B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7921-62C1-4403-9A18-59D0B95F2F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D995-12A4-47E0-8C48-1D71B49403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D4C3-18A2-4932-A722-2765C4462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B076-2B64-41E8-817A-2C7B008162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B9C2-43ED-484F-8AF4-209865C4EB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F1F7-39F1-451A-85A9-752617776D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F15D-2352-4459-A5E3-FC9FE1A0AE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1EAB-13C7-4229-9D71-1CEB93ABB5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D1EB-CF8F-467C-BF06-770CC3D0DB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C368-ED95-429D-BBF4-186C923667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F18-A643-440C-BEBC-98F540DFF2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A61-31B3-4EC9-BD91-DCEE9AD778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FE8-84D1-423F-8DCD-890E4B021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EB7-BB16-4F5B-8EB9-F86210F833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C62-C6B6-4943-B94A-2080683B05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6A8-24C7-4070-BFB6-FA8A26D7A2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079-E2F1-4E37-B1C5-3780BC83FC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C20-EBF2-4E7F-A678-B15DEB2482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781-0003-4C53-AB2A-02F2A39798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C26-62F2-4CB9-BC28-E8EAA6D58A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AA6-A246-4147-9D07-64895CF7F9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230-967B-4980-951B-07F93E37E6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CF61-56FC-486A-9F3C-A4B299754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962C2-01F6-4317-A297-A9F0C8EB0E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ACC3-DC11-4025-9558-4B2F64A4D5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D13F-B379-4DF4-B48C-2B3C697CE5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487FD-C035-4C9F-A81B-2DD155AAF5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A857D-6A00-44D7-B84A-5EF99C07D7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ACDA6-DD90-42CC-932D-78CE5FA051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07B2-4DE9-466C-9DC3-2B29347412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15527-EB6E-47DE-9D9A-0097B9989C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92ACC-2C0F-4B20-AE59-7318D3B86E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46C95-2EDE-4EC2-8C82-D918FC6D1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CD1E2-C70E-4A50-861C-F78AE8E603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DAFA0-8241-4BE0-8FCE-157CD71F1F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A12EF-4C48-4ED9-AF27-2900E5C052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29A23-2647-4BC6-90FD-6DA1CA9C46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A25B5-83CA-45F5-BDB0-8F55AC9D2A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0C21D-BCE9-4655-A7C4-7E70CF6900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A6F65-F866-4883-9DB7-8FFF28338F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4C02D-5864-4800-AF3C-62C58D961B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20722-613D-4FEF-B4C2-008313FF0B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AED2B-3E3D-48D4-B9E4-E91255C5D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12E54-4556-4236-BDF7-F274611BD1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64A8D-0C96-41EC-8D57-E3B61A64C3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0C955-B1B2-430E-8815-FAE46C1690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84B-8721-4550-84B7-2D01AC06E7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50DE-D702-4FBA-BA3B-39D6843C4B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0FAB-7865-4588-9ECF-052C838F29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DF28-2F56-4D06-B93F-D0DD521827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2B3-BE0C-4229-BB3D-2CBB7C775D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A6F7-ACD7-42F7-8157-8957223C86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184A-3BB5-4493-88AD-B83624DE6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47D-3BCE-4A77-B6CD-205334FA47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562-ECB0-44D6-A861-273D1F4DA9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2A8C-EE81-4279-9F5C-B29F246350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6E2C-4B04-4BEE-BC2B-EFD95B72E3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2C1B-3D21-42E1-9031-B923FFF1E7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D8B29-EA2B-48A4-94F7-8D74F7B2F1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E8C38-C6DE-4AE5-90F2-7CC5D61479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3F597-B11C-40D3-9E66-FA37321A0C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8BA0E-1387-4250-8CA7-9565D547D9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D9CC8-DE89-4BA5-BC08-C6E05854C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02211-A222-48CF-A727-A19D5D171C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738D4-D8FD-4D43-B7C6-82C2906164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CAC67-BA9C-44E3-B795-E29A79AB9B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97EFB-CA02-467C-8C98-91B17D66101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3D80A-822A-4555-AA5F-06D6F62CA44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C34E3-2BEB-4BEA-9279-417E074933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01A03-C334-4F71-BCD2-2CFC87C1BF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8C551-5353-4218-A3FD-258AB00602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AE9BA-28AE-46C3-AA39-772CB42C51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9C81E-5409-4F38-9902-FDD56ED14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2A4B-E3D3-4981-B5FB-205F307765C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981-05B9-4DE1-A718-4547AD79D1EC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C12C-102D-41DA-9A63-F8A66FB2516C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0D21-9C84-48C4-A8F5-306B26698B7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99A-BF6A-4FC9-89FE-F7B019A9F32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7C61-5911-4730-B9D0-0D20D938A4D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D911-595D-425F-80B8-10C5D71519B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0FC-F205-4DCC-9980-0CDCB37328B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6222-DF1B-48EB-AB73-6453E9F6DE9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8E3E-615E-4402-99C3-27618FF555B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tecting Anomal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723960" y="5027760"/>
            <a:ext cx="6451560" cy="68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aik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16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19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521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22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52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25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527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28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779040" y="3289320"/>
            <a:ext cx="1790640" cy="1333440"/>
            <a:chOff x="9779040" y="3289320"/>
            <a:chExt cx="1790640" cy="1333440"/>
          </a:xfrm>
        </p:grpSpPr>
        <p:sp>
          <p:nvSpPr>
            <p:cNvPr id="530" name=""/>
            <p:cNvSpPr/>
            <p:nvPr/>
          </p:nvSpPr>
          <p:spPr>
            <a:xfrm>
              <a:off x="9779040" y="3289320"/>
              <a:ext cx="1790640" cy="1333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20240" y="3594240"/>
              <a:ext cx="1373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8915400" y="6464160"/>
            <a:ext cx="2476440" cy="1333440"/>
            <a:chOff x="8915400" y="6464160"/>
            <a:chExt cx="2476440" cy="1333440"/>
          </a:xfrm>
        </p:grpSpPr>
        <p:sp>
          <p:nvSpPr>
            <p:cNvPr id="533" name=""/>
            <p:cNvSpPr/>
            <p:nvPr/>
          </p:nvSpPr>
          <p:spPr>
            <a:xfrm>
              <a:off x="8915400" y="646416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023400" y="679428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9283680" y="6769080"/>
            <a:ext cx="2476440" cy="1333440"/>
            <a:chOff x="9283680" y="6769080"/>
            <a:chExt cx="2476440" cy="1333440"/>
          </a:xfrm>
        </p:grpSpPr>
        <p:sp>
          <p:nvSpPr>
            <p:cNvPr id="536" name=""/>
            <p:cNvSpPr/>
            <p:nvPr/>
          </p:nvSpPr>
          <p:spPr>
            <a:xfrm>
              <a:off x="9283680" y="676908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391680" y="709920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9651960" y="7074000"/>
            <a:ext cx="2476440" cy="1333440"/>
            <a:chOff x="9651960" y="7074000"/>
            <a:chExt cx="2476440" cy="1333440"/>
          </a:xfrm>
        </p:grpSpPr>
        <p:sp>
          <p:nvSpPr>
            <p:cNvPr id="539" name=""/>
            <p:cNvSpPr/>
            <p:nvPr/>
          </p:nvSpPr>
          <p:spPr>
            <a:xfrm>
              <a:off x="9651960" y="707400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59960" y="740412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0020240" y="7378560"/>
            <a:ext cx="2476440" cy="1333440"/>
            <a:chOff x="10020240" y="7378560"/>
            <a:chExt cx="2476440" cy="1333440"/>
          </a:xfrm>
        </p:grpSpPr>
        <p:sp>
          <p:nvSpPr>
            <p:cNvPr id="542" name=""/>
            <p:cNvSpPr/>
            <p:nvPr/>
          </p:nvSpPr>
          <p:spPr>
            <a:xfrm>
              <a:off x="10020240" y="737856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128240" y="770868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254560" y="7442280"/>
            <a:ext cx="3492720" cy="1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0522080" y="5082840"/>
            <a:ext cx="0" cy="1079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6095880" y="3962520"/>
            <a:ext cx="2901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6423840" y="3200400"/>
            <a:ext cx="2227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get tra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6930360" y="5118120"/>
            <a:ext cx="3781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ilter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5297040" y="6769080"/>
            <a:ext cx="3416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eport resul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1650960" y="6642000"/>
            <a:ext cx="3378240" cy="1600200"/>
          </a:xfrm>
          <a:prstGeom prst="rect">
            <a:avLst/>
          </a:prstGeom>
          <a:solidFill>
            <a:srgbClr val="ff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1790640" y="6730920"/>
            <a:ext cx="3086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Postcondi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b[] = orig(b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return == sum(b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D3A8-40CB-4D38-988A-CEB1388E27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Getting the Tr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5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57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55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0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56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3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565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6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568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9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9779040" y="3289320"/>
            <a:ext cx="1790640" cy="1333440"/>
            <a:chOff x="9779040" y="3289320"/>
            <a:chExt cx="1790640" cy="1333440"/>
          </a:xfrm>
        </p:grpSpPr>
        <p:sp>
          <p:nvSpPr>
            <p:cNvPr id="571" name=""/>
            <p:cNvSpPr/>
            <p:nvPr/>
          </p:nvSpPr>
          <p:spPr>
            <a:xfrm>
              <a:off x="9779040" y="3289320"/>
              <a:ext cx="1790640" cy="1333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020240" y="3594240"/>
              <a:ext cx="1373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095880" y="3962520"/>
            <a:ext cx="2901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6133680"/>
            <a:ext cx="10464840" cy="234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5932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cords all variable values at all function entries and exi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932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s VALGRIND to create the tra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EC0B-5591-4C1B-9798-56B745293F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lter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779040" y="3289320"/>
            <a:ext cx="1790640" cy="1333440"/>
            <a:chOff x="9779040" y="3289320"/>
            <a:chExt cx="1790640" cy="1333440"/>
          </a:xfrm>
        </p:grpSpPr>
        <p:sp>
          <p:nvSpPr>
            <p:cNvPr id="578" name=""/>
            <p:cNvSpPr/>
            <p:nvPr/>
          </p:nvSpPr>
          <p:spPr>
            <a:xfrm>
              <a:off x="9779040" y="3289320"/>
              <a:ext cx="1790640" cy="1333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020240" y="3594240"/>
              <a:ext cx="1373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8915400" y="6464160"/>
            <a:ext cx="2476440" cy="1333440"/>
            <a:chOff x="8915400" y="6464160"/>
            <a:chExt cx="2476440" cy="1333440"/>
          </a:xfrm>
        </p:grpSpPr>
        <p:sp>
          <p:nvSpPr>
            <p:cNvPr id="581" name=""/>
            <p:cNvSpPr/>
            <p:nvPr/>
          </p:nvSpPr>
          <p:spPr>
            <a:xfrm>
              <a:off x="8915400" y="646416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023400" y="679428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9283680" y="6769080"/>
            <a:ext cx="2476440" cy="1333440"/>
            <a:chOff x="9283680" y="6769080"/>
            <a:chExt cx="2476440" cy="1333440"/>
          </a:xfrm>
        </p:grpSpPr>
        <p:sp>
          <p:nvSpPr>
            <p:cNvPr id="584" name=""/>
            <p:cNvSpPr/>
            <p:nvPr/>
          </p:nvSpPr>
          <p:spPr>
            <a:xfrm>
              <a:off x="9283680" y="676908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391680" y="709920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9651960" y="7074000"/>
            <a:ext cx="2476440" cy="1333440"/>
            <a:chOff x="9651960" y="7074000"/>
            <a:chExt cx="2476440" cy="1333440"/>
          </a:xfrm>
        </p:grpSpPr>
        <p:sp>
          <p:nvSpPr>
            <p:cNvPr id="587" name=""/>
            <p:cNvSpPr/>
            <p:nvPr/>
          </p:nvSpPr>
          <p:spPr>
            <a:xfrm>
              <a:off x="9651960" y="707400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759960" y="740412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0020240" y="7378560"/>
            <a:ext cx="2476440" cy="1333440"/>
            <a:chOff x="10020240" y="7378560"/>
            <a:chExt cx="2476440" cy="1333440"/>
          </a:xfrm>
        </p:grpSpPr>
        <p:sp>
          <p:nvSpPr>
            <p:cNvPr id="590" name=""/>
            <p:cNvSpPr/>
            <p:nvPr/>
          </p:nvSpPr>
          <p:spPr>
            <a:xfrm>
              <a:off x="10020240" y="7378560"/>
              <a:ext cx="247644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128240" y="770868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92" name=""/>
          <p:cNvSpPr/>
          <p:nvPr/>
        </p:nvSpPr>
        <p:spPr>
          <a:xfrm flipV="1">
            <a:off x="10522080" y="5082840"/>
            <a:ext cx="0" cy="1079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ikon has a library of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variant pattern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ver variables and const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ly matching patterns are preserv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BBE6-9780-488C-921D-A4EA18173B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ethod Specific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335320" y="3251160"/>
          <a:ext cx="8345160" cy="2158920"/>
        </p:xfrm>
        <a:graphic>
          <a:graphicData uri="http://schemas.openxmlformats.org/drawingml/2006/table">
            <a:tbl>
              <a:tblPr/>
              <a:tblGrid>
                <a:gridCol w="2781720"/>
                <a:gridCol w="2781720"/>
                <a:gridCol w="2781720"/>
              </a:tblGrid>
              <a:tr h="1079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x = 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Apple Symbols"/>
                        </a:rPr>
                        <a:t>x ∈ {2, 5, –30}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x &lt; 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y = 5x + 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z = 4x +12y +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z = fn(x, y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2336760" y="6667560"/>
          <a:ext cx="8344080" cy="1295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  <a:gridCol w="2781360"/>
              </a:tblGrid>
              <a:tr h="12952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A subseq 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Apple Symbols"/>
                        </a:rPr>
                        <a:t>x ∈ 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orted(A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2362320" y="2387520"/>
            <a:ext cx="8292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imitive 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1911960" y="5867280"/>
            <a:ext cx="5178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posite 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2626560" y="8610480"/>
            <a:ext cx="774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hecked at method entry + ex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98CF-6F7F-401F-9E32-A5F5FF97B3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ject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324160" y="3327480"/>
          <a:ext cx="8343720" cy="4278240"/>
        </p:xfrm>
        <a:graphic>
          <a:graphicData uri="http://schemas.openxmlformats.org/drawingml/2006/table">
            <a:tbl>
              <a:tblPr/>
              <a:tblGrid>
                <a:gridCol w="8343720"/>
              </a:tblGrid>
              <a:tr h="1425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tring.content[string.length] = ‘\0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node.left.value ≤ node.right.val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his.next.last = th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>
            <a:off x="1349280" y="8470800"/>
            <a:ext cx="1029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hecked at entry + exit of public metho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F0A0-779A-4472-8619-C8BCF953739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tch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04" name=""/>
          <p:cNvSpPr/>
          <p:nvPr/>
        </p:nvSpPr>
        <p:spPr>
          <a:xfrm>
            <a:off x="9613800" y="2654280"/>
            <a:ext cx="2476440" cy="1333440"/>
          </a:xfrm>
          <a:prstGeom prst="rect">
            <a:avLst/>
          </a:prstGeom>
          <a:solidFill>
            <a:srgbClr val="ff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10064520" y="2959200"/>
            <a:ext cx="157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==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9016920" y="5410080"/>
            <a:ext cx="3670560" cy="3009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9898920" y="565164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10414440" y="5651640"/>
            <a:ext cx="19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ize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11982600" y="655308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76240" y="2984400"/>
            <a:ext cx="77598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ublic int ex1511(int[] b, int n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nt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nt i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while (i !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 = s + b[i]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return s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9151200" y="6311880"/>
            <a:ext cx="20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um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9662040" y="7518240"/>
            <a:ext cx="159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etu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10137960" y="6896160"/>
            <a:ext cx="165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rig(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956880" y="4051440"/>
            <a:ext cx="180324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tte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9842400" y="8470800"/>
            <a:ext cx="203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11313720" y="7518240"/>
            <a:ext cx="42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F06B-DBC1-45C9-9869-8ADF8E4FE6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054080" y="2728800"/>
          <a:ext cx="7224480" cy="5626080"/>
        </p:xfrm>
        <a:graphic>
          <a:graphicData uri="http://schemas.openxmlformats.org/drawingml/2006/table">
            <a:tbl>
              <a:tblPr/>
              <a:tblGrid>
                <a:gridCol w="1717920"/>
                <a:gridCol w="917640"/>
                <a:gridCol w="918000"/>
                <a:gridCol w="918000"/>
                <a:gridCol w="917640"/>
                <a:gridCol w="917640"/>
                <a:gridCol w="917640"/>
              </a:tblGrid>
              <a:tr h="10515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=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tch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9" name=""/>
          <p:cNvSpPr/>
          <p:nvPr/>
        </p:nvSpPr>
        <p:spPr>
          <a:xfrm>
            <a:off x="10102320" y="557532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9500400" y="6553080"/>
            <a:ext cx="13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1817360" y="692136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9613800" y="2654280"/>
            <a:ext cx="2476440" cy="1333440"/>
          </a:xfrm>
          <a:prstGeom prst="rect">
            <a:avLst/>
          </a:prstGeom>
          <a:solidFill>
            <a:srgbClr val="ff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10064520" y="2959200"/>
            <a:ext cx="157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==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9016920" y="5410080"/>
            <a:ext cx="3670560" cy="3009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9898920" y="565164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10414440" y="5651640"/>
            <a:ext cx="19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ize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11982600" y="655308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9151200" y="6311880"/>
            <a:ext cx="20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um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9662040" y="7518240"/>
            <a:ext cx="159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etu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10137960" y="6896160"/>
            <a:ext cx="165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rig(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9956880" y="4051440"/>
            <a:ext cx="180324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tte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9842400" y="8470800"/>
            <a:ext cx="203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11313720" y="7518240"/>
            <a:ext cx="42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015920" y="3822840"/>
            <a:ext cx="7315200" cy="5257800"/>
            <a:chOff x="1015920" y="3822840"/>
            <a:chExt cx="7315200" cy="5257800"/>
          </a:xfrm>
        </p:grpSpPr>
        <p:sp>
          <p:nvSpPr>
            <p:cNvPr id="635" name=""/>
            <p:cNvSpPr/>
            <p:nvPr/>
          </p:nvSpPr>
          <p:spPr>
            <a:xfrm>
              <a:off x="1015920" y="8509320"/>
              <a:ext cx="7315200" cy="571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 1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09240" y="45849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23640" y="612144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09240" y="68835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23640" y="382284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52440" y="45849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79440" y="382284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93840" y="45849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93840" y="68835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79440" y="765828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23640" y="765828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86E9-5C3D-4EC2-98B6-B739CD68CA12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1054080" y="2728800"/>
          <a:ext cx="7224480" cy="5626080"/>
        </p:xfrm>
        <a:graphic>
          <a:graphicData uri="http://schemas.openxmlformats.org/drawingml/2006/table">
            <a:tbl>
              <a:tblPr/>
              <a:tblGrid>
                <a:gridCol w="1717920"/>
                <a:gridCol w="917640"/>
                <a:gridCol w="918000"/>
                <a:gridCol w="918000"/>
                <a:gridCol w="917640"/>
                <a:gridCol w="917640"/>
                <a:gridCol w="917640"/>
              </a:tblGrid>
              <a:tr h="10515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=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tch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8" name=""/>
          <p:cNvSpPr/>
          <p:nvPr/>
        </p:nvSpPr>
        <p:spPr>
          <a:xfrm>
            <a:off x="10102320" y="557532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9500400" y="6553080"/>
            <a:ext cx="13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11817360" y="692136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9613800" y="2654280"/>
            <a:ext cx="2476440" cy="1333440"/>
          </a:xfrm>
          <a:prstGeom prst="rect">
            <a:avLst/>
          </a:prstGeom>
          <a:solidFill>
            <a:srgbClr val="ff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10064520" y="2959200"/>
            <a:ext cx="157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==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9016920" y="5410080"/>
            <a:ext cx="3670560" cy="3009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9898920" y="565164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10414440" y="5651640"/>
            <a:ext cx="19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ize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11982600" y="655308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9151200" y="6311880"/>
            <a:ext cx="20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um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9662040" y="7518240"/>
            <a:ext cx="159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etu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10137960" y="6896160"/>
            <a:ext cx="165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rig(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9956880" y="4051440"/>
            <a:ext cx="180324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tte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9842400" y="8470800"/>
            <a:ext cx="203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11313720" y="7518240"/>
            <a:ext cx="42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30092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30092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39236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66794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75938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75938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>
            <a:off x="66794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"/>
          <p:cNvSpPr/>
          <p:nvPr/>
        </p:nvSpPr>
        <p:spPr>
          <a:xfrm>
            <a:off x="39236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"/>
          <p:cNvSpPr/>
          <p:nvPr/>
        </p:nvSpPr>
        <p:spPr>
          <a:xfrm>
            <a:off x="5752440" y="45594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"/>
          <p:cNvSpPr/>
          <p:nvPr/>
        </p:nvSpPr>
        <p:spPr>
          <a:xfrm>
            <a:off x="39236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015920" y="3822840"/>
            <a:ext cx="7315200" cy="5257800"/>
            <a:chOff x="1015920" y="3822840"/>
            <a:chExt cx="7315200" cy="5257800"/>
          </a:xfrm>
        </p:grpSpPr>
        <p:sp>
          <p:nvSpPr>
            <p:cNvPr id="674" name=""/>
            <p:cNvSpPr/>
            <p:nvPr/>
          </p:nvSpPr>
          <p:spPr>
            <a:xfrm>
              <a:off x="1015920" y="8509320"/>
              <a:ext cx="7315200" cy="571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 2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09240" y="534672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38040" y="382284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38040" y="765828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93840" y="534672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23640" y="68835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79440" y="45849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52440" y="530892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38040" y="612144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52440" y="688356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79440" y="6121440"/>
              <a:ext cx="447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Zapf Dingbats"/>
                  <a:ea typeface="Zapf Dingbats"/>
                </a:rPr>
                <a:t>✘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D946-3459-4755-BF2C-887A4B6BC9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1054080" y="2728800"/>
          <a:ext cx="7224480" cy="5626080"/>
        </p:xfrm>
        <a:graphic>
          <a:graphicData uri="http://schemas.openxmlformats.org/drawingml/2006/table">
            <a:tbl>
              <a:tblPr/>
              <a:tblGrid>
                <a:gridCol w="1717920"/>
                <a:gridCol w="917640"/>
                <a:gridCol w="918000"/>
                <a:gridCol w="918000"/>
                <a:gridCol w="917640"/>
                <a:gridCol w="917640"/>
                <a:gridCol w="917640"/>
              </a:tblGrid>
              <a:tr h="10515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=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tch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7" name=""/>
          <p:cNvSpPr/>
          <p:nvPr/>
        </p:nvSpPr>
        <p:spPr>
          <a:xfrm>
            <a:off x="10102320" y="557532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9500400" y="6553080"/>
            <a:ext cx="13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11817360" y="692136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>
            <a:off x="9613800" y="2654280"/>
            <a:ext cx="2476440" cy="1333440"/>
          </a:xfrm>
          <a:prstGeom prst="rect">
            <a:avLst/>
          </a:prstGeom>
          <a:solidFill>
            <a:srgbClr val="ff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>
            <a:off x="10064520" y="2959200"/>
            <a:ext cx="157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==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9016920" y="5410080"/>
            <a:ext cx="3670560" cy="3009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9898920" y="5651640"/>
            <a:ext cx="25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10414440" y="5651640"/>
            <a:ext cx="19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ize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11982600" y="6553080"/>
            <a:ext cx="32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9151200" y="6311880"/>
            <a:ext cx="20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um(b[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9662040" y="7518240"/>
            <a:ext cx="159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etu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10137960" y="6896160"/>
            <a:ext cx="165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rig(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9956880" y="4051440"/>
            <a:ext cx="180324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tte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9842400" y="8470800"/>
            <a:ext cx="203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11313720" y="7518240"/>
            <a:ext cx="42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30092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"/>
          <p:cNvSpPr/>
          <p:nvPr/>
        </p:nvSpPr>
        <p:spPr>
          <a:xfrm>
            <a:off x="30092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39236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66794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75938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75938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66794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39236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>
            <a:off x="5752440" y="45594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39236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>
            <a:off x="1015920" y="8508960"/>
            <a:ext cx="7315200" cy="571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run 3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3009240" y="53467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48380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>
            <a:off x="48380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7593840" y="53467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39236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66794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5752440" y="5308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48380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57524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"/>
          <p:cNvSpPr/>
          <p:nvPr/>
        </p:nvSpPr>
        <p:spPr>
          <a:xfrm>
            <a:off x="66794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576F-4405-416B-9068-2E8BBADB20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1054080" y="2728800"/>
          <a:ext cx="7224480" cy="5626080"/>
        </p:xfrm>
        <a:graphic>
          <a:graphicData uri="http://schemas.openxmlformats.org/drawingml/2006/table">
            <a:tbl>
              <a:tblPr/>
              <a:tblGrid>
                <a:gridCol w="1717920"/>
                <a:gridCol w="917640"/>
                <a:gridCol w="918000"/>
                <a:gridCol w="918000"/>
                <a:gridCol w="917640"/>
                <a:gridCol w="917640"/>
                <a:gridCol w="917640"/>
              </a:tblGrid>
              <a:tr h="10515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=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um(b[]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i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tch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991720" y="2692440"/>
            <a:ext cx="3695760" cy="1104840"/>
            <a:chOff x="8991720" y="2692440"/>
            <a:chExt cx="3695760" cy="1104840"/>
          </a:xfrm>
        </p:grpSpPr>
        <p:sp>
          <p:nvSpPr>
            <p:cNvPr id="726" name=""/>
            <p:cNvSpPr/>
            <p:nvPr/>
          </p:nvSpPr>
          <p:spPr>
            <a:xfrm>
              <a:off x="8991720" y="269244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227880" y="2882880"/>
              <a:ext cx="322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 == sum(b[]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30092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30092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39236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66794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>
            <a:off x="75938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75938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66794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>
            <a:off x="39236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>
            <a:off x="5752440" y="45594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39236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3009240" y="53467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>
            <a:off x="4838040" y="38228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4838040" y="76582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7593840" y="53467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39236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"/>
          <p:cNvSpPr/>
          <p:nvPr/>
        </p:nvSpPr>
        <p:spPr>
          <a:xfrm>
            <a:off x="6679440" y="458460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5752440" y="5308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48380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5752440" y="68835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6679440" y="612144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✘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991720" y="4317840"/>
            <a:ext cx="3695760" cy="1104840"/>
            <a:chOff x="8991720" y="4317840"/>
            <a:chExt cx="3695760" cy="1104840"/>
          </a:xfrm>
        </p:grpSpPr>
        <p:sp>
          <p:nvSpPr>
            <p:cNvPr id="749" name=""/>
            <p:cNvSpPr/>
            <p:nvPr/>
          </p:nvSpPr>
          <p:spPr>
            <a:xfrm>
              <a:off x="8991720" y="431784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913320" y="4508280"/>
              <a:ext cx="185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 == re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8991720" y="5880240"/>
            <a:ext cx="3695760" cy="1104840"/>
            <a:chOff x="8991720" y="5880240"/>
            <a:chExt cx="3695760" cy="1104840"/>
          </a:xfrm>
        </p:grpSpPr>
        <p:sp>
          <p:nvSpPr>
            <p:cNvPr id="752" name=""/>
            <p:cNvSpPr/>
            <p:nvPr/>
          </p:nvSpPr>
          <p:spPr>
            <a:xfrm>
              <a:off x="8991720" y="588024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262800" y="6070680"/>
              <a:ext cx="3160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 == size(b[]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8991720" y="7416720"/>
            <a:ext cx="3695760" cy="1104840"/>
            <a:chOff x="8991720" y="7416720"/>
            <a:chExt cx="3695760" cy="1104840"/>
          </a:xfrm>
        </p:grpSpPr>
        <p:sp>
          <p:nvSpPr>
            <p:cNvPr id="755" name=""/>
            <p:cNvSpPr/>
            <p:nvPr/>
          </p:nvSpPr>
          <p:spPr>
            <a:xfrm>
              <a:off x="8991720" y="741672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080640" y="7607160"/>
              <a:ext cx="35179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t == sum(b[]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57" name=""/>
          <p:cNvSpPr/>
          <p:nvPr/>
        </p:nvSpPr>
        <p:spPr>
          <a:xfrm flipH="1">
            <a:off x="5941800" y="3274920"/>
            <a:ext cx="3020760" cy="843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7826040" y="4117680"/>
            <a:ext cx="1157400" cy="765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040000" y="4901760"/>
            <a:ext cx="3962520" cy="1530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7903800" y="6471720"/>
            <a:ext cx="1079640" cy="1413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E071-914C-429F-AA81-05F7DF30AE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’s abnormal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pose we determine common properties of all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ass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ru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w we examine a run which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te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difference in properti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rrelates with failure –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d is likely to hint at failure cau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06C0-2A1B-43DD-94BA-87826C643FE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tch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8991720" y="2692440"/>
            <a:ext cx="3695760" cy="1104840"/>
            <a:chOff x="8991720" y="2692440"/>
            <a:chExt cx="3695760" cy="1104840"/>
          </a:xfrm>
        </p:grpSpPr>
        <p:sp>
          <p:nvSpPr>
            <p:cNvPr id="763" name=""/>
            <p:cNvSpPr/>
            <p:nvPr/>
          </p:nvSpPr>
          <p:spPr>
            <a:xfrm>
              <a:off x="8991720" y="269244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227880" y="2882880"/>
              <a:ext cx="322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 == sum(b[]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8991720" y="4317840"/>
            <a:ext cx="3695760" cy="1104840"/>
            <a:chOff x="8991720" y="4317840"/>
            <a:chExt cx="3695760" cy="1104840"/>
          </a:xfrm>
        </p:grpSpPr>
        <p:sp>
          <p:nvSpPr>
            <p:cNvPr id="766" name=""/>
            <p:cNvSpPr/>
            <p:nvPr/>
          </p:nvSpPr>
          <p:spPr>
            <a:xfrm>
              <a:off x="8991720" y="431784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913320" y="4508280"/>
              <a:ext cx="185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 == re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8991720" y="5880240"/>
            <a:ext cx="3695760" cy="1104840"/>
            <a:chOff x="8991720" y="5880240"/>
            <a:chExt cx="3695760" cy="1104840"/>
          </a:xfrm>
        </p:grpSpPr>
        <p:sp>
          <p:nvSpPr>
            <p:cNvPr id="769" name=""/>
            <p:cNvSpPr/>
            <p:nvPr/>
          </p:nvSpPr>
          <p:spPr>
            <a:xfrm>
              <a:off x="8991720" y="588024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262800" y="6070680"/>
              <a:ext cx="3160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 == size(b[]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8991720" y="7416720"/>
            <a:ext cx="3695760" cy="1104840"/>
            <a:chOff x="8991720" y="7416720"/>
            <a:chExt cx="3695760" cy="1104840"/>
          </a:xfrm>
        </p:grpSpPr>
        <p:sp>
          <p:nvSpPr>
            <p:cNvPr id="772" name=""/>
            <p:cNvSpPr/>
            <p:nvPr/>
          </p:nvSpPr>
          <p:spPr>
            <a:xfrm>
              <a:off x="8991720" y="7416720"/>
              <a:ext cx="3695760" cy="11048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080640" y="7607160"/>
              <a:ext cx="35179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t == sum(b[])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876240" y="2984400"/>
            <a:ext cx="77598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ublic int ex1511(int[] b, int n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nt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nt i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while (i !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 = s + b[i]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return s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CB27-0D18-429E-B824-B051E0D871AC}" type="slidenum">
              <a:t>20</a:t>
            </a:fld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nhancing Relevan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ndle polymorphic 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for derived val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liminate redundant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t statistical threshold for relev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erify correctness with static analy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9BC0-DF9F-470C-AB88-E19DD1E9BB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aikon Discusse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 long as some property can be observed, it can be added as a patte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ttern vocabulary determines the invariants that can be found (“sum()”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ing all patterns (and combinations!) is expensiv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rivial invariants must be elimina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F883-E7C4-4572-80DA-113A8B8D664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1270080" y="3962520"/>
          <a:ext cx="10464480" cy="332712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3327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ynami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variant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ampled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5B14-D61A-40C9-98C1-360533AF014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ynamic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7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84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78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87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78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90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792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93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79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96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798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799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 flipH="1" rot="10800000">
            <a:off x="7390440" y="5715000"/>
            <a:ext cx="4546440" cy="59688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5092560" y="6680160"/>
            <a:ext cx="2819520" cy="1270080"/>
          </a:xfrm>
          <a:prstGeom prst="leftRightArrow">
            <a:avLst>
              <a:gd name="adj1" fmla="val 30481"/>
              <a:gd name="adj2" fmla="val 48798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1533240" y="8242200"/>
            <a:ext cx="361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f(), x is od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>
            <a:off x="8229240" y="8242200"/>
            <a:ext cx="2855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f(), x = 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070000" y="6642000"/>
            <a:ext cx="2540160" cy="1333440"/>
            <a:chOff x="2070000" y="6642000"/>
            <a:chExt cx="2540160" cy="1333440"/>
          </a:xfrm>
        </p:grpSpPr>
        <p:sp>
          <p:nvSpPr>
            <p:cNvPr id="808" name=""/>
            <p:cNvSpPr/>
            <p:nvPr/>
          </p:nvSpPr>
          <p:spPr>
            <a:xfrm>
              <a:off x="2070000" y="6642000"/>
              <a:ext cx="254016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3200" y="694692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8394840" y="6642000"/>
            <a:ext cx="2539800" cy="1333440"/>
            <a:chOff x="8394840" y="6642000"/>
            <a:chExt cx="2539800" cy="1333440"/>
          </a:xfrm>
        </p:grpSpPr>
        <p:sp>
          <p:nvSpPr>
            <p:cNvPr id="811" name=""/>
            <p:cNvSpPr/>
            <p:nvPr/>
          </p:nvSpPr>
          <p:spPr>
            <a:xfrm>
              <a:off x="8394840" y="6642000"/>
              <a:ext cx="253980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599680" y="6946920"/>
              <a:ext cx="2181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Proper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3886200" y="3594240"/>
            <a:ext cx="5232240" cy="2565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556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Gill Sans"/>
                <a:ea typeface="Gill Sans"/>
              </a:rPr>
              <a:t>Can we check th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Gill Sans"/>
                <a:ea typeface="Gill Sans"/>
              </a:rPr>
              <a:t>on the fl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28D3-9F7E-489D-88C8-D54A51B0A38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du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termin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variant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iol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ritten by Sudheendra Hangal and Monica Lam (2001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ava byte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alyzed &gt; 30,000 lines of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A9EE-695D-4E15-9D8E-6CFAA37557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du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81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19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22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82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25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827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28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830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31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833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34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"/>
          <p:cNvSpPr/>
          <p:nvPr/>
        </p:nvSpPr>
        <p:spPr>
          <a:xfrm flipH="1" rot="10800000">
            <a:off x="7390440" y="5715000"/>
            <a:ext cx="4546440" cy="59688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>
            <a:off x="5092560" y="6680160"/>
            <a:ext cx="2819520" cy="1270080"/>
          </a:xfrm>
          <a:prstGeom prst="leftRightArrow">
            <a:avLst>
              <a:gd name="adj1" fmla="val 30481"/>
              <a:gd name="adj2" fmla="val 48798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070000" y="6642000"/>
            <a:ext cx="2540160" cy="1333440"/>
            <a:chOff x="2070000" y="6642000"/>
            <a:chExt cx="2540160" cy="1333440"/>
          </a:xfrm>
        </p:grpSpPr>
        <p:sp>
          <p:nvSpPr>
            <p:cNvPr id="841" name=""/>
            <p:cNvSpPr/>
            <p:nvPr/>
          </p:nvSpPr>
          <p:spPr>
            <a:xfrm>
              <a:off x="2070000" y="6642000"/>
              <a:ext cx="254016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03200" y="694692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8394840" y="6642000"/>
            <a:ext cx="2539800" cy="1333440"/>
            <a:chOff x="8394840" y="6642000"/>
            <a:chExt cx="2539800" cy="1333440"/>
          </a:xfrm>
        </p:grpSpPr>
        <p:sp>
          <p:nvSpPr>
            <p:cNvPr id="844" name=""/>
            <p:cNvSpPr/>
            <p:nvPr/>
          </p:nvSpPr>
          <p:spPr>
            <a:xfrm>
              <a:off x="8394840" y="6642000"/>
              <a:ext cx="253980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599680" y="6946920"/>
              <a:ext cx="2181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Proper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410480" y="8369280"/>
            <a:ext cx="3894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raining m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"/>
          <p:cNvSpPr/>
          <p:nvPr/>
        </p:nvSpPr>
        <p:spPr>
          <a:xfrm>
            <a:off x="7601040" y="8369280"/>
            <a:ext cx="411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hecking m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6CA7-6CBB-4E4C-9F27-C7C1E3FBEBF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ining M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8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51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8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54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856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57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859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60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862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63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2070000" y="6642000"/>
            <a:ext cx="2540160" cy="1333440"/>
            <a:chOff x="2070000" y="6642000"/>
            <a:chExt cx="2540160" cy="1333440"/>
          </a:xfrm>
        </p:grpSpPr>
        <p:sp>
          <p:nvSpPr>
            <p:cNvPr id="867" name=""/>
            <p:cNvSpPr/>
            <p:nvPr/>
          </p:nvSpPr>
          <p:spPr>
            <a:xfrm>
              <a:off x="2070000" y="6642000"/>
              <a:ext cx="254016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203200" y="694692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159240" y="2768400"/>
            <a:ext cx="5575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with empty set of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djust invariants according to values found dur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43A8-FBE4-4E32-AA81-AB8C96E7C9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variants in Didu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95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2854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each variable, Diduce has a pair (V, M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 =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itial valu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vari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 =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ange of values: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-th bit of M is cleared if value change in i-th bit was observ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th each assignment of a new value W, M is updated to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Apple Symbols"/>
              </a:rPr>
              <a:t>M := M ∧ ¬ (W ⊗ V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ifferenc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re stored in same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1EDC-E9BE-4D82-A74B-EA9C0FE23EF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ining Examp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228600" y="2603520"/>
          <a:ext cx="12572640" cy="5537160"/>
        </p:xfrm>
        <a:graphic>
          <a:graphicData uri="http://schemas.openxmlformats.org/drawingml/2006/table">
            <a:tbl>
              <a:tblPr/>
              <a:tblGrid>
                <a:gridCol w="1981440"/>
                <a:gridCol w="1207080"/>
                <a:gridCol w="1206720"/>
                <a:gridCol w="1207080"/>
                <a:gridCol w="1206360"/>
                <a:gridCol w="1206720"/>
                <a:gridCol w="4557240"/>
              </a:tblGrid>
              <a:tr h="11487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d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ifferenc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varia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 = 10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–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–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Gill Sans"/>
                          <a:ea typeface="ヒラギノ角ゴ ProN W3"/>
                        </a:rPr>
                        <a:t>i = 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 += 1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Gill Sans"/>
                          <a:ea typeface="Lucida Grande"/>
                        </a:rPr>
                        <a:t>10 ≤ i ≤ 11 ∧ |i′ – i| = 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 += 1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Gill Sans"/>
                          <a:ea typeface="Lucida Grande"/>
                        </a:rPr>
                        <a:t>8 ≤ i ≤ 15 ∧ |i′ – i| = 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 += 1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0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Gill Sans"/>
                          <a:ea typeface="Lucida Grande"/>
                        </a:rPr>
                        <a:t>8 ≤ i ≤ 15 ∧ |i′ – i| = 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 += 2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10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Gill Sans"/>
                          <a:ea typeface="Lucida Grande"/>
                        </a:rPr>
                        <a:t>8 ≤ i ≤ 15 ∧ |i′ – i| ≤ 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4" name=""/>
          <p:cNvSpPr/>
          <p:nvPr/>
        </p:nvSpPr>
        <p:spPr>
          <a:xfrm>
            <a:off x="3927600" y="375912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5" name=""/>
          <p:cNvSpPr/>
          <p:nvPr/>
        </p:nvSpPr>
        <p:spPr>
          <a:xfrm>
            <a:off x="5087520" y="3759120"/>
            <a:ext cx="2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6" name=""/>
          <p:cNvSpPr/>
          <p:nvPr/>
        </p:nvSpPr>
        <p:spPr>
          <a:xfrm>
            <a:off x="6429600" y="375912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"/>
          <p:cNvSpPr/>
          <p:nvPr/>
        </p:nvSpPr>
        <p:spPr>
          <a:xfrm>
            <a:off x="7500600" y="3759120"/>
            <a:ext cx="2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"/>
          <p:cNvSpPr/>
          <p:nvPr/>
        </p:nvSpPr>
        <p:spPr>
          <a:xfrm>
            <a:off x="408600" y="8394840"/>
            <a:ext cx="1204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ur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hecking,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learing an M-bit is an anoma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4EEF-8ED6-4CF1-9D63-F8A352A0D0D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tecting Anomal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39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42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44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45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447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48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450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51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54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 flipH="1" rot="10800000">
            <a:off x="7390440" y="5715000"/>
            <a:ext cx="4546440" cy="59688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205812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835740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092560" y="6121440"/>
            <a:ext cx="2819520" cy="1270080"/>
          </a:xfrm>
          <a:prstGeom prst="leftRightArrow">
            <a:avLst>
              <a:gd name="adj1" fmla="val 30481"/>
              <a:gd name="adj2" fmla="val 48798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2394000" y="7658280"/>
            <a:ext cx="820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fferences correlate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227C-A072-4EAC-BAAE-C89DD72F115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ess space and time require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variants are computed on the f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maller set of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ess precise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duce vs. Daik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87D6-84D0-494B-B426-8B8F670C5A8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1270080" y="3962520"/>
          <a:ext cx="10464480" cy="332712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3327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ynami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variant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ampled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5DA6-7369-4A41-8309-B004B578335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tecting Anomal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88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86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89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891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92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89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95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897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898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900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901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3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5" name=""/>
          <p:cNvSpPr/>
          <p:nvPr/>
        </p:nvSpPr>
        <p:spPr>
          <a:xfrm flipH="1" rot="10800000">
            <a:off x="7390440" y="5715000"/>
            <a:ext cx="4546440" cy="59688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"/>
          <p:cNvSpPr/>
          <p:nvPr/>
        </p:nvSpPr>
        <p:spPr>
          <a:xfrm>
            <a:off x="205812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7" name=""/>
          <p:cNvSpPr/>
          <p:nvPr/>
        </p:nvSpPr>
        <p:spPr>
          <a:xfrm>
            <a:off x="835740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8" name=""/>
          <p:cNvSpPr/>
          <p:nvPr/>
        </p:nvSpPr>
        <p:spPr>
          <a:xfrm>
            <a:off x="5092560" y="6121440"/>
            <a:ext cx="2819520" cy="1270080"/>
          </a:xfrm>
          <a:prstGeom prst="leftRightArrow">
            <a:avLst>
              <a:gd name="adj1" fmla="val 30481"/>
              <a:gd name="adj2" fmla="val 48798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9" name=""/>
          <p:cNvSpPr/>
          <p:nvPr/>
        </p:nvSpPr>
        <p:spPr>
          <a:xfrm>
            <a:off x="2394000" y="7658280"/>
            <a:ext cx="820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fferences correlate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3594240"/>
            <a:ext cx="5232240" cy="2565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63639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Gill Sans"/>
                <a:ea typeface="Gill Sans"/>
              </a:rPr>
              <a:t>How do we collect data in the fiel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61C9-5DE7-4870-935A-4B1DAF227F9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iblit’s Sampl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want properties of runs in the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llecting all this data is too expensiv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ould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amp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uffic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mpling experiment by Liblit et al. (2003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8867-6DCA-4EAB-A87E-A8B46E66EA0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turn Val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ypothesis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unction return valu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correlate with failure or succ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assified into positive / zero / negativ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6696-48E5-453C-918F-776E9772BC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CRYPT fail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CRYPT is an interactive encryption too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CCRYPT asks user for information before overwriting a file, and user responds with EOF, CCRYPT crash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3,000 random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f 1,170 predicates, only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file_exists() &gt; 0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xreadline() == 0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correlate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14B3-060C-4E04-B368-117004CA4C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iblit’s Sampl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920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92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923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92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926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928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929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931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932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"/>
          <p:cNvSpPr/>
          <p:nvPr/>
        </p:nvSpPr>
        <p:spPr>
          <a:xfrm>
            <a:off x="205812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45156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we apply this technique to remote runs, too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 out of 1000 return values was sampl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rformance loss &lt;4%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2162-94AF-4392-8614-77A29A01415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1004760" y="627120"/>
            <a:ext cx="10983960" cy="849636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ailure Correl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9" name=""/>
          <p:cNvSpPr/>
          <p:nvPr/>
        </p:nvSpPr>
        <p:spPr>
          <a:xfrm>
            <a:off x="5154480" y="2527200"/>
            <a:ext cx="6759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After 3,000 runs,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only five predicates are lef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that correlate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114A-E161-478B-A703-FA5DA253491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eb Serv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mpling is first choice for web servi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ve 1 out of 100 users run an instrumented version of the web servi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rrelate instrumentation data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fter sufficient number of runs, we can automatically identify the anoma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FC66-C974-454E-A589-9A51BD78889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1270080" y="3962520"/>
          <a:ext cx="10464480" cy="332712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3327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ynami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variant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ampled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2D21-2A1D-4731-B58C-6278225B00D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pert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Data propertie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at hold in all ru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 f(), x is odd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Lucida Grande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Lucida Grande"/>
              </a:rPr>
              <a:t>0 ≤ x ≤ 10 during the run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de propertie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at hold in all ru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() is always executed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fter open(), we eventually have close()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1562040" y="5753160"/>
            <a:ext cx="10325160" cy="2895480"/>
          </a:xfrm>
          <a:prstGeom prst="rect">
            <a:avLst/>
          </a:prstGeom>
          <a:gradFill rotWithShape="0">
            <a:gsLst>
              <a:gs pos="0">
                <a:srgbClr val="1f1f28">
                  <a:alpha val="80392"/>
                </a:srgbClr>
              </a:gs>
              <a:gs pos="100000">
                <a:srgbClr val="323140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448-B9E5-489D-9A84-A66C69F5960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028880" y="253800"/>
            <a:ext cx="10934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nomalies and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anomaly is not a cause, but a correl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Lucida Grande"/>
              </a:rPr>
              <a:t>Although correlation ≠ causation, anomalies can be excellent hi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ture belongs to those who explo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rrelations i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multiple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ation i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peri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DCB8-5211-4ABB-8A99-8D996DA1679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495360" y="1987560"/>
            <a:ext cx="12039480" cy="727884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6162840" y="6095880"/>
            <a:ext cx="644400" cy="1270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57480" y="-6372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Def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9" name=""/>
          <p:cNvSpPr/>
          <p:nvPr/>
        </p:nvSpPr>
        <p:spPr>
          <a:xfrm rot="16200000">
            <a:off x="-113760" y="4610160"/>
            <a:ext cx="2768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% of failing tes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"/>
          <p:cNvSpPr/>
          <p:nvPr/>
        </p:nvSpPr>
        <p:spPr>
          <a:xfrm>
            <a:off x="4241880" y="8661240"/>
            <a:ext cx="6985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ource code to exam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1" name=""/>
          <p:cNvSpPr/>
          <p:nvPr/>
        </p:nvSpPr>
        <p:spPr>
          <a:xfrm rot="16200000">
            <a:off x="8388360" y="4641840"/>
            <a:ext cx="82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8267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Gill Sans"/>
                <a:ea typeface="Gill Sans"/>
              </a:rPr>
              <a:t>Results obtained from Siemens test suite; can not be generaliz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2" name=""/>
          <p:cNvSpPr/>
          <p:nvPr/>
        </p:nvSpPr>
        <p:spPr>
          <a:xfrm>
            <a:off x="6172200" y="7264440"/>
            <a:ext cx="189216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2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3571560" y="4317840"/>
            <a:ext cx="982440" cy="1082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3487680" y="4231800"/>
            <a:ext cx="914400" cy="1930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3505320" y="4232160"/>
            <a:ext cx="676080" cy="3268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6" name=""/>
          <p:cNvSpPr/>
          <p:nvPr/>
        </p:nvSpPr>
        <p:spPr>
          <a:xfrm>
            <a:off x="2286000" y="3492360"/>
            <a:ext cx="252720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5,542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FAA2-0480-4B68-A6D4-61B1AA2BDFA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aring data abstractions shows anomalies correlated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ariety of abstractions and implemen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omalies can be excellent hi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5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ture: Integration of anomalies + cau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8756-693F-4787-AFB0-C16177BD293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3DB-2B99-4261-8BA1-9443B50EDB3C}" type="slidenum">
              <a:t>43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70080" y="3962520"/>
          <a:ext cx="10464480" cy="332712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3327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ynami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variant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ampled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8629-4DB5-4289-9A56-0EE3C03D3E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70080" y="3962520"/>
          <a:ext cx="10464480" cy="3327120"/>
        </p:xfrm>
        <a:graphic>
          <a:graphicData uri="http://schemas.openxmlformats.org/drawingml/2006/table">
            <a:tbl>
              <a:tblPr/>
              <a:tblGrid>
                <a:gridCol w="3488040"/>
                <a:gridCol w="3488400"/>
                <a:gridCol w="3488040"/>
              </a:tblGrid>
              <a:tr h="3327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ynami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variant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ampled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u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B958-DC07-4C11-95E9-BDD4248197BC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ynamic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73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76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478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79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481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2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484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5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487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8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 flipH="1" rot="10800000">
            <a:off x="7390440" y="5715000"/>
            <a:ext cx="4546440" cy="59688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5092560" y="6680160"/>
            <a:ext cx="2819520" cy="1270080"/>
          </a:xfrm>
          <a:prstGeom prst="leftRightArrow">
            <a:avLst>
              <a:gd name="adj1" fmla="val 30481"/>
              <a:gd name="adj2" fmla="val 48798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1533240" y="8242200"/>
            <a:ext cx="361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f(), x is od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8229240" y="8242200"/>
            <a:ext cx="2855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f(), x = 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070000" y="6642000"/>
            <a:ext cx="2540160" cy="1333440"/>
            <a:chOff x="2070000" y="6642000"/>
            <a:chExt cx="2540160" cy="1333440"/>
          </a:xfrm>
        </p:grpSpPr>
        <p:sp>
          <p:nvSpPr>
            <p:cNvPr id="497" name=""/>
            <p:cNvSpPr/>
            <p:nvPr/>
          </p:nvSpPr>
          <p:spPr>
            <a:xfrm>
              <a:off x="2070000" y="6642000"/>
              <a:ext cx="254016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3200" y="6946920"/>
              <a:ext cx="2259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nvaria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8394840" y="6642000"/>
            <a:ext cx="2539800" cy="1333440"/>
            <a:chOff x="8394840" y="6642000"/>
            <a:chExt cx="2539800" cy="1333440"/>
          </a:xfrm>
        </p:grpSpPr>
        <p:sp>
          <p:nvSpPr>
            <p:cNvPr id="500" name=""/>
            <p:cNvSpPr/>
            <p:nvPr/>
          </p:nvSpPr>
          <p:spPr>
            <a:xfrm>
              <a:off x="8394840" y="6642000"/>
              <a:ext cx="2539800" cy="133344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99680" y="6946920"/>
              <a:ext cx="2181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Proper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48DE-D558-4C5D-84E4-9FAED0CD67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aik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termin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variant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rom program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ritten by Michael Ernst et al. (1998–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++, Java, Lisp, and other langua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alyzed up to 13,000 lines of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9874-85C5-42F4-A6CC-EE6C562018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52560" y="2666880"/>
            <a:ext cx="77598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ublic int ex1511(int[] b, int n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nt s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nt i = 0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while (i != n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 = s + b[i]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i = i + 1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return s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144000" y="5524560"/>
            <a:ext cx="3378240" cy="1600200"/>
            <a:chOff x="9144000" y="5524560"/>
            <a:chExt cx="3378240" cy="1600200"/>
          </a:xfrm>
        </p:grpSpPr>
        <p:sp>
          <p:nvSpPr>
            <p:cNvPr id="506" name=""/>
            <p:cNvSpPr/>
            <p:nvPr/>
          </p:nvSpPr>
          <p:spPr>
            <a:xfrm>
              <a:off x="9144000" y="5524560"/>
              <a:ext cx="3378240" cy="160020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83680" y="5613480"/>
              <a:ext cx="308628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ostcondition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b[] = orig(b[]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return == sum(b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9156600" y="2844720"/>
            <a:ext cx="3352680" cy="2438280"/>
            <a:chOff x="9156600" y="2844720"/>
            <a:chExt cx="3352680" cy="2438280"/>
          </a:xfrm>
        </p:grpSpPr>
        <p:sp>
          <p:nvSpPr>
            <p:cNvPr id="509" name=""/>
            <p:cNvSpPr/>
            <p:nvPr/>
          </p:nvSpPr>
          <p:spPr>
            <a:xfrm>
              <a:off x="9156600" y="2844720"/>
              <a:ext cx="3352680" cy="2438280"/>
            </a:xfrm>
            <a:prstGeom prst="rect">
              <a:avLst/>
            </a:prstGeom>
            <a:solidFill>
              <a:srgbClr val="ff8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321840" y="2946240"/>
              <a:ext cx="2717640" cy="22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econdition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n == size(b[]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b != null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n &lt;= 13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1702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n &gt;= 7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aik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10920" y="7734240"/>
            <a:ext cx="996948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with 100 randomly generated arrays of length 7–1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5722-2212-4C40-B341-91A66D0ACF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