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CFG is best developed incrementally on an extra board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728C3-E88F-473F-B013-CFAD706D2A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A1B9F-F806-4056-B566-88033FCA96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18FAC-4979-49B8-B5A0-A7767CE291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A808D-F5C3-491B-857B-671B175A71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EF199-00E1-4AF5-B461-A228EB5D63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F52F8-F94C-4788-8609-8DD1DAA9D1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13917-6AF4-4A3B-AA8C-45E7247B74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FEEF4-AC78-4C8D-8BBF-A7C171AC58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4B208-D19C-44E1-898C-434861A6EB3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B84F-68B4-4D4A-9D59-5581CF967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C504-5EF3-4554-A31F-373F76C858F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0E55-BCA0-4D52-A871-C8BD0D98CFA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15D2-B2F5-48BB-97E6-088FD5CAEA1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5B16-DFEF-4075-91A9-B936FFA5CF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762B-AE8E-417A-9E19-AFE2FB1377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8DD1-1376-43C7-A5D6-22A9758E1D8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2A6A-44D0-4D03-9CA0-199E2341341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FBD1-FFB7-4D92-8FD6-E411EE5C0A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9880-4F7C-495F-80EE-12DB997B05C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0B31-F1D4-4C79-876C-288E37225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FB52-98A1-430E-91E1-9D0A9107BC7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4564B-824D-4F64-8521-EE2B44A32F0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A859F-1B8E-4F03-8BCA-3CB4798EF12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361F6-8AE7-4B97-A021-866A90C8150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77E74-1373-4118-8674-C081522BD2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B0D82-5B8E-4851-ADDF-6DC045AB38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BC860-C1CC-4B3B-B72A-A10F8AD52BF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2A000-3E3F-40A1-862D-C81423C8E7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17031-9E4F-4306-818A-2FC546BF44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949D3-5B4F-4771-B157-282651B61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757D-A1CC-43C0-9E3C-43FB913BC71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E93BA-0B39-47FB-8710-1D675E1EA64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32ED72-8735-44D1-B35D-22C7B30E287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55615-844C-49CD-86E8-7B082E0C7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317E-560D-4FF6-9053-A3EC190AB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6DD0-7F14-4F24-AA4B-B51C460EBA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7152-0A53-4409-AC0A-AB3A426A40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470F-83F4-4374-957C-3D726F6730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7E94-8D9D-4370-9590-FE6DFAED26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2F3C-CE29-4840-B600-E9C11836D7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CDF8-30DD-4BB9-9CA2-0FC20C827A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E8F0-2F9F-41A3-B7D3-17584F4DDB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8DCD-172A-449A-A162-2950418BD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CC84-3D8A-4469-94B7-CD642E4DF2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0152-EAC2-42DB-B6B2-3679230E0A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A296-9E6E-4729-8BA9-D73B15902A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65B1-93B4-4462-9598-5F23CE751E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F7B0-7E57-4E24-814F-9151BDD9CE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1CE6-CA03-428E-95B1-D839FD8564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6FFA-F382-4392-95B9-5893F275A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1A67-4444-4CF4-BF32-B3743AC4E1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2462-B13F-46F4-BDC5-E020DC25AF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184A-57DA-4177-AD28-E37FB2DDC7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66ED-E707-4274-B294-8857EF1456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54FF-8251-47A1-8940-E5B3F783D3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6619-1A26-4DF6-904E-96F3E7BBC8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266A-C382-4CAA-A250-F0C18ACB26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EA1-9F9B-49EB-AD81-2BB421B1AB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FC7-B3F8-4185-BD7C-429AC78CB5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4E1-E6F1-4CC2-9624-D5BBA1DC9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069-4163-462B-BBC0-CB889F0B52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23A-5774-4DF1-B917-B82D05DA0D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D72-42DC-419A-843F-37BA2D4749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D35-9A05-45EF-AEB0-F1AE1DAD55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C69-AFDD-4516-B84A-80ECD2457C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F98-827A-427A-ACB2-926F31A7F8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671-9E1A-43EB-BA86-04C6A626AF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E51-DD4D-4AE1-BB0B-08487BDE13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660-73F7-456A-83C4-B23A5EA91E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6657C-CD60-4989-AB6A-36848853B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2D122-2840-4AF6-B78C-C39D3AB5E8B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69ED6-2B57-41A7-A622-7EFC17C0A6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6E412-B8CB-463C-BD93-5D15AE6635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F9987-3804-4398-ACBD-16EB84B60E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B06D5-1EAF-4586-8E3E-FE8359A01B1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F2FC4-3F43-4E7C-9AF5-BF7586385E6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5B82E-155A-4102-B540-8EDEBD9F13D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BD059-F359-4E81-B84B-20A2FBA3E8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E3DB0-3D63-4B24-9271-BF90DF9F3E8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9809F-20F4-44A9-BC1E-737C7A70B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BE932-1D11-48A1-9EB4-52D48DEF68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C2303-1B3D-4E82-A383-247D92F738A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7885E-0E89-4998-8F4B-46376D4B3E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06954-8D7B-4BCB-8A54-EB49358C5C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BF599-6F4D-4485-AE2E-53F267F862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09003-1B65-40A5-B04F-E7280D446C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18C17-8EF9-4A99-96F4-A32C52214F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A98B8-A29F-46A3-B4D7-DBC7B2878A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1B715-256F-4711-B157-8F75EAE6AA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2BACE-C817-4E15-B62F-1173B29DA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389BC-62D0-459D-B3B3-8A71383A8E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2204F-D1AB-46B8-8E2D-AA845A5A2D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2FEA4-503E-49FE-9D90-1D388DBCA3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80E4-0515-4C9B-8FCA-45EC5A31088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1C05-E88A-4231-9B29-4AED336B7C9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4312-A8B0-47EA-8DD9-78BE3A2251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C5BD-EAEA-4D0A-B3AD-693AFC3197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82E-4D97-4B22-B673-C4D8F0939D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C416-3E6B-4113-8159-995AAEB4D8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E65B-5C6F-46E8-92DD-12E690459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75F7-E363-41A6-8653-1462EDFB3E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B074-A22B-4F88-BB07-0364996ACF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F028-F480-42EB-A9C4-6F5B389751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D9A5-D69D-4253-B201-6AA096F1F2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2EE-F852-4AD5-B625-4FAE783AB2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C3694-10A1-4CE7-9D5B-FBF08FCF47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3E669E-35F0-4552-AA86-2D07937BD08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A79BD-BF67-472B-AFE4-EAC6E970A1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AA009-CA16-4D8B-92F5-994848D7926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89F3E-D625-4CA3-93E4-C6B37D5E0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E918C-1A44-4205-AB00-81805C295D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54145-418B-41F6-A83C-AB7247ADFDB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7AF4A-5457-4A0F-A1D2-B5A67DB5ED0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C6B913-466B-4B03-B1AE-EBD1F5FBA8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35072-EE4E-44E1-83AB-1A9652E79A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12186-3583-44E6-8D4E-D09B59FF20B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30112-707D-4F80-97E0-D2FE9CB7056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7ECBC-E117-449F-88CD-01B65670181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50BCD-8532-4430-81A4-B0609BD483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46BFF-1BCC-44FA-8D6B-98EA24C62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864C-DFC0-4447-A21E-0F892F20AB6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5D67-0C1C-487C-9107-157C69742143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A1B9-9B0A-4096-BCDE-44CF30D48305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76F4-8E8D-4C5F-B1B6-C47CB41C3E6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A286-F803-48E3-8F8D-AAC3AAC5F3D4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6699-8F5F-457E-8458-C9E2A8EC87E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759-5E27-4F7D-B381-83917239E6E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ABB6-38BC-4AB0-A4EA-7356E73BFA0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1335-68FD-47DF-B0F4-F433A39CF94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DBC4-F8B4-40CB-A08F-7FA1304F8F6C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ducing Erro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990720" y="4737240"/>
            <a:ext cx="5540400" cy="55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ffected Stateme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Read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 statement can read the program state (i.e. from a variabl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xecution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have any effect, a statement must be execut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1DC-A86C-4C40-B9A2-7815D1AF24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ffects in fibo.c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282680" y="2705040"/>
          <a:ext cx="10439280" cy="6248160"/>
        </p:xfrm>
        <a:graphic>
          <a:graphicData uri="http://schemas.openxmlformats.org/drawingml/2006/table">
            <a:tbl>
              <a:tblPr/>
              <a:tblGrid>
                <a:gridCol w="863640"/>
                <a:gridCol w="3543120"/>
                <a:gridCol w="1866960"/>
                <a:gridCol w="2082960"/>
                <a:gridCol w="2082600"/>
              </a:tblGrid>
              <a:tr h="625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tateme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a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rit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ntro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ib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-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nt 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 =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 =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while (n &gt; 1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-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 = n -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 = f0 + 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, 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 = 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 = 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return 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&lt;ret&gt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EAA6-4CFE-4428-9F31-84D41F3F7D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63640" y="253800"/>
            <a:ext cx="6540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trol Flow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6" name=""/>
          <p:cNvSpPr/>
          <p:nvPr/>
        </p:nvSpPr>
        <p:spPr>
          <a:xfrm>
            <a:off x="1219320" y="2895480"/>
            <a:ext cx="491472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66"/>
                </a:solidFill>
                <a:latin typeface="Monaco"/>
                <a:ea typeface="Monaco"/>
              </a:rPr>
              <a:t>fib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f, f0 = 1, f1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hile (n &gt; 1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 = n - 1;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 = f0 + f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0 = f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1 = f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f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5802480" y="254160"/>
            <a:ext cx="6727680" cy="906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9F4B-460E-42ED-9538-427DEF8C0B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80800" y="253800"/>
            <a:ext cx="10629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trol Flow Patter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546120" y="2451240"/>
            <a:ext cx="11555280" cy="70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8B99-03E8-4E49-B302-EDAAC93DAC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-5524560" y="-5727600"/>
            <a:ext cx="10159920" cy="117331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5"/>
          <a:stretch/>
        </p:blipFill>
        <p:spPr>
          <a:xfrm>
            <a:off x="965160" y="-3416400"/>
            <a:ext cx="10198080" cy="117777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69087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pend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4AF8-648D-40CA-87A0-F1A9EB01180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69087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pend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965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0">
              <a:lnSpc>
                <a:spcPct val="100000"/>
              </a:lnSpc>
              <a:buNone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llowing the dependences, we can answer questions lik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ere does this value go to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ere does this value come fro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8191440" y="77468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191440" y="119376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FE8DE-4A51-4507-9AF8-C7A482FEA3CA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avigating along Depend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393840" y="2971800"/>
            <a:ext cx="12199680" cy="61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A034-2839-43C7-9642-B6C479E05A9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Slic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li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a subset of the 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s programmers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ocus on what’s relevant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th respect to some statement 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statements influenced by 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statements that influence 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9AC-C53C-4D8F-AAE1-432AD81F619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69087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orward Sli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965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iven a statement A, the forward slice contains all statements whose read variables or execution could be influenced by 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ally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8229600" y="1905120"/>
            <a:ext cx="2463840" cy="86364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1498680" y="7251840"/>
            <a:ext cx="4406760" cy="4950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8229600" y="51944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8229600" y="688356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8229600" y="77468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8229600" y="605808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8229600" y="343080"/>
            <a:ext cx="2463840" cy="9016920"/>
            <a:chOff x="8229600" y="343080"/>
            <a:chExt cx="2463840" cy="9016920"/>
          </a:xfrm>
        </p:grpSpPr>
        <p:sp>
          <p:nvSpPr>
            <p:cNvPr id="539" name=""/>
            <p:cNvSpPr/>
            <p:nvPr/>
          </p:nvSpPr>
          <p:spPr>
            <a:xfrm>
              <a:off x="8229600" y="343080"/>
              <a:ext cx="2463840" cy="7477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29600" y="1092240"/>
              <a:ext cx="2463840" cy="7495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29600" y="2934000"/>
              <a:ext cx="2463840" cy="74916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29600" y="3683160"/>
              <a:ext cx="2463840" cy="749160"/>
            </a:xfrm>
            <a:prstGeom prst="rect">
              <a:avLst/>
            </a:prstGeom>
            <a:solidFill>
              <a:srgbClr val="1a1a1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29600" y="4496040"/>
              <a:ext cx="2463840" cy="749160"/>
            </a:xfrm>
            <a:prstGeom prst="rect">
              <a:avLst/>
            </a:prstGeom>
            <a:solidFill>
              <a:srgbClr val="21212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29600" y="8610840"/>
              <a:ext cx="2463840" cy="749160"/>
            </a:xfrm>
            <a:prstGeom prst="rect">
              <a:avLst/>
            </a:prstGeom>
            <a:solidFill>
              <a:srgbClr val="42415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C56B3-A471-4A71-A4DC-7931840D9BB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73659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ackward Sli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965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iven a statement B, the backward slice contains all statements that could influence the read variables or execution of B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ally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8229600" y="7746840"/>
            <a:ext cx="2463840" cy="86364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8229600" y="34308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1359000" y="7493040"/>
            <a:ext cx="4406760" cy="4953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8229600" y="10922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8229600" y="524520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8229600" y="195588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8229600" y="281952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8229600" y="61088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8229600" y="697248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8204040" y="368316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8229600" y="447048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759DE-1EE0-4942-8161-B4E324CF61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36560" y="253800"/>
            <a:ext cx="1153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taining a Hypothesi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762440" y="4838760"/>
            <a:ext cx="2705040" cy="1396800"/>
            <a:chOff x="4762440" y="4838760"/>
            <a:chExt cx="2705040" cy="1396800"/>
          </a:xfrm>
        </p:grpSpPr>
        <p:sp>
          <p:nvSpPr>
            <p:cNvPr id="436" name=""/>
            <p:cNvSpPr/>
            <p:nvPr/>
          </p:nvSpPr>
          <p:spPr>
            <a:xfrm>
              <a:off x="4762440" y="4838760"/>
              <a:ext cx="2705040" cy="1396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85840" y="5155920"/>
              <a:ext cx="2657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Gill Sans"/>
                  <a:ea typeface="Gill Sans"/>
                </a:rPr>
                <a:t>Hypothesis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840920" y="2641680"/>
            <a:ext cx="3966120" cy="2387520"/>
            <a:chOff x="4840920" y="2641680"/>
            <a:chExt cx="3966120" cy="2387520"/>
          </a:xfrm>
        </p:grpSpPr>
        <p:sp>
          <p:nvSpPr>
            <p:cNvPr id="439" name=""/>
            <p:cNvSpPr/>
            <p:nvPr/>
          </p:nvSpPr>
          <p:spPr>
            <a:xfrm>
              <a:off x="4840920" y="2641680"/>
              <a:ext cx="3966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blem Repor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286320" y="3378240"/>
              <a:ext cx="734760" cy="1650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368240" y="3720960"/>
            <a:ext cx="1383120" cy="1333440"/>
            <a:chOff x="4368240" y="3720960"/>
            <a:chExt cx="1383120" cy="1333440"/>
          </a:xfrm>
        </p:grpSpPr>
        <p:sp>
          <p:nvSpPr>
            <p:cNvPr id="442" name=""/>
            <p:cNvSpPr/>
            <p:nvPr/>
          </p:nvSpPr>
          <p:spPr>
            <a:xfrm>
              <a:off x="4368240" y="3720960"/>
              <a:ext cx="1288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od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54400" y="4381200"/>
              <a:ext cx="696960" cy="673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509720" y="5930640"/>
            <a:ext cx="1253880" cy="1072440"/>
            <a:chOff x="4509720" y="5930640"/>
            <a:chExt cx="1253880" cy="1072440"/>
          </a:xfrm>
        </p:grpSpPr>
        <p:sp>
          <p:nvSpPr>
            <p:cNvPr id="445" name=""/>
            <p:cNvSpPr/>
            <p:nvPr/>
          </p:nvSpPr>
          <p:spPr>
            <a:xfrm>
              <a:off x="4509720" y="6362640"/>
              <a:ext cx="991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218920" y="5930640"/>
              <a:ext cx="544680" cy="507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904640" y="5905440"/>
            <a:ext cx="2713320" cy="2418480"/>
            <a:chOff x="4904640" y="5905440"/>
            <a:chExt cx="2713320" cy="2418480"/>
          </a:xfrm>
        </p:grpSpPr>
        <p:sp>
          <p:nvSpPr>
            <p:cNvPr id="448" name=""/>
            <p:cNvSpPr/>
            <p:nvPr/>
          </p:nvSpPr>
          <p:spPr>
            <a:xfrm>
              <a:off x="4904640" y="7683480"/>
              <a:ext cx="2713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ore Run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337440" y="5905440"/>
              <a:ext cx="216000" cy="17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79360" y="3733920"/>
            <a:ext cx="4064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educing fr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44600" y="6362640"/>
            <a:ext cx="4064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bserving 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939960" y="7683480"/>
            <a:ext cx="4063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earning fr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188120" y="3809880"/>
            <a:ext cx="5678640" cy="1492200"/>
            <a:chOff x="7188120" y="3809880"/>
            <a:chExt cx="5678640" cy="1492200"/>
          </a:xfrm>
        </p:grpSpPr>
        <p:sp>
          <p:nvSpPr>
            <p:cNvPr id="454" name=""/>
            <p:cNvSpPr/>
            <p:nvPr/>
          </p:nvSpPr>
          <p:spPr>
            <a:xfrm>
              <a:off x="8163000" y="3809880"/>
              <a:ext cx="470376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Earlier Hypothes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+ Observation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7188120" y="4813200"/>
              <a:ext cx="1424160" cy="488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4CF5-938E-4293-A38B-018B332637B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1270080" y="8178840"/>
            <a:ext cx="10755360" cy="640440"/>
            <a:chOff x="1270080" y="8178840"/>
            <a:chExt cx="10755360" cy="640440"/>
          </a:xfrm>
        </p:grpSpPr>
        <p:sp>
          <p:nvSpPr>
            <p:cNvPr id="562" name=""/>
            <p:cNvSpPr/>
            <p:nvPr/>
          </p:nvSpPr>
          <p:spPr>
            <a:xfrm>
              <a:off x="1270080" y="8331120"/>
              <a:ext cx="5232240" cy="457200"/>
            </a:xfrm>
            <a:prstGeom prst="rect">
              <a:avLst/>
            </a:prstGeom>
            <a:solidFill>
              <a:srgbClr val="008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99160" y="8178840"/>
              <a:ext cx="54262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Backward slice of mu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45120" y="8597880"/>
              <a:ext cx="901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70080" y="41274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1270080" y="45846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1270080" y="50418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1270080" y="54990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1270080" y="69213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1270080" y="64641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270080" y="3670200"/>
            <a:ext cx="10874160" cy="4660920"/>
            <a:chOff x="1270080" y="3670200"/>
            <a:chExt cx="10874160" cy="4660920"/>
          </a:xfrm>
        </p:grpSpPr>
        <p:grpSp>
          <p:nvGrpSpPr>
            <p:cNvPr id="572" name=""/>
            <p:cNvGrpSpPr/>
            <p:nvPr/>
          </p:nvGrpSpPr>
          <p:grpSpPr>
            <a:xfrm>
              <a:off x="1270080" y="3670200"/>
              <a:ext cx="5232240" cy="4660920"/>
              <a:chOff x="1270080" y="3670200"/>
              <a:chExt cx="5232240" cy="4660920"/>
            </a:xfrm>
          </p:grpSpPr>
          <p:sp>
            <p:nvSpPr>
              <p:cNvPr id="573" name=""/>
              <p:cNvSpPr/>
              <p:nvPr/>
            </p:nvSpPr>
            <p:spPr>
              <a:xfrm>
                <a:off x="1270080" y="367020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70080" y="60069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70080" y="787392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70080" y="46479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70080" y="51051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270080" y="55497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270080" y="69213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058080" y="7569000"/>
              <a:ext cx="6086160" cy="640440"/>
              <a:chOff x="6058080" y="7569000"/>
              <a:chExt cx="6086160" cy="640440"/>
            </a:xfrm>
          </p:grpSpPr>
          <p:sp>
            <p:nvSpPr>
              <p:cNvPr id="581" name=""/>
              <p:cNvSpPr/>
              <p:nvPr/>
            </p:nvSpPr>
            <p:spPr>
              <a:xfrm>
                <a:off x="6599160" y="7569000"/>
                <a:ext cx="5545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Backward slice of sum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58080" y="8000640"/>
                <a:ext cx="90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wo Sli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4" name=""/>
          <p:cNvSpPr/>
          <p:nvPr/>
        </p:nvSpPr>
        <p:spPr>
          <a:xfrm>
            <a:off x="1193760" y="2603520"/>
            <a:ext cx="4648320" cy="66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main(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a, b, sum, mul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ul =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hile (a &lt;= b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sum +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ul = mul *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a +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sum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mul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860960" y="2692440"/>
            <a:ext cx="3962520" cy="415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lice Operation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ckbon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o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8465-B397-4C7B-B303-F120781CA8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270080" y="69213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1270080" y="54990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1270080" y="50418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1270080" y="692136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1270080" y="554976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1270080" y="510552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1270080" y="45846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ackbon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4" name=""/>
          <p:cNvSpPr/>
          <p:nvPr/>
        </p:nvSpPr>
        <p:spPr>
          <a:xfrm>
            <a:off x="1270080" y="464832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1193760" y="2603520"/>
            <a:ext cx="4648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hile (a &lt;= b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a +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086600" y="276840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ains only those statement that occur in both sl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ful for focusing on common behavi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6482-F856-4D42-817F-A7CE8A287D04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270080" y="41274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1270080" y="45846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1270080" y="50418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1270080" y="54990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1270080" y="69213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1270080" y="64641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1270080" y="833112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270080" y="3670200"/>
            <a:ext cx="5232240" cy="4660920"/>
            <a:chOff x="1270080" y="3670200"/>
            <a:chExt cx="5232240" cy="4660920"/>
          </a:xfrm>
        </p:grpSpPr>
        <p:sp>
          <p:nvSpPr>
            <p:cNvPr id="605" name=""/>
            <p:cNvSpPr/>
            <p:nvPr/>
          </p:nvSpPr>
          <p:spPr>
            <a:xfrm>
              <a:off x="1270080" y="367020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70080" y="60069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70080" y="787392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70080" y="46479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70080" y="51051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70080" y="55497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70080" y="69213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wo Sli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2603520"/>
            <a:ext cx="4648320" cy="66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main(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a, b, sum, mul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ul =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hile (a &lt;= b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sum +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ul = mul *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a +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sum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mul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058080" y="7569360"/>
            <a:ext cx="6086160" cy="640440"/>
            <a:chOff x="6058080" y="7569360"/>
            <a:chExt cx="6086160" cy="640440"/>
          </a:xfrm>
        </p:grpSpPr>
        <p:sp>
          <p:nvSpPr>
            <p:cNvPr id="615" name=""/>
            <p:cNvSpPr/>
            <p:nvPr/>
          </p:nvSpPr>
          <p:spPr>
            <a:xfrm>
              <a:off x="6599160" y="7569360"/>
              <a:ext cx="5545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Backward slice of su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58080" y="8000640"/>
              <a:ext cx="901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6599160" y="8178840"/>
            <a:ext cx="542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ackward slice of m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6045120" y="8597880"/>
            <a:ext cx="9018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83120" y="2692440"/>
            <a:ext cx="4140360" cy="414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lice Operation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ckbon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o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669A-F852-4D7B-94EA-6B420633D9C1}" type="slidenum">
              <a:t>22</a:t>
            </a:fld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1" name=""/>
          <p:cNvSpPr/>
          <p:nvPr/>
        </p:nvSpPr>
        <p:spPr>
          <a:xfrm>
            <a:off x="1270080" y="367020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1270080" y="600696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1270080" y="787392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1193760" y="2603520"/>
            <a:ext cx="464832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sum +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sum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137000" y="2768400"/>
            <a:ext cx="4597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ains only the difference between two sl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ful for focusing on differing behavi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4CFC-5E9A-4262-824D-D74A699F0E03}" type="slidenum">
              <a:t>23</a:t>
            </a:fld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61680" y="685440"/>
            <a:ext cx="69087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hop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8217000" y="2781360"/>
            <a:ext cx="2463840" cy="4165560"/>
            <a:chOff x="8217000" y="2781360"/>
            <a:chExt cx="2463840" cy="4165560"/>
          </a:xfrm>
        </p:grpSpPr>
        <p:sp>
          <p:nvSpPr>
            <p:cNvPr id="631" name=""/>
            <p:cNvSpPr/>
            <p:nvPr/>
          </p:nvSpPr>
          <p:spPr>
            <a:xfrm>
              <a:off x="8217000" y="2781360"/>
              <a:ext cx="2463840" cy="863640"/>
            </a:xfrm>
            <a:prstGeom prst="pie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17000" y="6083280"/>
              <a:ext cx="2463840" cy="863640"/>
            </a:xfrm>
            <a:prstGeom prst="pie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8217000" y="524520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17000" y="694692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4660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tersection between a forward and a backward sli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ful for determining influence paths within the progra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62E8A-F5E7-465F-A764-F8B93A6B9A10}" type="slidenum">
              <a:t>24</a:t>
            </a:fld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everaging Sli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1854360" y="2324160"/>
            <a:ext cx="9296280" cy="726264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5959440" y="4508640"/>
            <a:ext cx="107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6299280" y="8470800"/>
            <a:ext cx="424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(Note: This slice is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executable!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2AD4-B0CD-4EBC-B2C0-5A0487E1F684}" type="slidenum">
              <a:t>25</a:t>
            </a:fld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253800"/>
            <a:ext cx="108586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ducing Code Smell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 of uninitialized 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used valu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reachable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emory lea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terface mis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ull point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ECE-F16A-4E1E-90A2-DF6889191E7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ninitialized Variabl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3" name=""/>
          <p:cNvSpPr/>
          <p:nvPr/>
        </p:nvSpPr>
        <p:spPr>
          <a:xfrm>
            <a:off x="3308400" y="3670200"/>
            <a:ext cx="620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gcc -Wall -O -o fibo fibo.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1422360" y="368316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1434960" y="4419720"/>
            <a:ext cx="1010952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Monaco"/>
                <a:ea typeface="Monaco"/>
              </a:rPr>
              <a:t>fibo.c: In function `fib'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Monaco"/>
                <a:ea typeface="Monaco"/>
              </a:rPr>
              <a:t>fibo.c:7: warning: `f' might be used uninitialized in this fun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062E-89D8-4F2D-930B-66DB5DB556D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alse Positiv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7" name=""/>
          <p:cNvSpPr/>
          <p:nvPr/>
        </p:nvSpPr>
        <p:spPr>
          <a:xfrm>
            <a:off x="1790640" y="2171880"/>
            <a:ext cx="1010916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go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switch (color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ase RED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ase AMBER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go = 0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break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ase GREEN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go = 1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break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go) { ... 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378240" y="5460840"/>
            <a:ext cx="9220320" cy="2895120"/>
            <a:chOff x="3378240" y="5460840"/>
            <a:chExt cx="9220320" cy="2895120"/>
          </a:xfrm>
        </p:grpSpPr>
        <p:sp>
          <p:nvSpPr>
            <p:cNvPr id="649" name=""/>
            <p:cNvSpPr/>
            <p:nvPr/>
          </p:nvSpPr>
          <p:spPr>
            <a:xfrm>
              <a:off x="6502320" y="5460840"/>
              <a:ext cx="6096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6127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8000"/>
                  </a:solidFill>
                  <a:latin typeface="Monaco"/>
                  <a:ea typeface="Monaco"/>
                </a:rPr>
                <a:t>warning: `go' might be used uninitialized in this function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3378240" y="7403760"/>
              <a:ext cx="4905360" cy="95220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EB94-2EF0-4C13-80E9-5DB7162A929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nreachable Co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2" name=""/>
          <p:cNvSpPr/>
          <p:nvPr/>
        </p:nvSpPr>
        <p:spPr>
          <a:xfrm>
            <a:off x="1434960" y="3556080"/>
            <a:ext cx="101095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w &gt;=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rintf("w is non-negative\n"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else if (w &gt;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rintf("w is positive\n"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5994360"/>
            <a:ext cx="8978760" cy="2133720"/>
            <a:chOff x="3657600" y="5994360"/>
            <a:chExt cx="8978760" cy="2133720"/>
          </a:xfrm>
        </p:grpSpPr>
        <p:sp>
          <p:nvSpPr>
            <p:cNvPr id="654" name=""/>
            <p:cNvSpPr/>
            <p:nvPr/>
          </p:nvSpPr>
          <p:spPr>
            <a:xfrm>
              <a:off x="3873600" y="7454880"/>
              <a:ext cx="87627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87948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8000"/>
                  </a:solidFill>
                  <a:latin typeface="Monaco"/>
                  <a:ea typeface="Monaco"/>
                </a:rPr>
                <a:t>warning: will never be executed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57600" y="5994360"/>
              <a:ext cx="4621320" cy="141300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86B2-582C-43B2-8E43-42A74EF7293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1892160" y="3111480"/>
            <a:ext cx="9207360" cy="5880240"/>
            <a:chOff x="1892160" y="3111480"/>
            <a:chExt cx="9207360" cy="5880240"/>
          </a:xfrm>
        </p:grpSpPr>
        <p:sp>
          <p:nvSpPr>
            <p:cNvPr id="457" name=""/>
            <p:cNvSpPr/>
            <p:nvPr/>
          </p:nvSpPr>
          <p:spPr>
            <a:xfrm>
              <a:off x="1892160" y="3111480"/>
              <a:ext cx="9207360" cy="58802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8640" y="3441600"/>
              <a:ext cx="4165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Experiment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048120" y="4330800"/>
            <a:ext cx="6883200" cy="4546440"/>
            <a:chOff x="3048120" y="4330800"/>
            <a:chExt cx="6883200" cy="4546440"/>
          </a:xfrm>
        </p:grpSpPr>
        <p:sp>
          <p:nvSpPr>
            <p:cNvPr id="460" name=""/>
            <p:cNvSpPr/>
            <p:nvPr/>
          </p:nvSpPr>
          <p:spPr>
            <a:xfrm>
              <a:off x="3048120" y="4330800"/>
              <a:ext cx="6883200" cy="45464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98480" y="4699080"/>
              <a:ext cx="24055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du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733920" y="5626080"/>
            <a:ext cx="5537160" cy="3098880"/>
            <a:chOff x="3733920" y="5626080"/>
            <a:chExt cx="5537160" cy="3098880"/>
          </a:xfrm>
        </p:grpSpPr>
        <p:sp>
          <p:nvSpPr>
            <p:cNvPr id="463" name=""/>
            <p:cNvSpPr/>
            <p:nvPr/>
          </p:nvSpPr>
          <p:spPr>
            <a:xfrm>
              <a:off x="3733920" y="5626080"/>
              <a:ext cx="5537160" cy="30988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65480" y="6045120"/>
              <a:ext cx="3072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bserv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838760" y="7035840"/>
            <a:ext cx="3251160" cy="1536840"/>
            <a:chOff x="4838760" y="7035840"/>
            <a:chExt cx="3251160" cy="1536840"/>
          </a:xfrm>
        </p:grpSpPr>
        <p:sp>
          <p:nvSpPr>
            <p:cNvPr id="466" name=""/>
            <p:cNvSpPr/>
            <p:nvPr/>
          </p:nvSpPr>
          <p:spPr>
            <a:xfrm>
              <a:off x="4838760" y="7035840"/>
              <a:ext cx="3251160" cy="15368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9920" y="7429680"/>
              <a:ext cx="2584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du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15560" y="253800"/>
            <a:ext cx="10960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asoning about Ru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3840" y="3924360"/>
            <a:ext cx="2457360" cy="4442760"/>
            <a:chOff x="5253840" y="3924360"/>
            <a:chExt cx="2457360" cy="4442760"/>
          </a:xfrm>
        </p:grpSpPr>
        <p:sp>
          <p:nvSpPr>
            <p:cNvPr id="470" name=""/>
            <p:cNvSpPr/>
            <p:nvPr/>
          </p:nvSpPr>
          <p:spPr>
            <a:xfrm>
              <a:off x="6049080" y="8001000"/>
              <a:ext cx="90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0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77520" y="6553440"/>
              <a:ext cx="758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1 run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41520" y="5168880"/>
              <a:ext cx="91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n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53840" y="392436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n controlled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3F8B-4AB8-49E1-A190-04396464DE3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emory Leak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7" name=""/>
          <p:cNvSpPr/>
          <p:nvPr/>
        </p:nvSpPr>
        <p:spPr>
          <a:xfrm>
            <a:off x="444600" y="2476440"/>
            <a:ext cx="120902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*readbuf(int size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*p = malloc(size * sizeof(int)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size; i++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[i] = readint(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p[i] ==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0;  // end-of-fil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p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423040" y="6781680"/>
            <a:ext cx="5041800" cy="2222640"/>
            <a:chOff x="5423040" y="6781680"/>
            <a:chExt cx="5041800" cy="2222640"/>
          </a:xfrm>
        </p:grpSpPr>
        <p:sp>
          <p:nvSpPr>
            <p:cNvPr id="659" name=""/>
            <p:cNvSpPr/>
            <p:nvPr/>
          </p:nvSpPr>
          <p:spPr>
            <a:xfrm>
              <a:off x="7188480" y="8331120"/>
              <a:ext cx="3276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3295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8000"/>
                  </a:solidFill>
                  <a:latin typeface="Monaco"/>
                  <a:ea typeface="Monaco"/>
                </a:rPr>
                <a:t>memory leak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23040" y="6781680"/>
              <a:ext cx="2752560" cy="165420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73DA-D0E4-4059-9287-895E953FA2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terface Misus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2" name=""/>
          <p:cNvSpPr/>
          <p:nvPr/>
        </p:nvSpPr>
        <p:spPr>
          <a:xfrm>
            <a:off x="444600" y="2476440"/>
            <a:ext cx="1209024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void readfile(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fp = open(file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size = readint(file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size &lt;=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lose(fp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622760" y="5994360"/>
            <a:ext cx="5651640" cy="2336760"/>
            <a:chOff x="4622760" y="5994360"/>
            <a:chExt cx="5651640" cy="2336760"/>
          </a:xfrm>
        </p:grpSpPr>
        <p:sp>
          <p:nvSpPr>
            <p:cNvPr id="664" name=""/>
            <p:cNvSpPr/>
            <p:nvPr/>
          </p:nvSpPr>
          <p:spPr>
            <a:xfrm>
              <a:off x="5397480" y="7657920"/>
              <a:ext cx="4876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4908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8000"/>
                  </a:solidFill>
                  <a:latin typeface="Monaco"/>
                  <a:ea typeface="Monaco"/>
                </a:rPr>
                <a:t>stream not closed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22760" y="5994360"/>
              <a:ext cx="2752560" cy="165420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9BD3-4CBE-4697-A436-47FAB0C43CF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ull Point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7" name=""/>
          <p:cNvSpPr/>
          <p:nvPr/>
        </p:nvSpPr>
        <p:spPr>
          <a:xfrm>
            <a:off x="444600" y="2476440"/>
            <a:ext cx="120902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*readbuf(int size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*p = malloc(size * sizeof(int)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size; i++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[i] = readint(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p[i] ==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0;  // end-of-fil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p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8064360" y="2489040"/>
            <a:ext cx="370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372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Monaco"/>
                <a:ea typeface="Monaco"/>
              </a:rPr>
              <a:t>p may be nul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213000" y="2971440"/>
            <a:ext cx="4864320" cy="1033560"/>
          </a:xfrm>
          <a:prstGeom prst="line">
            <a:avLst/>
          </a:prstGeom>
          <a:ln w="38160">
            <a:solidFill>
              <a:srgbClr val="ff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30E5-340B-4A87-9DEA-C07FD2BB9EF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685800" y="507960"/>
            <a:ext cx="11379240" cy="871848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bug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0A22-463E-45DD-8FF4-0BB2D0A950C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812520" y="63360"/>
            <a:ext cx="11379240" cy="96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46640" indent="-473400">
              <a:lnSpc>
                <a:spcPct val="100000"/>
              </a:lnSpc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lass implements </a:t>
            </a: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Cloneable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 but does not define or use </a:t>
            </a: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clone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Method might ignore excep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Null pointer dereference in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lass defines </a:t>
            </a: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equal()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; should it be </a:t>
            </a: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equals()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Method may fail to close database resour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Method may fail to close stre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Method ignores return val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Unread fie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Unused fie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Unwritten fie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Private method is never called \\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fect Patter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898-C57B-41D9-922B-E98B99AFAF0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imits of Analysi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5" name=""/>
          <p:cNvSpPr/>
          <p:nvPr/>
        </p:nvSpPr>
        <p:spPr>
          <a:xfrm>
            <a:off x="355680" y="2603520"/>
            <a:ext cx="122680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287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x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287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or(i=j=k=1;--j||k;k=j?i%j?k:k-j:(j=i+=2)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287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write(x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269720" y="4749840"/>
            <a:ext cx="1046484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07480" indent="-5119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 x being used uninitialized or no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op halts only if there is an odd perfect number (= a number that’s the sum of its proper positive divisor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blem is undediced  y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083-A262-4A17-A3F3-8E0D5CD26A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977760" y="736560"/>
            <a:ext cx="11023920" cy="82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at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hell_sor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[], int siz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, j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h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= h * 3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&lt;= siz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/= 3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h; i &lt; size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v = a[i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j = i; j &gt;= h &amp;&amp; a[j - h] &gt; v; j -= h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a[j - h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i != j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v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!= 1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5613480" y="1434960"/>
            <a:ext cx="64008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426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nservative approximat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426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ny a[] depends on all a[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D2C2F-F7D0-4C62-8FD2-80BC8A3DCBB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253800"/>
            <a:ext cx="108712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uses of Impreci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direct access, as in a[i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int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nc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ynamic dispat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currenc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D8B-1E63-4D53-B19C-9C436CD6119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isks of Dedu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50680" indent="-5396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ode mismatch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Is the run created from this very source cod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06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Abstracting away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ailures may be caused by a defect in the environme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06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Imprecision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A slice typically encompasses 90% of the source cod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B3A-E3A7-497B-B8BA-D7DD7FA591C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creasing Preci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Verification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If we know that certain properties hold, we can leverage them in our inference proces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Observation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acts from concrete runscan be combined with deduction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"/>
          <p:cNvSpPr/>
          <p:nvPr/>
        </p:nvSpPr>
        <p:spPr>
          <a:xfrm>
            <a:off x="3322800" y="7797960"/>
            <a:ext cx="586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 the weeks to com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1AA-A460-4DB8-BB0A-D31DAE7B5D1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4838760" y="7035840"/>
            <a:ext cx="3251160" cy="1536840"/>
            <a:chOff x="4838760" y="7035840"/>
            <a:chExt cx="3251160" cy="1536840"/>
          </a:xfrm>
        </p:grpSpPr>
        <p:sp>
          <p:nvSpPr>
            <p:cNvPr id="475" name=""/>
            <p:cNvSpPr/>
            <p:nvPr/>
          </p:nvSpPr>
          <p:spPr>
            <a:xfrm>
              <a:off x="4838760" y="7035840"/>
              <a:ext cx="3251160" cy="15368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09920" y="7429680"/>
              <a:ext cx="2584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du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15560" y="253800"/>
            <a:ext cx="10960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asoning about Ru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8" name=""/>
          <p:cNvSpPr/>
          <p:nvPr/>
        </p:nvSpPr>
        <p:spPr>
          <a:xfrm>
            <a:off x="6049440" y="8001000"/>
            <a:ext cx="90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0 ru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B8C0-FC38-45A5-909B-7C3417085C53}" type="slidenum">
              <a:t>4</a:t>
            </a:fld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reason about programs, 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duction (0 ru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ation (1 ru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duction (multiple ru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perimentation (controlled ru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786-0A89-4EC5-AA07-14AEFCC80E2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9220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5880" indent="-4968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isolate value origins, follow back the dependen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5880" indent="-4968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pendences can uncove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ode smell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ch a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initialized 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used valu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reachable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5880" indent="-4968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t rid of smells before debu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EA7-55D1-4FB9-BC75-0CCF9CE46D1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718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slice a program, follow dependences from a statement S to find all statements th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uld be influenced by S (forward slic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uld influence S (backward slic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216-93A0-491E-8254-42A515A3494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4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77240" indent="-4914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ing deduction alone includes a number of risks, including code mismatch, sbstracting away, and imprecis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7240" indent="-4914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deduction is limited by the halting problem and must thus resort to conservative approxim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7240" indent="-4914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debugging, deduction is best combined with actual observ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597-9C80-4544-9DA0-74CD426EEBE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A313D-6730-4C4F-A3CD-E1FA47A6A9CD}" type="slidenum">
              <a:t>44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’s relevant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0" name=""/>
          <p:cNvSpPr/>
          <p:nvPr/>
        </p:nvSpPr>
        <p:spPr>
          <a:xfrm>
            <a:off x="1955880" y="3340080"/>
            <a:ext cx="906768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08676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10 INPUT X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08676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20 Y = 0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08676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30 X = 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08676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40 PRINT “X = “, X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3911760" y="5194440"/>
            <a:ext cx="1592280" cy="95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6286680"/>
            <a:ext cx="6388200" cy="1010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1955880" y="3263760"/>
            <a:ext cx="5676840" cy="1231920"/>
          </a:xfrm>
          <a:prstGeom prst="rect">
            <a:avLst/>
          </a:prstGeom>
          <a:gradFill rotWithShape="0">
            <a:gsLst>
              <a:gs pos="0">
                <a:srgbClr val="111117">
                  <a:alpha val="69803"/>
                </a:srgbClr>
              </a:gs>
              <a:gs pos="100000">
                <a:srgbClr val="1d1d26">
                  <a:alpha val="6980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1A7B-3C9B-4977-A5D4-6A79730F2F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bonacci Numb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028880" y="3670200"/>
            <a:ext cx="11430000" cy="120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"/>
          <p:cNvGraphicFramePr/>
          <p:nvPr/>
        </p:nvGraphicFramePr>
        <p:xfrm>
          <a:off x="1282680" y="5943600"/>
          <a:ext cx="10439280" cy="102888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54080"/>
                <a:gridCol w="1041120"/>
                <a:gridCol w="1041480"/>
                <a:gridCol w="1054080"/>
                <a:gridCol w="1041480"/>
                <a:gridCol w="1041480"/>
                <a:gridCol w="1041480"/>
                <a:gridCol w="1041120"/>
              </a:tblGrid>
              <a:tr h="1028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536F-B6D5-4553-A035-733F753188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bo.c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8" name=""/>
          <p:cNvSpPr/>
          <p:nvPr/>
        </p:nvSpPr>
        <p:spPr>
          <a:xfrm>
            <a:off x="876240" y="2895480"/>
            <a:ext cx="491508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66"/>
                </a:solidFill>
                <a:latin typeface="Monaco"/>
                <a:ea typeface="Monaco"/>
              </a:rPr>
              <a:t>fib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f, f0 = 1, f1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hile (n &gt; 1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 = n - 1;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 = f0 + f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0 = f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1 = f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f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895480"/>
            <a:ext cx="509256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n = 9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hile (n &gt; 0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fib(%d)=%d\n",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, fib(n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 = n -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BC83-78A5-4CAC-8253-4A2F5D94F7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220280" y="3683160"/>
            <a:ext cx="131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./fib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bo in 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2" name=""/>
          <p:cNvSpPr/>
          <p:nvPr/>
        </p:nvSpPr>
        <p:spPr>
          <a:xfrm>
            <a:off x="4750560" y="2971800"/>
            <a:ext cx="40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gcc -o fibo fibo.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3251160" y="298440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3720240" y="4406760"/>
            <a:ext cx="432288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fib(9)=55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fib(8)=3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fib(2)=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Monaco"/>
                <a:ea typeface="Monaco"/>
              </a:rPr>
              <a:t>fib(1)=134513905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3251160" y="369576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8547120" y="4940280"/>
            <a:ext cx="4243320" cy="2573280"/>
            <a:chOff x="8547120" y="4940280"/>
            <a:chExt cx="4243320" cy="2573280"/>
          </a:xfrm>
        </p:grpSpPr>
        <p:sp>
          <p:nvSpPr>
            <p:cNvPr id="497" name=""/>
            <p:cNvSpPr/>
            <p:nvPr/>
          </p:nvSpPr>
          <p:spPr>
            <a:xfrm>
              <a:off x="8826480" y="4940280"/>
              <a:ext cx="396396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Where do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fib(1) come from?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8547120" y="6362640"/>
              <a:ext cx="1644480" cy="115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C780-6214-4331-A92F-9877855F8D1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ffects of Stateme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Write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 statement can change the program state (i.e. write to a variabl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ontrol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statement may determine which statement is executed n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other than unconditional transfer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312-7CBD-4308-B19F-A67B91A5BE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