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ct" ContentType="image/x-pict"/>
  <Override PartName="/ppt/media/image2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6.pct" ContentType="image/x-pict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9.jpeg" ContentType="image/jpeg"/>
  <Override PartName="/ppt/media/image14.pct" ContentType="image/x-pict"/>
  <Override PartName="/ppt/media/image3.png" ContentType="image/png"/>
  <Override PartName="/ppt/media/image4.png" ContentType="image/png"/>
  <Override PartName="/ppt/media/image15.pct" ContentType="image/x-pict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2465F-B9A5-4AF8-AF03-36FF1E86A1E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E7F2B-9B9E-4D3A-A5A7-55BE15DE9EB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C4F60-F81B-49BB-8785-69D4137EB5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81E29-C66E-464C-AC20-56B487ABEA2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020CE-8C38-41D8-BA0C-6807188A71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50BB4-8429-42BB-9A5F-7731BE701B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3248A-E55C-47BA-82D3-1CC59BA3578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188D0-F63D-4BD4-B548-E4FCAA976AF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39EB2-D4EF-4BE6-9B21-4C45323F3F1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4E356-CA9C-477E-BC8D-AB84719E3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2C42-C320-4321-9092-38D25215930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0A51-240F-45A0-99D7-92AECD41E65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9475-704C-457C-87E2-82B461D4C6E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C763-C9E2-4FFE-8F71-F414E9A81C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2363-6999-4400-A0FD-33DCDEA26B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4D0B-6A3A-4A5F-B2A7-01DCAB94F89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E81E-2FAC-4EF4-AFF2-353CE10D2C1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D37D-7367-4FF7-9320-C26109497FE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879E-46CB-4B5C-A19F-D9522F30F4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410A-FF37-4ED1-AD13-1D73C6047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98718-49DE-4669-B7A5-763C133DB1D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8BDF4-7CAE-4633-A265-D218899D63B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E7684-C84B-4AF1-A35E-DB8018B3A37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3D571-D286-440D-8C46-14EBFD708A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F068F-F402-4535-90BD-07CD936867B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F9162-1E65-44F5-AA77-A3C9B17D4D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D20CE2-B986-4451-A5C6-57F1732919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89902-64E4-45A2-9E4D-AFC479A2DCE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610BF-DEE9-477B-9F4A-2E9BEED749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E4490B-61CD-4DEB-8AA9-B74ECCA53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89A3-F40D-4518-B670-F20AA9D75F3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1EDBA-5091-4F95-913E-FC495C01C6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95026-C49D-418A-AF18-26EE81B5470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9CB5E-F0D6-4C90-98B5-84DA260ED4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DC17-C5F3-4AD3-AB02-B6593ADEC5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27CB-20D5-4944-84F7-6C12E3BC42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E4B9-0E61-4721-8536-601B1595CA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C212-0F7D-46AA-A9D4-E352FC396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B5AC-AF83-46EC-90DD-12A00FA6BB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F95A-E3E4-496A-B500-DB404C549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3E0B-5BF6-4B9C-B713-89C7DE2479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7478-37E4-418E-B779-922600E2A7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101E-69DE-4F65-939A-A5CC446B96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B919-50D5-4431-BB3B-04FA219566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E717-DE2F-4F2B-B981-68763269D7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3395-B455-4896-9283-54238678BB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7C79-9798-4783-BFFE-8CC44452C9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CD34-0C58-4C25-9E3A-A3BF917F0E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9C2C-2DC9-4FAE-B940-1D8D868CCB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F249-1B4F-4C53-8640-EF30AF4D7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D679-3A01-4498-8C50-47A26399F5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0525-DAD2-431E-87F5-7605D71D0C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6F00-3707-428D-8BB2-5E74D4FCF1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560D-D5CF-40C5-A626-DA84FBA9EC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6BF3-CD98-4045-A12E-D3E1CD02E0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4131-0784-475F-A5B7-51045DC1E5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3D16-8820-4683-AE5B-9633554F2C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BA3-F96D-466C-AE99-687628B8A2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9C5-B82B-4D3C-A303-DAEEEFB38C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C79-394C-4700-A403-81E310377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B25-E716-48EE-A384-2D8DBF55DA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C23-254B-4469-8868-5C856743C6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3C6-CCF4-4716-85B7-160F635D89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03A-8F75-4A62-9C17-1724E136D9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2A5-7A95-435D-A0C3-95AEF5D89A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C90-B933-446B-96B3-0DF4AE07B3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002-45D1-4997-A442-ED37C90E25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B7E-5C9D-4A4B-B583-919B7BF37F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ED8-DC68-4672-A3D6-2125C64673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2A24C-BBA6-40D1-BD6A-435B7593C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3A121-EC51-4F94-9D71-0CC56170F63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D93AC-D031-41DE-A9D8-CDF36D2F15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0D395-F0F6-42E0-93AA-A68FA2BFB3F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D3BE6-A1FE-491F-8B7F-7B8200456A4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AEA6B-A944-41BD-9555-85466CD82E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DAFFE-5598-44B0-BC8F-A4783CCB0CC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B4224-2FF9-4C36-940A-1905F841BD5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F3E8E-BEBC-481E-84E7-BD23A450C3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D905D-31E1-41D0-8DE5-7716E7018A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1E99F-E7FB-487B-BB1E-AF341493A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E66E1-519C-46A2-BC52-0DD369F73EA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EDC90-FDAD-42FB-BC7F-E23609209D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354B6-FA10-49EF-9DD8-275A7AB0D7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2B73-5D6C-4124-85A8-EDD5C503A8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EE3B2-4BED-42A4-AF4F-5BA73F15A0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DD45D-7F95-4305-8310-43BB0627DD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B886E-8CC7-401C-BBBD-CAE398D1A4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58FF4-D3B1-442D-B5D6-98AA024E9B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0E362-327F-44F5-BC56-F122F511B9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D901E-FD25-4AF4-BEA7-D394232F5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7E87D-4A4F-4F02-951A-9312E1CC3DD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85FE5-3036-444D-B571-13DFD2FE31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E9CE9-C49F-4B86-BBC0-5B96AAE6E2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29A7-46B5-4EAA-B418-1AA4A15BA70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3878-19D6-4874-A809-42B7AF1666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9EC2-ABE7-4599-8B1E-18F055A969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385D-D560-494F-9D0E-799B38F73A8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3C41-C939-4E4E-BFF7-7E1B405C2C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727D-85F1-4F54-AEE5-8EC9CFC31A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35E-6859-4961-9709-BCD3DFFCF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C05A-F2EA-4F1E-A4D6-DF583F9BEC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3EF8-633D-44D5-9B7E-D115043A38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96E4-1FB8-41A9-A279-9C9C4A31C02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5121-3261-4731-B803-37564C6667C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220B-BA4E-4065-80B6-B56038CD36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FB01D-0CFD-41E5-A260-7CF405E157E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CA770-0A02-496B-B481-3AF99D2580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1F271-8A97-46DF-9D75-9F426C751A1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2F3144-C0B3-4B81-82C7-6D3EC03015B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1E13B-5742-416C-8C1B-B23C252AE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2059EE-C89B-4520-B1CA-C07440DBF8A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85BD70-5007-46B8-878F-4E2CAAF4819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7364C-1DD8-4974-A394-E7465813CBA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C5D0B-EBC3-4EDB-9808-51A3F55E606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7B00B-B8A3-4F64-A7B2-25A4A2ADB69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0495F-669C-494B-9A30-F24F39A0B38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CC424-FF1B-4305-9D1B-8038BDDDBF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5123D-EFFE-4FB0-97C4-0ADB56DFE04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3A3A5-4A2B-4FAE-83CC-9E3818A993E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F5C7D-C99B-40D6-B1A2-459041D21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8B71-EA8F-460C-A2ED-CC0EC3941E5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B37A-68B0-42B3-9E2A-8AB76DBE4F79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7238-88F2-4D61-87D3-CF35B8479BD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F0F7-2902-4236-8ADD-AB736641DA13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7AD8-4B6B-4B82-B724-AD1E1396C7F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15F8-027C-4DF5-80BF-794779CA5B6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8005-B639-49D5-AD0C-E6E7702EC24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F720-480F-4119-8C74-3A217490478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043E-F2DA-481E-8EC0-2D476F3B2A1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4CC6-F662-4293-9A16-94801D1C47B2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3060720" y="122400"/>
            <a:ext cx="7709040" cy="95043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paring Coverag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middle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3" name=""/>
          <p:cNvSpPr/>
          <p:nvPr/>
        </p:nvSpPr>
        <p:spPr>
          <a:xfrm>
            <a:off x="3101760" y="2959200"/>
            <a:ext cx="305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middle 3 3 5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2044800" y="297180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2370960" y="3683160"/>
            <a:ext cx="2315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6db5c"/>
                </a:solidFill>
                <a:latin typeface="Monaco"/>
                <a:ea typeface="Monaco"/>
              </a:rPr>
              <a:t>middle: 3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3114360" y="4889520"/>
            <a:ext cx="305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middle 2 1 3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2044800" y="490212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2370960" y="5664240"/>
            <a:ext cx="2315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Monaco"/>
                <a:ea typeface="Monaco"/>
              </a:rPr>
              <a:t>middle: 1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7486-6B30-47AE-80CD-0622A14C97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092240" y="1143000"/>
            <a:ext cx="1083312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int arc, char *argv[]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x = atoi(argv[1]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y = atoi(argv[2]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z = atoi(argv[3]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m = middle(x, y, z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rintf("middle: %d\n", m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E3B-8F0C-41DA-9690-B578D1CFB4F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486080" y="266760"/>
            <a:ext cx="10020240" cy="92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middle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int x, int y, int z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m = z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y &lt; z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x &lt; y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m = y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else if (x &lt; z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m = y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 else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x &gt; y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m = y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else if (x &gt; z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m = x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m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                         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FF8-8360-4E65-A2D8-6F7D2C001C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ComparingCoverage.ppt_media/middle-3.mov" descr=""/>
          <p:cNvPicPr/>
          <p:nvPr/>
        </p:nvPicPr>
        <p:blipFill>
          <a:blip r:embed="rId2"/>
          <a:stretch/>
        </p:blipFill>
        <p:spPr>
          <a:xfrm>
            <a:off x="520560" y="762120"/>
            <a:ext cx="11947680" cy="8216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taining Coverage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for C programs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513E-795F-4F2D-B0F1-A4F6A310CA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taining Coverage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for Python programs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4" name=""/>
          <p:cNvSpPr/>
          <p:nvPr/>
        </p:nvSpPr>
        <p:spPr>
          <a:xfrm>
            <a:off x="1498680" y="3149640"/>
            <a:ext cx="10020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__name__ == "__main__"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x = sys.argv[1]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y = sys.argv[2]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z = sys.argv[3]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m = middle(x, y, z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rint "middle:", 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759120"/>
            <a:ext cx="1002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sys.settrace(tracer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1F92-844C-4D74-B4C5-3E3D22B1B90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taining Coverage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for Python programs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7" name=""/>
          <p:cNvSpPr/>
          <p:nvPr/>
        </p:nvSpPr>
        <p:spPr>
          <a:xfrm>
            <a:off x="1028880" y="2844720"/>
            <a:ext cx="1093464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tracer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(frame, event, arg)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ode = frame.f_cod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unction = code.co_na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ilename = code.co_filena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line = frame.f_lineno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rint filename + ":" + `line` + \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":" + function + "():", \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event, arg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trac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E9E7-81A5-4393-8B6C-DD9D808EBB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taining Coverage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for Python programs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9" name=""/>
          <p:cNvSpPr/>
          <p:nvPr/>
        </p:nvSpPr>
        <p:spPr>
          <a:xfrm>
            <a:off x="1028880" y="2755800"/>
            <a:ext cx="109346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$ ./middle.py 3 3 5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/middle.py:13:middle(): call Non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/middle.py:14:middle(): line Non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/middle.py:15:middle(): line Non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/middle.py:16:middle(): line Non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/middle.py:18:middle(): line Non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/middle.py:19:middle(): line Non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/middle.py:26:middle(): line Non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/middle.py:26:middle(): return 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middle: 3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413080" y="3390840"/>
            <a:ext cx="8178840" cy="2959200"/>
            <a:chOff x="2413080" y="3390840"/>
            <a:chExt cx="8178840" cy="2959200"/>
          </a:xfrm>
        </p:grpSpPr>
        <p:sp>
          <p:nvSpPr>
            <p:cNvPr id="531" name=""/>
            <p:cNvSpPr/>
            <p:nvPr/>
          </p:nvSpPr>
          <p:spPr>
            <a:xfrm>
              <a:off x="2413080" y="3390840"/>
              <a:ext cx="8178840" cy="2959200"/>
            </a:xfrm>
            <a:prstGeom prst="rect">
              <a:avLst/>
            </a:prstGeom>
            <a:solidFill>
              <a:srgbClr val="e6e6e6">
                <a:alpha val="80000"/>
              </a:srgbClr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76720" y="4203720"/>
              <a:ext cx="643896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For remaining steps,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see new projec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20AF-FB4F-49A8-ACD4-384D3221AFE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939960" y="1231920"/>
          <a:ext cx="10769400" cy="7237080"/>
        </p:xfrm>
        <a:graphic>
          <a:graphicData uri="http://schemas.openxmlformats.org/drawingml/2006/table">
            <a:tbl>
              <a:tblPr/>
              <a:tblGrid>
                <a:gridCol w="6674760"/>
                <a:gridCol w="682200"/>
                <a:gridCol w="682920"/>
                <a:gridCol w="682200"/>
                <a:gridCol w="682560"/>
                <a:gridCol w="682200"/>
                <a:gridCol w="682560"/>
              </a:tblGrid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x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z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4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1104840" y="2374920"/>
            <a:ext cx="62103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iddle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x, int y, int z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m = z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y &lt; z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x &lt; y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lse if (x &lt; z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x &gt; y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lse if (x &gt; z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 = x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m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                        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9B4-ACA1-4D1A-A834-756B8C2B623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screte Color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6" name=""/>
          <p:cNvSpPr/>
          <p:nvPr/>
        </p:nvSpPr>
        <p:spPr>
          <a:xfrm>
            <a:off x="2298600" y="3289320"/>
            <a:ext cx="990720" cy="990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63639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2298600" y="5105520"/>
            <a:ext cx="990720" cy="9903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2298600" y="6959520"/>
            <a:ext cx="990720" cy="9907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63639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4230720" y="3098880"/>
            <a:ext cx="705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xecuted only in failing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699080" y="4915080"/>
            <a:ext cx="8280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xecuted in passing and failing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4194000" y="6769080"/>
            <a:ext cx="743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xecuted only in passing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4455720" y="3720960"/>
            <a:ext cx="3355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highly susp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4699080" y="5537160"/>
            <a:ext cx="828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mbiguou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4495680" y="7391520"/>
            <a:ext cx="298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ikely corr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66C8-24B9-4170-B25C-D7A4D1FD4EF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939960" y="1231920"/>
          <a:ext cx="10769400" cy="7237080"/>
        </p:xfrm>
        <a:graphic>
          <a:graphicData uri="http://schemas.openxmlformats.org/drawingml/2006/table">
            <a:tbl>
              <a:tblPr/>
              <a:tblGrid>
                <a:gridCol w="6674760"/>
                <a:gridCol w="682200"/>
                <a:gridCol w="682920"/>
                <a:gridCol w="682200"/>
                <a:gridCol w="682560"/>
                <a:gridCol w="682200"/>
                <a:gridCol w="682560"/>
              </a:tblGrid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x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z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4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1104840" y="2374920"/>
            <a:ext cx="62103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iddle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x, int y, int z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m = z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y &lt; z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x &lt; y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lse if (x &lt; z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x &gt; y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lse if (x &gt; z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 = x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m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                        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B43-1691-46D3-B5CD-7EF28F326AA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3772080" y="5854680"/>
          <a:ext cx="5447880" cy="876240"/>
        </p:xfrm>
        <a:graphic>
          <a:graphicData uri="http://schemas.openxmlformats.org/drawingml/2006/table">
            <a:tbl>
              <a:tblPr/>
              <a:tblGrid>
                <a:gridCol w="1090440"/>
                <a:gridCol w="1081800"/>
                <a:gridCol w="1090800"/>
                <a:gridCol w="1090800"/>
                <a:gridCol w="1094040"/>
              </a:tblGrid>
              <a:tr h="876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25380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cing Infe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943600" y="7696080"/>
          <a:ext cx="1079640" cy="86364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8636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268320" y="777240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5320800" y="6591240"/>
            <a:ext cx="1089000" cy="12096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591240" y="6553080"/>
            <a:ext cx="844560" cy="1252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769080" y="6565680"/>
            <a:ext cx="1812960" cy="12222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65240" y="0"/>
            <a:ext cx="7746120" cy="8393040"/>
            <a:chOff x="165240" y="0"/>
            <a:chExt cx="7746120" cy="839304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165240" y="0"/>
              <a:ext cx="7491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 flipH="1" flipV="1">
              <a:off x="7721640" y="7797600"/>
              <a:ext cx="163440" cy="11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670880" y="808956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695720" y="8229600"/>
              <a:ext cx="21564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10464840" cy="256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every infection, we must find 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arlier infec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aus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ich origin should we focus upon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3934-8BE2-4C85-B97A-ECCF2147D8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939960" y="1231920"/>
          <a:ext cx="10769400" cy="7237080"/>
        </p:xfrm>
        <a:graphic>
          <a:graphicData uri="http://schemas.openxmlformats.org/drawingml/2006/table">
            <a:tbl>
              <a:tblPr/>
              <a:tblGrid>
                <a:gridCol w="6674760"/>
                <a:gridCol w="682200"/>
                <a:gridCol w="682920"/>
                <a:gridCol w="682200"/>
                <a:gridCol w="682560"/>
                <a:gridCol w="682200"/>
                <a:gridCol w="682560"/>
              </a:tblGrid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x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z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4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e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e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e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"/>
          <p:cNvSpPr/>
          <p:nvPr/>
        </p:nvSpPr>
        <p:spPr>
          <a:xfrm>
            <a:off x="1104840" y="2374920"/>
            <a:ext cx="62103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nt middle(int x, int y, int z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nt m = z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f (y &lt; z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f (x &lt; y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else if (x &lt; z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f (x &gt; y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else if (x &gt; z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m = x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return m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}                         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58F-912A-4461-B439-20C0206C1C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tinuous Color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50" name=""/>
          <p:cNvSpPr/>
          <p:nvPr/>
        </p:nvSpPr>
        <p:spPr>
          <a:xfrm>
            <a:off x="2986200" y="3429000"/>
            <a:ext cx="705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xecuted only in failing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3503520" y="5245200"/>
            <a:ext cx="5990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assing and failing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2784240" y="7099200"/>
            <a:ext cx="7439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executed only in passing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1917720" y="3301920"/>
            <a:ext cx="990720" cy="990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63639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1917720" y="5118120"/>
            <a:ext cx="990720" cy="990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1917720" y="6972480"/>
            <a:ext cx="990720" cy="9903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63639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10096560" y="3276720"/>
            <a:ext cx="990720" cy="2247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  <a:effectLst>
            <a:outerShdw dist="63639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10096560" y="5486400"/>
            <a:ext cx="990720" cy="245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  <a:effectLst>
            <a:outerShdw dist="63639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B224-BB24-41E8-A541-BB9BC4E181E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u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701640" y="4203720"/>
            <a:ext cx="11604600" cy="10159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 rot="16200000">
            <a:off x="4794120" y="6025680"/>
            <a:ext cx="990360" cy="2247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63639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7118280" y="5924160"/>
            <a:ext cx="990360" cy="2450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  <a:effectLst>
            <a:outerShdw dist="63639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1118520" y="6781680"/>
            <a:ext cx="2653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0% pass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8990280" y="6781680"/>
            <a:ext cx="3263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100% pass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5932-D9F1-4592-8C35-292EFB8E2C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rightnes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65" name=""/>
          <p:cNvSpPr/>
          <p:nvPr/>
        </p:nvSpPr>
        <p:spPr>
          <a:xfrm>
            <a:off x="1193760" y="2438280"/>
            <a:ext cx="10604520" cy="6375600"/>
          </a:xfrm>
          <a:prstGeom prst="rect">
            <a:avLst/>
          </a:prstGeom>
          <a:gradFill rotWithShape="0">
            <a:gsLst>
              <a:gs pos="0">
                <a:srgbClr val="ff7904"/>
              </a:gs>
              <a:gs pos="100000">
                <a:srgbClr val="190000"/>
              </a:gs>
            </a:gsLst>
            <a:lin ang="5400000"/>
          </a:gradFill>
          <a:ln w="0">
            <a:noFill/>
          </a:ln>
          <a:effectLst>
            <a:outerShdw dist="63639" dir="27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3994560" y="2552760"/>
            <a:ext cx="501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frequently execu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4557960" y="7873920"/>
            <a:ext cx="3877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arely execu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1720800" y="5346720"/>
            <a:ext cx="9550440" cy="54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C767-9CE6-4FC8-ADBD-D42D831EB80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939960" y="1231920"/>
          <a:ext cx="10769400" cy="7237080"/>
        </p:xfrm>
        <a:graphic>
          <a:graphicData uri="http://schemas.openxmlformats.org/drawingml/2006/table">
            <a:tbl>
              <a:tblPr/>
              <a:tblGrid>
                <a:gridCol w="6674760"/>
                <a:gridCol w="682200"/>
                <a:gridCol w="682920"/>
                <a:gridCol w="682200"/>
                <a:gridCol w="682560"/>
                <a:gridCol w="682200"/>
                <a:gridCol w="682560"/>
              </a:tblGrid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x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z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4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e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e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e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64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64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9201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5601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c0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64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64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Lucida Grande"/>
                          <a:ea typeface="Lucida Grande"/>
                        </a:rPr>
                        <a:t>•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520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2520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2520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520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1104840" y="2374920"/>
            <a:ext cx="62103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nt middle(int x, int y, int z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nt m = z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f (y &lt; z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f (x &lt; y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else if (x &lt; z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f (x &gt; y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m = y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else if (x &gt; z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m = x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return m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}                         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9211680" y="8928000"/>
            <a:ext cx="356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  <a:ea typeface="Gill Sans"/>
              </a:rPr>
              <a:t>Source: Jones et al., ICSE 200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347-07F2-45CE-9F83-9CFE0A6516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666720" y="436680"/>
            <a:ext cx="11671200" cy="88693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8983080" y="9245520"/>
            <a:ext cx="356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  <a:ea typeface="Gill Sans"/>
              </a:rPr>
              <a:t>Source: Jones et al., ICSE 200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127-D719-494D-80C2-98288FD9C0E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valu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909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well does comparing coverage detect anomalie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green are the defects?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(false negative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red are non-defects?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(false positive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543E-3C52-48D7-A164-E3DFD5ABFAB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p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8000 lines of executable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000 test suites with156–4700 test ca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20 defective versions with one defect each (corrected in subsequent versio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FB93-8F24-4F03-AE94-B872D242D0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235080" y="728640"/>
            <a:ext cx="12522240" cy="8282160"/>
          </a:xfrm>
          <a:prstGeom prst="rect">
            <a:avLst/>
          </a:prstGeom>
          <a:ln w="0">
            <a:noFill/>
          </a:ln>
        </p:spPr>
      </p:pic>
      <p:grpSp>
        <p:nvGrpSpPr>
          <p:cNvPr id="579" name=""/>
          <p:cNvGrpSpPr/>
          <p:nvPr/>
        </p:nvGrpSpPr>
        <p:grpSpPr>
          <a:xfrm>
            <a:off x="2629080" y="3137040"/>
            <a:ext cx="8178480" cy="4203720"/>
            <a:chOff x="2629080" y="3137040"/>
            <a:chExt cx="8178480" cy="4203720"/>
          </a:xfrm>
        </p:grpSpPr>
        <p:sp>
          <p:nvSpPr>
            <p:cNvPr id="580" name=""/>
            <p:cNvSpPr/>
            <p:nvPr/>
          </p:nvSpPr>
          <p:spPr>
            <a:xfrm>
              <a:off x="2629080" y="3137040"/>
              <a:ext cx="8178480" cy="4203720"/>
            </a:xfrm>
            <a:prstGeom prst="rect">
              <a:avLst/>
            </a:prstGeom>
            <a:solidFill>
              <a:srgbClr val="e6e6e6">
                <a:alpha val="80000"/>
              </a:srgbClr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92360" y="3949920"/>
              <a:ext cx="643860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18 of 20 defects are correctly classified in the “reddest” portion of the cod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9351360" y="9004320"/>
            <a:ext cx="356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  <a:ea typeface="Gill Sans"/>
              </a:rPr>
              <a:t>Source: Jones et al., ICSE 200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1E5-0A91-4DB6-8446-52925069D04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297000" y="773280"/>
            <a:ext cx="12399840" cy="82040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2629080" y="3137040"/>
            <a:ext cx="8178480" cy="4203720"/>
            <a:chOff x="2629080" y="3137040"/>
            <a:chExt cx="8178480" cy="4203720"/>
          </a:xfrm>
        </p:grpSpPr>
        <p:sp>
          <p:nvSpPr>
            <p:cNvPr id="585" name=""/>
            <p:cNvSpPr/>
            <p:nvPr/>
          </p:nvSpPr>
          <p:spPr>
            <a:xfrm>
              <a:off x="2629080" y="3137040"/>
              <a:ext cx="8178480" cy="4203720"/>
            </a:xfrm>
            <a:prstGeom prst="rect">
              <a:avLst/>
            </a:prstGeom>
            <a:solidFill>
              <a:srgbClr val="e6e6e6">
                <a:alpha val="80000"/>
              </a:srgbClr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92360" y="4572000"/>
              <a:ext cx="643860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The “reddest” portion is at most 20% of the cod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9275040" y="9029880"/>
            <a:ext cx="356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  <a:ea typeface="Gill Sans"/>
              </a:rPr>
              <a:t>Source: Jones et al., ICSE 200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2A5-F714-48ED-9885-C23ED54D920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3772080" y="5854680"/>
          <a:ext cx="5447880" cy="876240"/>
        </p:xfrm>
        <a:graphic>
          <a:graphicData uri="http://schemas.openxmlformats.org/drawingml/2006/table">
            <a:tbl>
              <a:tblPr/>
              <a:tblGrid>
                <a:gridCol w="1090440"/>
                <a:gridCol w="1081800"/>
                <a:gridCol w="1090800"/>
                <a:gridCol w="1090800"/>
                <a:gridCol w="1094040"/>
              </a:tblGrid>
              <a:tr h="876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-1745640" y="2425320"/>
          <a:ext cx="14826600" cy="61218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556560"/>
                <a:gridCol w="441720"/>
                <a:gridCol w="9531720"/>
              </a:tblGrid>
              <a:tr h="272880">
                <a:tc gridSpan="11" rowSpan="2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4" rowSpan="3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57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2" rowSpan="3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 rowSpan="1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1c1c21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1120"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25380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cing Infe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943600" y="7696080"/>
          <a:ext cx="1079640" cy="86364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8636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>
            <a:off x="6268320" y="777240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5320800" y="6591240"/>
            <a:ext cx="1089000" cy="12096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6591240" y="6553080"/>
            <a:ext cx="844560" cy="1252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769080" y="6565680"/>
            <a:ext cx="1812960" cy="12222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65240" y="0"/>
            <a:ext cx="7746120" cy="8393040"/>
            <a:chOff x="165240" y="0"/>
            <a:chExt cx="7746120" cy="83930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65240" y="0"/>
              <a:ext cx="7491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flipH="1" flipV="1">
              <a:off x="7721640" y="7797600"/>
              <a:ext cx="163440" cy="11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7670880" y="808956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695720" y="8229600"/>
              <a:ext cx="21564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7023240" y="5842080"/>
            <a:ext cx="1092240" cy="8888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642000" y="2730600"/>
            <a:ext cx="1181160" cy="2419200"/>
            <a:chOff x="6642000" y="2730600"/>
            <a:chExt cx="1181160" cy="2419200"/>
          </a:xfrm>
        </p:grpSpPr>
        <p:sp>
          <p:nvSpPr>
            <p:cNvPr id="459" name=""/>
            <p:cNvSpPr/>
            <p:nvPr/>
          </p:nvSpPr>
          <p:spPr>
            <a:xfrm>
              <a:off x="6642000" y="4419720"/>
              <a:ext cx="907920" cy="730080"/>
            </a:xfrm>
            <a:prstGeom prst="rect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51480" y="3441960"/>
              <a:ext cx="571680" cy="40608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30840" y="2730600"/>
              <a:ext cx="292320" cy="2030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1927-0DAF-4639-98B3-0AA3A20811B0}" type="slidenum">
              <a:t>3</a:t>
            </a:fld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iemens Suit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7 C programs, 170–560 lin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32 variations with one defect eac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08 all yellow (i.e., useles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 with one red statement (at the defect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596800" y="9245520"/>
            <a:ext cx="4411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  <a:ea typeface="Gill Sans"/>
              </a:rPr>
              <a:t>Source: Renieris and Reiss,  ASE 2003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DEAF-6B02-4843-8C9C-B88653A176F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earest Neighbo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59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94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0" y="0"/>
            <a:ext cx="10162080" cy="5072760"/>
            <a:chOff x="0" y="0"/>
            <a:chExt cx="10162080" cy="5072760"/>
          </a:xfrm>
        </p:grpSpPr>
        <p:pic>
          <p:nvPicPr>
            <p:cNvPr id="59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97" name=""/>
            <p:cNvSpPr/>
            <p:nvPr/>
          </p:nvSpPr>
          <p:spPr>
            <a:xfrm>
              <a:off x="91706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600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602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603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60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606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608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609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1009080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1B25-A7DD-4DEF-8E7E-CEC0D3772BD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earest Neighbo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1155600" y="2984400"/>
            <a:ext cx="1866960" cy="1400400"/>
          </a:xfrm>
          <a:prstGeom prst="rect">
            <a:avLst/>
          </a:prstGeom>
          <a:ln w="76320">
            <a:solidFill>
              <a:srgbClr val="ffffff">
                <a:alpha val="3000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14" name=""/>
          <p:cNvSpPr/>
          <p:nvPr/>
        </p:nvSpPr>
        <p:spPr>
          <a:xfrm>
            <a:off x="1601280" y="3314880"/>
            <a:ext cx="9914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0" y="0"/>
            <a:ext cx="10162080" cy="5072760"/>
            <a:chOff x="0" y="0"/>
            <a:chExt cx="10162080" cy="5072760"/>
          </a:xfrm>
        </p:grpSpPr>
        <p:pic>
          <p:nvPicPr>
            <p:cNvPr id="61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617" name=""/>
            <p:cNvSpPr/>
            <p:nvPr/>
          </p:nvSpPr>
          <p:spPr>
            <a:xfrm>
              <a:off x="91706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1790640" y="3263760"/>
            <a:ext cx="1866960" cy="1400400"/>
          </a:xfrm>
          <a:prstGeom prst="rect">
            <a:avLst/>
          </a:prstGeom>
          <a:ln w="76320">
            <a:solidFill>
              <a:srgbClr val="ffffff">
                <a:alpha val="3000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19" name=""/>
          <p:cNvSpPr/>
          <p:nvPr/>
        </p:nvSpPr>
        <p:spPr>
          <a:xfrm>
            <a:off x="2236320" y="3594240"/>
            <a:ext cx="9914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2425680" y="3543480"/>
            <a:ext cx="1866960" cy="1400040"/>
          </a:xfrm>
          <a:prstGeom prst="rect">
            <a:avLst/>
          </a:prstGeom>
          <a:ln w="76320">
            <a:solidFill>
              <a:srgbClr val="ffffff">
                <a:alpha val="3000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21" name=""/>
          <p:cNvSpPr/>
          <p:nvPr/>
        </p:nvSpPr>
        <p:spPr>
          <a:xfrm>
            <a:off x="2871360" y="3873600"/>
            <a:ext cx="9914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6"/>
          <a:stretch/>
        </p:blipFill>
        <p:spPr>
          <a:xfrm>
            <a:off x="3060720" y="3822840"/>
            <a:ext cx="1866960" cy="14000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23" name=""/>
          <p:cNvSpPr/>
          <p:nvPr/>
        </p:nvSpPr>
        <p:spPr>
          <a:xfrm>
            <a:off x="3506400" y="4152960"/>
            <a:ext cx="9914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7"/>
          <a:stretch/>
        </p:blipFill>
        <p:spPr>
          <a:xfrm>
            <a:off x="3695760" y="4102200"/>
            <a:ext cx="1866960" cy="1400040"/>
          </a:xfrm>
          <a:prstGeom prst="rect">
            <a:avLst/>
          </a:prstGeom>
          <a:ln w="76320">
            <a:solidFill>
              <a:srgbClr val="ffffff">
                <a:alpha val="3000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625" name=""/>
          <p:cNvSpPr/>
          <p:nvPr/>
        </p:nvSpPr>
        <p:spPr>
          <a:xfrm>
            <a:off x="4141440" y="4432320"/>
            <a:ext cx="991440" cy="640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1009080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2396160" y="6654960"/>
            <a:ext cx="8201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mpare with the single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at has the most similar covera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4374360" y="452124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73C4-A80B-4356-B780-AB912EEA7BAC}" type="slidenum">
              <a:t>32</a:t>
            </a:fld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cating Defe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1219320" y="2241720"/>
            <a:ext cx="10566360" cy="65293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 rot="16200000">
            <a:off x="76320" y="4711680"/>
            <a:ext cx="2768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% of failing tes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4356000" y="8407440"/>
            <a:ext cx="6985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% of executed source code to examin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2585160" y="2870280"/>
            <a:ext cx="36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Renieris+Reiss (ASE 2003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8388360" y="4641840"/>
            <a:ext cx="82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82677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Gill Sans"/>
                <a:ea typeface="Gill Sans"/>
              </a:rPr>
              <a:t>Results obtained from Siemens test suite; can not be generaliz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7578720" y="2870280"/>
            <a:ext cx="32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Jones et al. (ICSE 2002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5CDC-B29B-43EF-93CF-5295C4922C0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qu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502000" y="4191120"/>
          <a:ext cx="8001000" cy="3492000"/>
        </p:xfrm>
        <a:graphic>
          <a:graphicData uri="http://schemas.openxmlformats.org/drawingml/2006/table">
            <a:tbl>
              <a:tblPr/>
              <a:tblGrid>
                <a:gridCol w="6730920"/>
                <a:gridCol w="1270080"/>
              </a:tblGrid>
              <a:tr h="11638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pen() read() close()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52c858"/>
                          </a:solidFill>
                          <a:latin typeface="Zapf Dingbats"/>
                          <a:ea typeface="Zapf Dingbats"/>
                        </a:rPr>
                        <a:t>✔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42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pen() close() read()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38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lose() open() read()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Zapf Dingbats"/>
                          <a:ea typeface="Zapf Dingbats"/>
                        </a:rPr>
                        <a:t>✘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>
            <a:off x="259920" y="2857680"/>
            <a:ext cx="12499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quences of locations can correlate with failure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949680" y="8305920"/>
            <a:ext cx="11092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ut all locations are executed in both run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1E82-BA7E-4ED3-A940-801F96E695D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AspectJ Compil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2" name=""/>
          <p:cNvSpPr/>
          <p:nvPr/>
        </p:nvSpPr>
        <p:spPr>
          <a:xfrm>
            <a:off x="1915920" y="3162240"/>
            <a:ext cx="1840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jc Test3.aj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1041480" y="3162240"/>
            <a:ext cx="457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1938240" y="3708360"/>
            <a:ext cx="238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java test.Test3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1041480" y="3708360"/>
            <a:ext cx="457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1028880" y="4406760"/>
            <a:ext cx="10972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Monaco"/>
                <a:ea typeface="Monaco"/>
              </a:rPr>
              <a:t>test.Test3@b8df17.x</a:t>
            </a: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 Unexpected Signal : 11 occurred at PC=0xFA415A00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Function name=(N/A) Library=(N/A) ..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Please report this error at </a:t>
            </a:r>
            <a:r>
              <a:rPr b="0" lang="en-US" sz="2800" spc="-1" strike="noStrike" u="sng">
                <a:solidFill>
                  <a:srgbClr val="ff6666"/>
                </a:solidFill>
                <a:uFillTx/>
                <a:latin typeface="Monaco"/>
                <a:ea typeface="Monaco"/>
              </a:rPr>
              <a:t>http://java.sun.co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Monaco"/>
                <a:ea typeface="Monaco"/>
              </a:rPr>
              <a:t>/..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1041480" y="6934320"/>
            <a:ext cx="457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7F4E-A9F2-4564-886A-322CE014B0A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verage Differ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5584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pare the failing run with passing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00"/>
              </a:buClr>
              <a:buSzPct val="171000"/>
              <a:buFont typeface="Gill Sans"/>
              <a:buChar char="•"/>
              <a:tabLst>
                <a:tab algn="l" pos="145584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Monaco"/>
                <a:ea typeface="Monaco"/>
              </a:rPr>
              <a:t>BcelShadow.getThisJoinPointVar()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invoked in the failing run on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55840"/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fortunately, this method is corr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7385-0D51-48F1-8B1B-B63401FDD5B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quence Differ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1" name=""/>
          <p:cNvSpPr/>
          <p:nvPr/>
        </p:nvSpPr>
        <p:spPr>
          <a:xfrm>
            <a:off x="1118520" y="2793960"/>
            <a:ext cx="10755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quen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occurs only in the failing ru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736560" y="4317840"/>
            <a:ext cx="11531520" cy="26164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867280" y="6934320"/>
            <a:ext cx="1282680" cy="1282680"/>
          </a:xfrm>
          <a:prstGeom prst="line">
            <a:avLst/>
          </a:prstGeom>
          <a:ln w="2556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7044120" y="7975440"/>
            <a:ext cx="3755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Gill Sans"/>
                <a:ea typeface="Gill Sans"/>
              </a:rPr>
              <a:t>Defect lo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0E43-D081-40BE-97F5-4025D20A515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llecting Sequ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69800" y="2755800"/>
            <a:ext cx="12057120" cy="574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A529-E377-44BA-9F26-BA1A77885EC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359000" y="2273400"/>
            <a:ext cx="10312200" cy="70610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going vs. Outgo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549440" y="2362320"/>
            <a:ext cx="9918720" cy="687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1E91-4E42-41C7-A039-5655B82CD00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3772080" y="5854680"/>
          <a:ext cx="5447880" cy="876240"/>
        </p:xfrm>
        <a:graphic>
          <a:graphicData uri="http://schemas.openxmlformats.org/drawingml/2006/table">
            <a:tbl>
              <a:tblPr/>
              <a:tblGrid>
                <a:gridCol w="1090440"/>
                <a:gridCol w="1081800"/>
                <a:gridCol w="1090800"/>
                <a:gridCol w="1090800"/>
                <a:gridCol w="1094040"/>
              </a:tblGrid>
              <a:tr h="8762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8480" y="253800"/>
            <a:ext cx="11277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ocusing on Anomal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5943600" y="7696080"/>
          <a:ext cx="1079640" cy="86364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8636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65" name=""/>
          <p:cNvSpPr/>
          <p:nvPr/>
        </p:nvSpPr>
        <p:spPr>
          <a:xfrm>
            <a:off x="6268320" y="777240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5320800" y="6591240"/>
            <a:ext cx="1089000" cy="12096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91240" y="6553080"/>
            <a:ext cx="844560" cy="12528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769080" y="6565680"/>
            <a:ext cx="1812960" cy="12222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65240" y="0"/>
            <a:ext cx="7746120" cy="8393040"/>
            <a:chOff x="165240" y="0"/>
            <a:chExt cx="7746120" cy="839304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165240" y="0"/>
              <a:ext cx="7491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 flipH="1" flipV="1">
              <a:off x="7721640" y="7797600"/>
              <a:ext cx="163440" cy="11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7670880" y="808956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695720" y="8229600"/>
              <a:ext cx="21564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10464840" cy="256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amine origins and locations where something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bnorma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happe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7023240" y="5842080"/>
            <a:ext cx="1092240" cy="8888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7830-7E09-4153-A07D-D08B0D03A7C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876240" y="2197080"/>
            <a:ext cx="11239560" cy="71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nomal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355680" y="2019240"/>
            <a:ext cx="12280680" cy="725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2408-B6B9-4E5A-A63A-E652414FEE6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anoXML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e XML parser written in Jav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5 revisions, each with 16–23 clas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33 errors discovered or seed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1C85-D889-42DF-A5A7-833C344A2D1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cating Defe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985680" y="2330280"/>
            <a:ext cx="11006280" cy="658044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832440" y="8648640"/>
            <a:ext cx="5080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classes to examine (of 16)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-457200" y="4774680"/>
            <a:ext cx="2768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% of failing tes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"/>
          <p:cNvSpPr/>
          <p:nvPr/>
        </p:nvSpPr>
        <p:spPr>
          <a:xfrm>
            <a:off x="7493040" y="6184800"/>
            <a:ext cx="4216320" cy="1308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  <a:ea typeface="Gill Sans"/>
              </a:rPr>
              <a:t>on average 0.5 classes less than window size 1</a:t>
            </a:r>
            <a:endParaRPr b="0" lang="en-US" sz="3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"/>
          <p:cNvSpPr/>
          <p:nvPr/>
        </p:nvSpPr>
        <p:spPr>
          <a:xfrm rot="16200000">
            <a:off x="8388360" y="4641840"/>
            <a:ext cx="82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82677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Gill Sans"/>
                <a:ea typeface="Gill Sans"/>
              </a:rPr>
              <a:t>Results obtained from NanoXML; can not be generaliz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"/>
          <p:cNvSpPr/>
          <p:nvPr/>
        </p:nvSpPr>
        <p:spPr>
          <a:xfrm>
            <a:off x="4919760" y="2959200"/>
            <a:ext cx="421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Dallmeier et al. (ECOOP 2005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2999-D447-4F74-9355-37CDBFA83A4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2600" y="-38160"/>
            <a:ext cx="13005000" cy="982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0C8-27BA-4DDA-8BE8-6FB25709596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paring coverage (or other features) shows anomalies correlated with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arest neighbor or sequences locate errors more precisely than just covera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ow overhead + simple to realiz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8779-D026-415B-85F8-A38CA03A1E9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BFB-E2C1-43F9-80C8-4E5FC81EBFAF}" type="slidenum">
              <a:t>45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at’s normal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neral idea: Us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duc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– reasoning from the particular to the gener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art with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multitud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termin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operti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t are common across all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FEA6-AD8D-4F33-A378-4DC75352E6FD}" type="slidenum">
              <a:t>5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at’s abnormal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ppose we determine common properties of all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assing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run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w we examine a run which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tes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difference in properti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orrelates with failure –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d is likely to hint at failure cau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4D71-12E7-44D4-9523-19696E847D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tecting Anomal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2592720" cy="3954960"/>
            <a:chOff x="0" y="0"/>
            <a:chExt cx="2592720" cy="3954960"/>
          </a:xfrm>
        </p:grpSpPr>
        <p:pic>
          <p:nvPicPr>
            <p:cNvPr id="4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83" name=""/>
            <p:cNvSpPr/>
            <p:nvPr/>
          </p:nvSpPr>
          <p:spPr>
            <a:xfrm>
              <a:off x="1601280" y="33145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0" y="0"/>
            <a:ext cx="10162080" cy="5072760"/>
            <a:chOff x="0" y="0"/>
            <a:chExt cx="10162080" cy="5072760"/>
          </a:xfrm>
        </p:grpSpPr>
        <p:pic>
          <p:nvPicPr>
            <p:cNvPr id="48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86" name=""/>
            <p:cNvSpPr/>
            <p:nvPr/>
          </p:nvSpPr>
          <p:spPr>
            <a:xfrm>
              <a:off x="91706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0" y="0"/>
            <a:ext cx="3227760" cy="4234320"/>
            <a:chOff x="0" y="0"/>
            <a:chExt cx="3227760" cy="4234320"/>
          </a:xfrm>
        </p:grpSpPr>
        <p:pic>
          <p:nvPicPr>
            <p:cNvPr id="488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89" name=""/>
            <p:cNvSpPr/>
            <p:nvPr/>
          </p:nvSpPr>
          <p:spPr>
            <a:xfrm>
              <a:off x="2236320" y="359388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0" y="0"/>
            <a:ext cx="3862800" cy="4514040"/>
            <a:chOff x="0" y="0"/>
            <a:chExt cx="3862800" cy="4514040"/>
          </a:xfrm>
        </p:grpSpPr>
        <p:pic>
          <p:nvPicPr>
            <p:cNvPr id="491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92" name=""/>
            <p:cNvSpPr/>
            <p:nvPr/>
          </p:nvSpPr>
          <p:spPr>
            <a:xfrm>
              <a:off x="2871360" y="387360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0" y="0"/>
            <a:ext cx="4497840" cy="4793400"/>
            <a:chOff x="0" y="0"/>
            <a:chExt cx="4497840" cy="4793400"/>
          </a:xfrm>
        </p:grpSpPr>
        <p:pic>
          <p:nvPicPr>
            <p:cNvPr id="494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95" name=""/>
            <p:cNvSpPr/>
            <p:nvPr/>
          </p:nvSpPr>
          <p:spPr>
            <a:xfrm>
              <a:off x="3506400" y="415296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0" y="0"/>
            <a:ext cx="5132880" cy="5072760"/>
            <a:chOff x="0" y="0"/>
            <a:chExt cx="5132880" cy="5072760"/>
          </a:xfrm>
        </p:grpSpPr>
        <p:pic>
          <p:nvPicPr>
            <p:cNvPr id="497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866960" cy="1400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98" name=""/>
            <p:cNvSpPr/>
            <p:nvPr/>
          </p:nvSpPr>
          <p:spPr>
            <a:xfrm>
              <a:off x="4141440" y="4432320"/>
              <a:ext cx="991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95828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8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10090800" y="4876920"/>
            <a:ext cx="511200" cy="7315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 flipH="1" rot="10800000">
            <a:off x="1066680" y="5715000"/>
            <a:ext cx="4546800" cy="5968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 flipH="1" rot="10800000">
            <a:off x="7390440" y="5715000"/>
            <a:ext cx="4546440" cy="59688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2058120" y="6388200"/>
            <a:ext cx="260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per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8357400" y="6388200"/>
            <a:ext cx="260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Proper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5092560" y="6121440"/>
            <a:ext cx="2819520" cy="1270080"/>
          </a:xfrm>
          <a:prstGeom prst="leftRightArrow">
            <a:avLst>
              <a:gd name="adj1" fmla="val 30481"/>
              <a:gd name="adj2" fmla="val 48798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2394000" y="7658280"/>
            <a:ext cx="820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fferences correlate with fail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B675-84C8-4F72-951B-D9C1A9837A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pert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88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Data propertie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at hold in all ru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t f(), x is odd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Lucida Grande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Lucida Grande"/>
              </a:rPr>
              <a:t>0 ≤ x ≤ 10 during the run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887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ode propertie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at hold in all run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() is always executed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fter open(), we eventually have close()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1257480" y="2768760"/>
            <a:ext cx="9880560" cy="2895480"/>
          </a:xfrm>
          <a:prstGeom prst="rect">
            <a:avLst/>
          </a:prstGeom>
          <a:gradFill rotWithShape="0">
            <a:gsLst>
              <a:gs pos="0">
                <a:srgbClr val="0f0d0f">
                  <a:alpha val="80392"/>
                </a:srgbClr>
              </a:gs>
              <a:gs pos="100000">
                <a:srgbClr val="2a2835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E92A-F22E-433E-A6C6-DCAAC030AFF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paring Coverag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288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ry failure is caused by an infection, which in turn is caused by a 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9288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defect must b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xecut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start the infe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9288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76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de that is executed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 failing runs onl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thus likely to cause the 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556C-B5C9-4310-9494-0D6CDC943D0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