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8.pct" ContentType="image/x-pict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veloped by Gary Leavens et al, now a cooperative effort of dozens of researcher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B107E-48A0-4CE2-81F4-192DACEAD9A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FBE49-0E91-4B26-8AFD-7A04F7E2D67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52C48-42AF-4344-A9E6-C47F15A68FC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BD487-13ED-4E09-9FCA-7028DA6E35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5F5A6-0FF4-4914-9301-65AC0F9A28A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A32C4-0AC2-41AB-96D9-BC15A7C1484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7F946-0E59-4E3D-9D7C-3A012072AA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A8FEE-9A6E-4078-9835-A489AD1E0C1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EB02B-288F-45EF-84CC-2592F368B93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443C-8A72-446F-B429-52EC35AD0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EDE6-A593-4845-AAB2-D4D583BA2C3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6302-0C66-4B6B-9A55-E6A22E4DF0A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69F0-4445-4BBE-B1F0-FFD7662422D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473A-3CFF-41D6-943D-F38276B462C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2A3F-1F4C-4F07-AACE-6CE489064D0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A9C2-3EB8-4DBC-8B90-E7EA9229130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A08A-5BEB-4D48-BBE0-F6C72B0828A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67D9-649F-4881-8D1E-2EC3275C106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4FD8A-0777-488A-ABE2-C0440E724FF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00A8-DD86-4564-B584-4FAE816D8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5766-98ED-4B4E-B12C-C45A2A3BC66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1D7ED9-3A3B-4C22-AC6D-8CE31230D96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2B3FE-8EC7-4981-91C0-A75B9146967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1E5E4-A9D5-4741-A616-F90995B557A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462A6-CA51-4206-BBD7-8E6D1F3E5A9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9B931-DB0B-450A-96F5-82EFADACA8B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067CAE-6FC5-4E90-ACDA-75C413B42D3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0EA14D-D5EA-4AB7-8B67-D33CD4F9B06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FFAFC8-DA20-4230-874F-8947115052F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36C63-4989-436A-AC59-52A4B8130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C7F9-179A-429D-A753-48021E4EC45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75206-FAE8-4E2F-9E9F-1036D72FB97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CCC5A-E0D4-4A86-A0C2-C4A168A947E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0B3092-C89F-4B8A-A80B-24176D1464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0B33-AB79-42B0-A913-F5BEB7E617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B8D2-2691-4B1A-A520-11B54C316C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60DA-6BEF-425C-8F0A-10A06FBD9A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5865-0ACF-4615-8CA0-301C5A10AD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D8F6-DC9A-4FA9-AE48-9012774E84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C17B-83C8-4962-87F1-E2D3B1C53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B190-A92E-4C80-B276-59C0DBDC38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9488-E50A-42A6-9C45-37F22F659E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E071-70FE-426C-A00F-940B97296C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0148-813E-46FC-AAC7-88E61D10A6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982B-90A7-43CC-859D-F08232717C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A472-A646-45C3-853C-ECAA9B0664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582F-50B3-44BB-81B9-E79A1D628D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7C76-410A-4C30-B5CE-50C12D116E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3D10-4201-41B9-86DB-AEDE194608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3067-10FA-4871-B75A-56EA6C068D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0BA2-7BF4-49AA-B56A-66F7462BDA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5EB1-E49B-4E25-9292-BFF370D7E6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8809-48EF-4EF8-B85B-0C276E2661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5975-E299-4316-86BF-FF4D7D15D8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F6571-7481-46B3-AE66-9508FA03DF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845D-43C2-4D6D-8A13-CCCB4EC471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A5C2-B070-436D-9174-3B91CEB4B3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5C0-C4B1-4170-9278-740750E489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25D-F75A-4A25-A111-469A4CE9C5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CE2-823B-4578-B04A-641AA95CF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086-9B03-4353-B4A4-8AA6AC0365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034-AD30-4217-B54B-84D21527DA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6D8-F71D-45BC-B2AC-51A33697A9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750-BB2F-40FA-A4FB-31869DB53E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63E-89E5-4CF7-850E-587823D734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796-4D50-4616-9F75-11881242EF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4C1-5386-46A6-B394-ECF28B1410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985-0BDC-45E2-BE82-68E3BEE258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6CB-52F9-4E6A-9A73-5DCC3D0874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58315-AA91-48E9-B642-3805D9F59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E7E31-DA92-4BAB-BAE5-752BD7F981A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884A7-4C52-4C94-B524-0410AE6BD2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845CF-48F2-4CC3-8803-66E131D1BD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6E7C8-01C0-406F-91A2-0D3864E97F2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02BAE-F934-4793-BDED-2F62CE8197C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EB89E-ACBF-4828-8504-317FA3E279C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0B42C-6E3A-4092-8691-19252356C4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8313A-E57E-494D-A2A1-14C8B799B79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2F5BF-6CB0-4076-B61C-6CBEAAB021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81084-DF22-4F42-9F0A-C1C628A57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B8CF4-626E-4F7F-A8D1-FCF7A4BA8D3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F5CD3-5ED4-442B-9130-F4BAEE4D3E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68F9-F3D2-43D6-B2A9-267E0F53F3C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414D8-4878-429F-BAC8-AE62DE52AE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3BFE6-F062-4537-9CB3-F8B269A9DD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F6E9C-3BBB-4044-86E1-2033969426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1C85C-D407-4961-99D9-ABCF29252F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05C56-9C69-4D47-8C63-460FDA8F15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29DEC-FF91-460E-8370-D929797048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E2701-B216-47E2-BEA4-D923A1C78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77ED2-5090-4716-890F-4759C5FE832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77F10-A5F7-47ED-BE13-2AE66731DE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74EBE-B15E-4097-AF21-F3EF8016365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DB49-460D-4D56-B491-E83DDDFE1A7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4FEA-A417-4C3B-8E26-69734B1D748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AEC2-008F-4D61-B903-8EACC176AEE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BC6A-550F-44EA-9C0E-61289B483E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426A-68D8-44ED-89A5-8AC671C0AAE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7689-D0DA-4688-BE75-3B1CC526365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806E-92AC-4142-BB0B-4CBF26E40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B276-68AC-4952-8C44-39DB9FC4FA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E7F8-EE6C-46B0-AB08-00BE2DF686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2EEC-1B90-432F-BA6C-F3D077905F3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8C1F-A481-44E9-AA26-4B2C875271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7FB4-F7BE-4613-8997-022FA4428A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DD528-5580-4E6A-B6AC-F4B7B9CDA26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446A81-232B-45DE-9476-161817D0553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C25AB1-9D75-4F76-A456-F02DBCC2466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60CD86-E977-427B-A1E0-275CFBC791C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1F068-3DE7-4CC1-9865-CEA27B293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B50BE-19DE-4120-A277-A78544EC1A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8D82E-77B0-46C4-BCA8-4C717C07095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700FDC-6422-4D04-B9E9-2315674629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63A5B-0808-4F63-991A-7D5EE2C9A92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93825A-6E84-439B-B43B-551B003320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F7463-781F-4292-BFB5-405CCE2E828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6167F-F8F4-41AB-A16E-BD1B5D34A24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A3A1A-DF8D-4B14-95F1-B6BDB7DBC4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0BA17-E7C9-4CDD-BF44-EF153D30A5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32E5E-80E6-4B0C-A414-1EA12ED0E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D498-EAEB-4716-9D04-448A664A38B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9598-F73E-4D93-8D19-F7A1E83A2C14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261A-4E75-41F5-B320-5DFD33463817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C609-83A5-48D0-9070-40D9E67C857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2984-947B-46F8-A73B-089D0EB6713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6967-E9C0-4AC8-A6B1-F813DCDDBC31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0A62-7FDC-4CCC-8FE5-2F0E4A05F43C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6BB8-EB69-4633-8CEF-6A0CD386C05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10BA-7D40-4516-8D6C-0B1073DDD708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9AA8-AB82-4DE1-A802-7DB7CD360CE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sserting Expecta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8839080" y="5372280"/>
            <a:ext cx="5789880" cy="57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etter Diagnostic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3" name=""/>
          <p:cNvSpPr/>
          <p:nvPr/>
        </p:nvSpPr>
        <p:spPr>
          <a:xfrm>
            <a:off x="993600" y="3035160"/>
            <a:ext cx="1102392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 my-progr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66"/>
                </a:solidFill>
                <a:latin typeface="Monaco"/>
                <a:ea typeface="Monaco"/>
              </a:rPr>
              <a:t>divide.c:37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66"/>
                </a:solidFill>
                <a:latin typeface="Monaco"/>
                <a:ea typeface="Monaco"/>
              </a:rPr>
              <a:t>   </a:t>
            </a:r>
            <a:r>
              <a:rPr b="0" lang="en-US" sz="4200" spc="-1" strike="noStrike">
                <a:solidFill>
                  <a:srgbClr val="ff6666"/>
                </a:solidFill>
                <a:latin typeface="Monaco"/>
                <a:ea typeface="Monaco"/>
              </a:rPr>
              <a:t>assertion ‘divisor != 0’ fail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66"/>
                </a:solidFill>
                <a:latin typeface="Monaco"/>
                <a:ea typeface="Monaco"/>
              </a:rPr>
              <a:t>Abort (core dumped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 _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94D-E6EE-47A1-8428-53BCA8AA2A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ssertions as Macro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5" name=""/>
          <p:cNvSpPr/>
          <p:nvPr/>
        </p:nvSpPr>
        <p:spPr>
          <a:xfrm>
            <a:off x="993600" y="3708360"/>
            <a:ext cx="110239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#ifndef NDEBU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#define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assert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ex) \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(ex) ? 1 : (cerr &lt;&lt; __FILE__ &lt;&lt; ":" &lt;&lt; __LINE__ \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&lt;&lt; ": assertion ‘" #ex "’ failed\n", \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bort(), 0)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#el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#define assert(x) ((void) 0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#endif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B12-20B3-463C-A7BD-646D9CA2F2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11988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utomated Observ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359000" y="3454560"/>
          <a:ext cx="10273680" cy="2171520"/>
        </p:xfrm>
        <a:graphic>
          <a:graphicData uri="http://schemas.openxmlformats.org/drawingml/2006/table">
            <a:tbl>
              <a:tblPr/>
              <a:tblGrid>
                <a:gridCol w="3424680"/>
                <a:gridCol w="3424680"/>
                <a:gridCol w="3424320"/>
              </a:tblGrid>
              <a:tr h="21715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what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o obser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when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o obser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what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o expec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1359000" y="5626080"/>
          <a:ext cx="10273680" cy="2171880"/>
        </p:xfrm>
        <a:graphic>
          <a:graphicData uri="http://schemas.openxmlformats.org/drawingml/2006/table">
            <a:tbl>
              <a:tblPr/>
              <a:tblGrid>
                <a:gridCol w="3424680"/>
                <a:gridCol w="3424680"/>
                <a:gridCol w="3424320"/>
              </a:tblGrid>
              <a:tr h="21718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tate checked in asser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location of asser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hecked property of program st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4219-CE70-4B38-9A61-BD7B58D57B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en to observ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ata invaria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e- and postcondi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AA7AA-A73F-439C-8419-3B654D0588B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sserting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538D5-7703-45B6-B775-AA13E8EB1FE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Time Clas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3" name=""/>
          <p:cNvSpPr/>
          <p:nvPr/>
        </p:nvSpPr>
        <p:spPr>
          <a:xfrm>
            <a:off x="993600" y="2717640"/>
            <a:ext cx="1102392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class Time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public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hour();     // 0..23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minutes();  // 0..59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seconds();  // 0..60 (incl. leap second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void set_hour(int h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1212120" y="7607160"/>
            <a:ext cx="10578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ny time from 00:00:00 to 23:59:60 is vali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94B-436C-49B7-9E24-B89A4C65A5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nsuring Sanit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6" name=""/>
          <p:cNvSpPr/>
          <p:nvPr/>
        </p:nvSpPr>
        <p:spPr>
          <a:xfrm>
            <a:off x="993600" y="2768760"/>
            <a:ext cx="110239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void Time::set_hour(int h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/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precond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0 &lt;= hour() &amp;&amp; hour() &lt;= 23)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0 &lt;= minutes() &amp;&amp; minutes() &lt;= 59)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0 &lt;= seconds() &amp;&amp; seconds() &lt;= 60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/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postcond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0 &lt;= hour() &amp;&amp; hour() &lt;= 23)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0 &lt;= minutes() &amp;&amp; minutes() &lt;= 59)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0 &lt;= seconds() &amp;&amp; seconds() &lt;= 60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491-F2BE-4FE5-965B-9E0CF35DC4F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nsuring Sanit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8" name=""/>
          <p:cNvSpPr/>
          <p:nvPr/>
        </p:nvSpPr>
        <p:spPr>
          <a:xfrm>
            <a:off x="993600" y="5803920"/>
            <a:ext cx="110239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void Time::set_hour(int h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sane()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);  // precond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sane()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);  // postcond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993600" y="2565360"/>
            <a:ext cx="110239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ool Time::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sane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(0 &lt;= hour() &amp;&amp; hour() &lt;= 23)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0 &lt;= minutes() &amp;&amp; minutes() &lt;= 59)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0 &lt;= seconds() &amp;&amp; seconds() &lt;= 60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FFD-5323-4F67-A17C-46DE92BEDD10}" type="slidenum">
              <a:t>17</a:t>
            </a:fld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nsuring Sanit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1" name=""/>
          <p:cNvSpPr/>
          <p:nvPr/>
        </p:nvSpPr>
        <p:spPr>
          <a:xfrm>
            <a:off x="993600" y="2565360"/>
            <a:ext cx="110239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ool Time::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sane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(0 &lt;= hour() &amp;&amp; hour() &lt;= 23)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0 &lt;= minutes() &amp;&amp; minutes() &lt;= 59)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0 &lt;= seconds() &amp;&amp; seconds() &lt;= 60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5447880"/>
            <a:ext cx="10464840" cy="370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ane() is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varian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a Time object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ld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befor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every public metho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ld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ft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every public metho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255C-28FB-4277-AF7F-7BEED59D985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nsuring Sanit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4" name=""/>
          <p:cNvSpPr/>
          <p:nvPr/>
        </p:nvSpPr>
        <p:spPr>
          <a:xfrm>
            <a:off x="993600" y="5803920"/>
            <a:ext cx="110239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void Time::set_hour(int h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sane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sane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993600" y="2565360"/>
            <a:ext cx="110239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ool Time::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sane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(0 &lt;= hour() &amp;&amp; hour() &lt;= 23)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0 &lt;= minutes() &amp;&amp; minutes() &lt;= 59)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0 &lt;= seconds() &amp;&amp; seconds() &lt;= 60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6827760" y="6578640"/>
            <a:ext cx="50277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ame for set_minute(),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et_seconds(), etc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B74-4D86-4687-BB2D-19905E2D405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6328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uring execution, the state becomes </a:t>
            </a:r>
            <a:r>
              <a:rPr b="0" lang="en-US" sz="4200" spc="-1" strike="noStrike">
                <a:solidFill>
                  <a:srgbClr val="ff0000"/>
                </a:solidFill>
                <a:latin typeface="Gill Sans"/>
              </a:rPr>
              <a:t>infect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asic idea: Observe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ransi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rom </a:t>
            </a:r>
            <a:r>
              <a:rPr b="0" lang="en-US" sz="4200" spc="-1" strike="noStrike">
                <a:solidFill>
                  <a:srgbClr val="56db5b"/>
                </a:solidFill>
                <a:latin typeface="Gill Sans"/>
              </a:rPr>
              <a:t>san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</a:t>
            </a:r>
            <a:r>
              <a:rPr b="0" lang="en-US" sz="4200" spc="-1" strike="noStrike">
                <a:solidFill>
                  <a:srgbClr val="ff0000"/>
                </a:solidFill>
                <a:latin typeface="Gill Sans"/>
              </a:rPr>
              <a:t>infect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6172200" y="2387520"/>
            <a:ext cx="5967360" cy="552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C26B-F37C-4D94-BDFA-2211A13AA19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cating Infec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8" name=""/>
          <p:cNvSpPr/>
          <p:nvPr/>
        </p:nvSpPr>
        <p:spPr>
          <a:xfrm>
            <a:off x="993600" y="5803920"/>
            <a:ext cx="110239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void Time::set_hour(int h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sane());  // precond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sane());  // postcond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11023560" cy="284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29360" indent="-4626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econdition failure = infectio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befor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metho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29360" indent="-4626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stcondition failure = infection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 within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etho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29360" indent="-4626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assertions pass = no infe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2CCD-3238-4086-BA50-987CABB3E63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plex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1" name=""/>
          <p:cNvSpPr/>
          <p:nvPr/>
        </p:nvSpPr>
        <p:spPr>
          <a:xfrm>
            <a:off x="993600" y="2768760"/>
            <a:ext cx="11023920" cy="61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class RedBlackTree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oolean sane(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rootHasNoParent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rootIsBlack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redNodesHaveOnlyBlackChildren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equalNumberOfBlackNodesOnSubtrees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treeIsAcyclic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parentsAreConsistent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true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1F7-4F51-4D77-8728-9452AA991DE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nvariants as Aspec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3" name=""/>
          <p:cNvSpPr/>
          <p:nvPr/>
        </p:nvSpPr>
        <p:spPr>
          <a:xfrm>
            <a:off x="993600" y="2768760"/>
            <a:ext cx="11023920" cy="61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public aspect RedBlackTreeSanity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pointcut modify():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call(void RedBlackTree.add*(..)) ||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call(void RedBlackTree.del*(..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efore(): modify(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sane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fter(): modify(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sane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83B-06C3-4223-85ED-79305B59389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nvariants in GDB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5" name=""/>
          <p:cNvSpPr/>
          <p:nvPr/>
        </p:nvSpPr>
        <p:spPr>
          <a:xfrm>
            <a:off x="1577880" y="4876920"/>
            <a:ext cx="98553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gdb)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break 'Time::set_hour(int)' if !sane(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reakpoint 3 at 0x2dcf: file Time.C, line 45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gdb) _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D52-2365-432D-8EF2-C2D9C399AB0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02960" y="2971440"/>
            <a:ext cx="10985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sserting Correctnes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F9FCD-EFF2-4FCE-9D25-E13A6E9CED4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ostcondi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8" name=""/>
          <p:cNvSpPr/>
          <p:nvPr/>
        </p:nvSpPr>
        <p:spPr>
          <a:xfrm>
            <a:off x="727200" y="3898800"/>
            <a:ext cx="1154412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def divide(dividend, divisor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# Actual computation goe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assert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quotient * divisor + remainder == dividen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(quotient, remainder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A16-84B7-445B-B2AC-94130102F01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ostcondi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0" name=""/>
          <p:cNvSpPr/>
          <p:nvPr/>
        </p:nvSpPr>
        <p:spPr>
          <a:xfrm>
            <a:off x="727200" y="3898800"/>
            <a:ext cx="115441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void Time::set_hour(int h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/ Actual code goe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assert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(hour() == h);   // postcond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FF7-8C9A-440C-9282-43499F4F10E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ostcondi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2" name=""/>
          <p:cNvSpPr/>
          <p:nvPr/>
        </p:nvSpPr>
        <p:spPr>
          <a:xfrm>
            <a:off x="727200" y="3898800"/>
            <a:ext cx="115441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void Sequence::sort(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/ Actual code goe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assert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(is_sorted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>
            <a:off x="6103440" y="7709040"/>
            <a:ext cx="383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helper fun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3860640" y="6337440"/>
            <a:ext cx="2337120" cy="161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7E2-1305-48EC-8122-A9E93DFC043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ostcondi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6" name=""/>
          <p:cNvSpPr/>
          <p:nvPr/>
        </p:nvSpPr>
        <p:spPr>
          <a:xfrm>
            <a:off x="727200" y="3898800"/>
            <a:ext cx="115441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void Container::insert(Item x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/ Actual code goe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assert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(has(x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4102200" y="7658280"/>
            <a:ext cx="89024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 helper function that is also a useful public metho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3860640" y="6337440"/>
            <a:ext cx="3962520" cy="143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E39-B073-4399-9E81-BEF8438274E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ostcondi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0" name=""/>
          <p:cNvSpPr/>
          <p:nvPr/>
        </p:nvSpPr>
        <p:spPr>
          <a:xfrm>
            <a:off x="727200" y="2717640"/>
            <a:ext cx="1154412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void Heap::merge(Heap another_heap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sane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another_heap.sane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/ Actual code goe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sane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2679840" y="7810560"/>
            <a:ext cx="89024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variant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are always part of pre- and postcondi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4140360" y="6527880"/>
            <a:ext cx="2514600" cy="1396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3B6-2972-4226-BCD8-ADDFCD63074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nual Observ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2120760" y="2495520"/>
            <a:ext cx="8763120" cy="625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6BF3-C986-4718-9B08-DC4F36632AC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hecking Earlier Stat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4" name=""/>
          <p:cNvSpPr/>
          <p:nvPr/>
        </p:nvSpPr>
        <p:spPr>
          <a:xfrm>
            <a:off x="727200" y="2527200"/>
            <a:ext cx="1154412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void Time::set_hour(int h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old_minutes = minutes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old_seconds = seconds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sane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/ Actual code goe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sane(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hour() == h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(minutes() == old_minutes &amp;&amp;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econds() == old_seconds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903-31C2-464F-807D-8B3ED5EA33A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trac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6" name=""/>
          <p:cNvSpPr/>
          <p:nvPr/>
        </p:nvSpPr>
        <p:spPr>
          <a:xfrm>
            <a:off x="727200" y="2959200"/>
            <a:ext cx="115441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et_hour (h: INTEGER) i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-- Set the hour from `h'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requi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ane_h: 0 &lt;= h and h &lt;= 23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ensu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hour_set: hour = 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minute_unchanged: minutes = old minut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econd_unchanged: seconds = old second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1238040" y="7835760"/>
            <a:ext cx="1051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ntract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pecifies interface proper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CFF-E3EA-4EEE-A54E-6ADFC601677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Z Invarian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9" name=""/>
          <p:cNvSpPr/>
          <p:nvPr/>
        </p:nvSpPr>
        <p:spPr>
          <a:xfrm>
            <a:off x="1092240" y="3225960"/>
            <a:ext cx="10833120" cy="5676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1511280" y="3606840"/>
            <a:ext cx="996948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726-5EAF-4A0B-9387-5FE3D5CD959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Z Condi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2" name=""/>
          <p:cNvSpPr/>
          <p:nvPr/>
        </p:nvSpPr>
        <p:spPr>
          <a:xfrm>
            <a:off x="1092240" y="3225960"/>
            <a:ext cx="10833120" cy="5676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3314880" y="3454560"/>
            <a:ext cx="6375240" cy="522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DC1-2B08-4F3E-8786-390EF8125D4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pec vs Co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660240" y="27050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7035840" y="2705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076040" y="7734240"/>
            <a:ext cx="4871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tegrated spe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imited to langua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7227360" y="7734240"/>
            <a:ext cx="53211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eparate spe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an express anyth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299-870E-489B-8D90-9A76DF49A16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JML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0" name=""/>
          <p:cNvSpPr/>
          <p:nvPr/>
        </p:nvSpPr>
        <p:spPr>
          <a:xfrm>
            <a:off x="739800" y="3429000"/>
            <a:ext cx="11544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*@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requires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0 &lt;= h &amp;&amp; h &lt;= 23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ensures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hours() == h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         minutes() == \old(minutes()) &amp;&amp;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         seconds() == \old(seconds()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*/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void Time::set_hour(int h) 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2094480" y="7835760"/>
            <a:ext cx="8804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ranslated into run-time asser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1CE-6446-46F4-8781-290ECE73047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JML as Spec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3" name=""/>
          <p:cNvSpPr/>
          <p:nvPr/>
        </p:nvSpPr>
        <p:spPr>
          <a:xfrm>
            <a:off x="727200" y="3657600"/>
            <a:ext cx="1154412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*@ requires x &gt;= 0.0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ensures JMLDouble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        .approximatelyEqualTo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        (x, \result * \result, eps);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*/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3587040" y="7835760"/>
            <a:ext cx="5819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hat does this specif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799-33BF-494E-AA71-F21F63AD65F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-33480" y="380880"/>
            <a:ext cx="13079520" cy="85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public class Purse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final int MAX_BALANCE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balance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/@ invariant  0 &lt;= balance &amp;&amp; balance &lt;= MAX_BALANCE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yte[] pin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*@ invariant pin != null &amp;&amp; pin.length == 4 &amp;&am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          (\forall int i; 0 &lt;= i &amp;&amp; i &lt; 4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                       0 &lt;= byte[i] &amp;&amp; byte[i] &lt;= 9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*/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/*@ requires   amount &gt;= 0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assignable balance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ensures    balance == \old(balance) - amount &amp;&amp;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           \result == balance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 signals    (PurseException) balance == \old(balance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@*/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debit(int amount) throws PurseException { … 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8D42A-EC13-442D-BCF3-B670C73792A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re use of JML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cument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it testing with JMLUn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variant generation with DAIK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tic checking with ESC/Jav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erification with theorem prov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E9EC-3912-4518-A248-E5248A46C84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lative 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ather than checking a spec, we can also compare against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ference ru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environment has changed–e.g. ports or new interpret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code has chang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rogram has been reimplemen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8B0C-15B9-4B3B-8389-4BC6D505C47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11988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utomated Observ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930320" y="219852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6C2-6AEB-4B7C-BB03-073BF52F857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lative Asser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compare two program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lative asser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compares variable values across the two run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774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51596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assert \ p1::perimeter@polygon.java:65 == \ p0::perimeter@polygon.java:65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pecifies when and what to compa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9394-B063-42F9-8729-FF6FCF62118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GUARD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E49B-0203-40F5-83F2-34E966499064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33D1-DAA0-4D14-8845-8EECB7FECCC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823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1134000" indent="-822960">
              <a:lnSpc>
                <a:spcPct val="100000"/>
              </a:lnSpc>
              <a:spcBef>
                <a:spcPts val="2599"/>
              </a:spcBef>
              <a:buSzPct val="159437"/>
              <a:buBlip>
                <a:blip r:embed="rId2"/>
              </a:buBlip>
              <a:tabLst>
                <a:tab algn="l" pos="18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sertions catch infections before they propagate too fa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1134000" indent="-822960">
              <a:lnSpc>
                <a:spcPct val="100000"/>
              </a:lnSpc>
              <a:spcBef>
                <a:spcPts val="2599"/>
              </a:spcBef>
              <a:buSzPct val="159437"/>
              <a:buBlip>
                <a:blip r:embed="rId3"/>
              </a:buBlip>
              <a:tabLst>
                <a:tab algn="l" pos="18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sertions check preconditions, postconditions and invaria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1134000" indent="-822960">
              <a:lnSpc>
                <a:spcPct val="100000"/>
              </a:lnSpc>
              <a:spcBef>
                <a:spcPts val="2599"/>
              </a:spcBef>
              <a:buSzPct val="159437"/>
              <a:buBlip>
                <a:blip r:embed="rId4"/>
              </a:buBlip>
              <a:tabLst>
                <a:tab algn="l" pos="18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sertions can serve as specific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1134000" indent="-822960">
              <a:lnSpc>
                <a:spcPct val="100000"/>
              </a:lnSpc>
              <a:spcBef>
                <a:spcPts val="2599"/>
              </a:spcBef>
              <a:buSzPct val="159437"/>
              <a:buBlip>
                <a:blip r:embed="rId5"/>
              </a:buBlip>
              <a:tabLst>
                <a:tab algn="l" pos="18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program can serve as reference to be compared again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CD41-33C3-4B69-8ABF-CF0AB470A57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343C4-5758-42B5-A911-21005BE6AC66}" type="slidenum">
              <a:t>43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11988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utomated Observ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359000" y="3949560"/>
          <a:ext cx="10273680" cy="3352680"/>
        </p:xfrm>
        <a:graphic>
          <a:graphicData uri="http://schemas.openxmlformats.org/drawingml/2006/table">
            <a:tbl>
              <a:tblPr/>
              <a:tblGrid>
                <a:gridCol w="3424680"/>
                <a:gridCol w="3424680"/>
                <a:gridCol w="3424320"/>
              </a:tblGrid>
              <a:tr h="33526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what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o obser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when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o obser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what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o expec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4E16-BE4D-4434-A306-75A590621D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asic Asser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5" name=""/>
          <p:cNvSpPr/>
          <p:nvPr/>
        </p:nvSpPr>
        <p:spPr>
          <a:xfrm>
            <a:off x="2981160" y="4152960"/>
            <a:ext cx="69411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if (divisor == 0) {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printf("Division by zero!")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abort()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0BB-2759-4A63-AD34-54B2B5D75B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pecific Asser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7" name=""/>
          <p:cNvSpPr/>
          <p:nvPr/>
        </p:nvSpPr>
        <p:spPr>
          <a:xfrm>
            <a:off x="4087440" y="4483080"/>
            <a:ext cx="483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assert (divisor != 0)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117-AFE5-4FD2-A780-92DD169D72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mplement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9" name=""/>
          <p:cNvSpPr/>
          <p:nvPr/>
        </p:nvSpPr>
        <p:spPr>
          <a:xfrm>
            <a:off x="993600" y="2705040"/>
            <a:ext cx="11023920" cy="58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void </a:t>
            </a:r>
            <a:r>
              <a:rPr b="0" lang="en-US" sz="4200" spc="-1" strike="noStrike">
                <a:solidFill>
                  <a:srgbClr val="ffff00"/>
                </a:solidFill>
                <a:latin typeface="Monaco"/>
                <a:ea typeface="Monaco"/>
              </a:rPr>
              <a:t>assert</a:t>
            </a: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 (int x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if (!x)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{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printf("Assertion failed!\n")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abort()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43D-5729-4924-9C9C-1C9E939EE6E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xecu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1" name=""/>
          <p:cNvSpPr/>
          <p:nvPr/>
        </p:nvSpPr>
        <p:spPr>
          <a:xfrm>
            <a:off x="993600" y="4152960"/>
            <a:ext cx="1102392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 my-progr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66"/>
                </a:solidFill>
                <a:latin typeface="Monaco"/>
                <a:ea typeface="Monaco"/>
              </a:rPr>
              <a:t>Assertion failed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66"/>
                </a:solidFill>
                <a:latin typeface="Monaco"/>
                <a:ea typeface="Monaco"/>
              </a:rPr>
              <a:t>Abort (core dumped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D411-A809-47BE-B05D-C93BDDE905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